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6F9-1C82-499D-BCEF-41DD43C5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g delay is harmonic mean (arith mean: ours=.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g speedup is the arith mean of speed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C822-7781-4A3C-9441-20B95E69D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E12A-6FEA-497B-80DD-C453EF3CF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5CFB-9D2F-4FD8-BB5F-3DC67C2B9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D43D-E68B-4EEB-BE6E-79E091619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D2D8-BB71-438C-A239-DA3279C42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832A-3C4C-4AC5-94B4-9B6A2FF4A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1568-BF02-4EC7-8D14-182F0508E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F3D6-3311-4F41-8C68-F435A9FDC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4CF9-D881-43FB-9287-79514B297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926F-348C-4377-9754-B79986F34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AA7A-581F-40D2-A4C8-B1D94F8D1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82AE-2543-4CDB-B0C7-1E70E6C61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ded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1EA7-B5DF-4DCA-A875-BE4F5867A45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10800000">
            <a:off x="0" y="1066680"/>
            <a:ext cx="9144000" cy="46080"/>
          </a:xfrm>
          <a:prstGeom prst="rect">
            <a:avLst/>
          </a:prstGeom>
          <a:gradFill rotWithShape="0">
            <a:gsLst>
              <a:gs pos="0">
                <a:srgbClr val="c3c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 rot="10800000">
            <a:off x="2738160" y="6285600"/>
            <a:ext cx="6399000" cy="3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3f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8.png"/><Relationship Id="rId18" Type="http://schemas.openxmlformats.org/officeDocument/2006/relationships/image" Target="../media/image17.png"/><Relationship Id="rId19" Type="http://schemas.openxmlformats.org/officeDocument/2006/relationships/image" Target="../media/image22.png"/><Relationship Id="rId20" Type="http://schemas.openxmlformats.org/officeDocument/2006/relationships/image" Target="../media/image21.png"/><Relationship Id="rId2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7395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Fast Timing-driven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Partitioning-based Placement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for Island Style FPGAs</a:t>
            </a:r>
            <a:endParaRPr b="0" lang="en-US" sz="36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200" y="3695760"/>
            <a:ext cx="759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ngstorn Maidee, Cristinel Ababei,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Kia Baza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and Computer Engineering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innes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ongstor,ababei,kia}@ece.um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1454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4259160"/>
            <a:ext cx="1752480" cy="168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F32F-CD32-4A9A-89F9-4C7E908A6541}" type="slidenum">
              <a:t>1</a:t>
            </a:fld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2860560" y="2819520"/>
            <a:ext cx="594000" cy="579240"/>
            <a:chOff x="2860560" y="2819520"/>
            <a:chExt cx="594000" cy="579240"/>
          </a:xfrm>
        </p:grpSpPr>
        <p:sp>
          <p:nvSpPr>
            <p:cNvPr id="329" name=""/>
            <p:cNvSpPr/>
            <p:nvPr/>
          </p:nvSpPr>
          <p:spPr>
            <a:xfrm>
              <a:off x="2860560" y="2819520"/>
              <a:ext cx="594000" cy="579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49640" y="281952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74960" y="30988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47760" y="297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867040" y="3397320"/>
            <a:ext cx="593640" cy="579240"/>
            <a:chOff x="2867040" y="3397320"/>
            <a:chExt cx="593640" cy="579240"/>
          </a:xfrm>
        </p:grpSpPr>
        <p:sp>
          <p:nvSpPr>
            <p:cNvPr id="334" name=""/>
            <p:cNvSpPr/>
            <p:nvPr/>
          </p:nvSpPr>
          <p:spPr>
            <a:xfrm>
              <a:off x="2867040" y="3397320"/>
              <a:ext cx="593640" cy="579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56120" y="339732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81440" y="36766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3880" y="35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867040" y="3989520"/>
            <a:ext cx="593640" cy="579240"/>
            <a:chOff x="2867040" y="3989520"/>
            <a:chExt cx="593640" cy="579240"/>
          </a:xfrm>
        </p:grpSpPr>
        <p:sp>
          <p:nvSpPr>
            <p:cNvPr id="339" name=""/>
            <p:cNvSpPr/>
            <p:nvPr/>
          </p:nvSpPr>
          <p:spPr>
            <a:xfrm>
              <a:off x="2867040" y="3989520"/>
              <a:ext cx="593640" cy="579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56120" y="398952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81440" y="42688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53880" y="414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70280" y="4565520"/>
            <a:ext cx="593640" cy="579600"/>
            <a:chOff x="2870280" y="4565520"/>
            <a:chExt cx="593640" cy="579600"/>
          </a:xfrm>
        </p:grpSpPr>
        <p:sp>
          <p:nvSpPr>
            <p:cNvPr id="344" name=""/>
            <p:cNvSpPr/>
            <p:nvPr/>
          </p:nvSpPr>
          <p:spPr>
            <a:xfrm>
              <a:off x="2870280" y="4565520"/>
              <a:ext cx="593640" cy="579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59000" y="4565520"/>
              <a:ext cx="0" cy="5796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84320" y="48448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57120" y="4718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448080" y="2819520"/>
            <a:ext cx="593640" cy="579240"/>
            <a:chOff x="3448080" y="2819520"/>
            <a:chExt cx="593640" cy="579240"/>
          </a:xfrm>
        </p:grpSpPr>
        <p:sp>
          <p:nvSpPr>
            <p:cNvPr id="349" name=""/>
            <p:cNvSpPr/>
            <p:nvPr/>
          </p:nvSpPr>
          <p:spPr>
            <a:xfrm>
              <a:off x="3448080" y="2819520"/>
              <a:ext cx="593640" cy="579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6800" y="281952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62480" y="30988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4920" y="297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454560" y="3397320"/>
            <a:ext cx="593640" cy="579240"/>
            <a:chOff x="3454560" y="3397320"/>
            <a:chExt cx="593640" cy="579240"/>
          </a:xfrm>
        </p:grpSpPr>
        <p:sp>
          <p:nvSpPr>
            <p:cNvPr id="354" name=""/>
            <p:cNvSpPr/>
            <p:nvPr/>
          </p:nvSpPr>
          <p:spPr>
            <a:xfrm>
              <a:off x="3454560" y="3397320"/>
              <a:ext cx="593640" cy="579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43280" y="339732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68600" y="36766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41400" y="35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454560" y="3989520"/>
            <a:ext cx="593640" cy="579240"/>
            <a:chOff x="3454560" y="3989520"/>
            <a:chExt cx="593640" cy="579240"/>
          </a:xfrm>
        </p:grpSpPr>
        <p:sp>
          <p:nvSpPr>
            <p:cNvPr id="359" name=""/>
            <p:cNvSpPr/>
            <p:nvPr/>
          </p:nvSpPr>
          <p:spPr>
            <a:xfrm>
              <a:off x="3454560" y="3989520"/>
              <a:ext cx="593640" cy="579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43280" y="398952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8600" y="426888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1400" y="414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artitioning Order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 by column, and left-to-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the best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14720" y="560088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83200" y="5688000"/>
            <a:ext cx="299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o be partitioned placement reg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70280" y="2819520"/>
            <a:ext cx="2403360" cy="232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87560" y="3397320"/>
            <a:ext cx="2362320" cy="14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8080" y="2819520"/>
            <a:ext cx="1440" cy="23144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87560" y="4549680"/>
            <a:ext cx="2467080" cy="180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60920" y="2811600"/>
            <a:ext cx="1440" cy="233352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14720" y="5302080"/>
            <a:ext cx="3078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85000" y="5373720"/>
            <a:ext cx="251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artitioned placement reg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852640" y="5424480"/>
            <a:ext cx="227160" cy="210960"/>
            <a:chOff x="2852640" y="5424480"/>
            <a:chExt cx="227160" cy="210960"/>
          </a:xfrm>
        </p:grpSpPr>
        <p:sp>
          <p:nvSpPr>
            <p:cNvPr id="375" name=""/>
            <p:cNvSpPr/>
            <p:nvPr/>
          </p:nvSpPr>
          <p:spPr>
            <a:xfrm>
              <a:off x="2852640" y="5424480"/>
              <a:ext cx="209520" cy="193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52640" y="542448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1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52640" y="5548320"/>
              <a:ext cx="1764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52640" y="5618160"/>
              <a:ext cx="6984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75040" y="5618160"/>
              <a:ext cx="1728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4880" y="5565600"/>
              <a:ext cx="3492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33"/>
                  </a:moveTo>
                  <a:lnTo>
                    <a:pt x="0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62160" y="5495760"/>
              <a:ext cx="17640" cy="1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09960" y="5424480"/>
              <a:ext cx="6984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33" y="11"/>
                  </a:moveTo>
                  <a:lnTo>
                    <a:pt x="44" y="1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40120" y="5424480"/>
              <a:ext cx="1728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870280" y="5722920"/>
            <a:ext cx="226800" cy="20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/>
          <p:nvPr/>
        </p:nvCxnSpPr>
        <p:spPr>
          <a:xfrm>
            <a:off x="2867040" y="3987360"/>
            <a:ext cx="2419560" cy="108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cxnSp>
        <p:nvCxnSpPr>
          <p:cNvPr id="386" name=""/>
          <p:cNvCxnSpPr>
            <a:endCxn id="367" idx="2"/>
          </p:cNvCxnSpPr>
          <p:nvPr/>
        </p:nvCxnSpPr>
        <p:spPr>
          <a:xfrm>
            <a:off x="4053960" y="2817360"/>
            <a:ext cx="18360" cy="234252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387" name=""/>
          <p:cNvSpPr/>
          <p:nvPr/>
        </p:nvSpPr>
        <p:spPr>
          <a:xfrm>
            <a:off x="4035600" y="2819520"/>
            <a:ext cx="1440" cy="23144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C310-6602-438B-AF46-4B63027D7670}" type="slidenum">
              <a:t>10</a:t>
            </a:fld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Net termin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80240" y="2119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24600" y="2039760"/>
            <a:ext cx="1974960" cy="22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241960" y="2436840"/>
            <a:ext cx="3539880" cy="1698120"/>
            <a:chOff x="5241960" y="2436840"/>
            <a:chExt cx="3539880" cy="1698120"/>
          </a:xfrm>
        </p:grpSpPr>
        <p:sp>
          <p:nvSpPr>
            <p:cNvPr id="393" name=""/>
            <p:cNvSpPr/>
            <p:nvPr/>
          </p:nvSpPr>
          <p:spPr>
            <a:xfrm>
              <a:off x="5288760" y="2485080"/>
              <a:ext cx="3493080" cy="164988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5241960" y="2436840"/>
              <a:ext cx="3481200" cy="1637640"/>
              <a:chOff x="5241960" y="2436840"/>
              <a:chExt cx="3481200" cy="1637640"/>
            </a:xfrm>
          </p:grpSpPr>
          <p:sp>
            <p:nvSpPr>
              <p:cNvPr id="395" name=""/>
              <p:cNvSpPr/>
              <p:nvPr/>
            </p:nvSpPr>
            <p:spPr>
              <a:xfrm>
                <a:off x="524196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7724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12880" y="2436840"/>
                <a:ext cx="2340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36280" y="2436840"/>
                <a:ext cx="3528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71560" y="2436840"/>
                <a:ext cx="3636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0828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4356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79200" y="2436840"/>
                <a:ext cx="3528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14480" y="2436840"/>
                <a:ext cx="2340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38240" y="2436840"/>
                <a:ext cx="35280" cy="1637640"/>
              </a:xfrm>
              <a:prstGeom prst="rect">
                <a:avLst/>
              </a:prstGeom>
              <a:solidFill>
                <a:srgbClr val="d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73520" y="2436840"/>
                <a:ext cx="35280" cy="163764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08800" y="2436840"/>
                <a:ext cx="35280" cy="1637640"/>
              </a:xfrm>
              <a:prstGeom prst="rect">
                <a:avLst/>
              </a:prstGeom>
              <a:solidFill>
                <a:srgbClr val="d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44440" y="2436840"/>
                <a:ext cx="35280" cy="163764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79720" y="2436840"/>
                <a:ext cx="35280" cy="1637640"/>
              </a:xfrm>
              <a:prstGeom prst="rect">
                <a:avLst/>
              </a:prstGeom>
              <a:solidFill>
                <a:srgbClr val="d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15360" y="2436840"/>
                <a:ext cx="23760" cy="163764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39120" y="2436840"/>
                <a:ext cx="35280" cy="1637640"/>
              </a:xfrm>
              <a:prstGeom prst="rect">
                <a:avLst/>
              </a:prstGeom>
              <a:solidFill>
                <a:srgbClr val="d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74400" y="2436840"/>
                <a:ext cx="35280" cy="1637640"/>
              </a:xfrm>
              <a:prstGeom prst="rect">
                <a:avLst/>
              </a:prstGeom>
              <a:solidFill>
                <a:srgbClr val="d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09680" y="2436840"/>
                <a:ext cx="35280" cy="163764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4960" y="2436840"/>
                <a:ext cx="36360" cy="163764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680" y="2436840"/>
                <a:ext cx="35280" cy="1637640"/>
              </a:xfrm>
              <a:prstGeom prst="rect">
                <a:avLst/>
              </a:prstGeom>
              <a:solidFill>
                <a:srgbClr val="d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17320" y="2436840"/>
                <a:ext cx="23760" cy="163764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41080" y="2436840"/>
                <a:ext cx="35280" cy="16376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76360" y="2436840"/>
                <a:ext cx="35280" cy="163764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11640" y="2436840"/>
                <a:ext cx="35280" cy="1637640"/>
              </a:xfrm>
              <a:prstGeom prst="rect">
                <a:avLst/>
              </a:prstGeom>
              <a:solidFill>
                <a:srgbClr val="e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46920" y="2436840"/>
                <a:ext cx="35280" cy="1637640"/>
              </a:xfrm>
              <a:prstGeom prst="rect">
                <a:avLst/>
              </a:prstGeom>
              <a:solidFill>
                <a:srgbClr val="e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82560" y="2436840"/>
                <a:ext cx="35280" cy="1637640"/>
              </a:xfrm>
              <a:prstGeom prst="rect">
                <a:avLst/>
              </a:prstGeom>
              <a:solidFill>
                <a:srgbClr val="e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17840" y="2436840"/>
                <a:ext cx="23400" cy="163764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0" y="2436840"/>
                <a:ext cx="35280" cy="163764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77240" y="2436840"/>
                <a:ext cx="35280" cy="163764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2520" y="2436840"/>
                <a:ext cx="35280" cy="1637640"/>
              </a:xfrm>
              <a:prstGeom prst="rect">
                <a:avLst/>
              </a:prstGeom>
              <a:solidFill>
                <a:srgbClr val="e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47800" y="2436840"/>
                <a:ext cx="35280" cy="1637640"/>
              </a:xfrm>
              <a:prstGeom prst="rect">
                <a:avLst/>
              </a:prstGeom>
              <a:solidFill>
                <a:srgbClr val="e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83080" y="2436840"/>
                <a:ext cx="24840" cy="163764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08280" y="2436840"/>
                <a:ext cx="35280" cy="1637640"/>
              </a:xfrm>
              <a:prstGeom prst="rect">
                <a:avLst/>
              </a:prstGeom>
              <a:solidFill>
                <a:srgbClr val="f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343560" y="2436840"/>
                <a:ext cx="35280" cy="1637640"/>
              </a:xfrm>
              <a:prstGeom prst="rect">
                <a:avLst/>
              </a:prstGeom>
              <a:solidFill>
                <a:srgbClr val="f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79200" y="2436840"/>
                <a:ext cx="35280" cy="163764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4480" y="2436840"/>
                <a:ext cx="35280" cy="1637640"/>
              </a:xfrm>
              <a:prstGeom prst="rect">
                <a:avLst/>
              </a:prstGeom>
              <a:solidFill>
                <a:srgbClr val="f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49760" y="2436840"/>
                <a:ext cx="35280" cy="163764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85040" y="2436840"/>
                <a:ext cx="23760" cy="1637640"/>
              </a:xfrm>
              <a:prstGeom prst="rect">
                <a:avLst/>
              </a:prstGeom>
              <a:solidFill>
                <a:srgbClr val="f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08800" y="2436840"/>
                <a:ext cx="35280" cy="163764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44440" y="2436840"/>
                <a:ext cx="35280" cy="1637640"/>
              </a:xfrm>
              <a:prstGeom prst="rect">
                <a:avLst/>
              </a:prstGeom>
              <a:solidFill>
                <a:srgbClr val="f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79720" y="2436840"/>
                <a:ext cx="35280" cy="163764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615360" y="2436840"/>
                <a:ext cx="35280" cy="1637640"/>
              </a:xfrm>
              <a:prstGeom prst="rect">
                <a:avLst/>
              </a:prstGeom>
              <a:solidFill>
                <a:srgbClr val="f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50640" y="2436840"/>
                <a:ext cx="3528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85920" y="2436840"/>
                <a:ext cx="2340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09680" y="2436840"/>
                <a:ext cx="3528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45320" y="2436840"/>
                <a:ext cx="3636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78168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1732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5260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887880" y="2436840"/>
                <a:ext cx="2340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1164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46920" y="2436840"/>
                <a:ext cx="35280" cy="163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82560" y="2436840"/>
                <a:ext cx="35280" cy="163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01784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53480" y="2436840"/>
                <a:ext cx="2340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07688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1216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4780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83440" y="2436840"/>
                <a:ext cx="3636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19800" y="2436840"/>
                <a:ext cx="3528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55440" y="2436840"/>
                <a:ext cx="2340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78840" y="2436840"/>
                <a:ext cx="3528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14120" y="2436840"/>
                <a:ext cx="35280" cy="1637640"/>
              </a:xfrm>
              <a:prstGeom prst="rect">
                <a:avLst/>
              </a:prstGeom>
              <a:solidFill>
                <a:srgbClr val="f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49400" y="2436840"/>
                <a:ext cx="35280" cy="163764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85040" y="2436840"/>
                <a:ext cx="35280" cy="1637640"/>
              </a:xfrm>
              <a:prstGeom prst="rect">
                <a:avLst/>
              </a:prstGeom>
              <a:solidFill>
                <a:srgbClr val="f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420680" y="2436840"/>
                <a:ext cx="35280" cy="163764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455960" y="2436840"/>
                <a:ext cx="23400" cy="1637640"/>
              </a:xfrm>
              <a:prstGeom prst="rect">
                <a:avLst/>
              </a:prstGeom>
              <a:solidFill>
                <a:srgbClr val="f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479360" y="2436840"/>
                <a:ext cx="35280" cy="163764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515000" y="2436840"/>
                <a:ext cx="35280" cy="1637640"/>
              </a:xfrm>
              <a:prstGeom prst="rect">
                <a:avLst/>
              </a:prstGeom>
              <a:solidFill>
                <a:srgbClr val="f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50280" y="2436840"/>
                <a:ext cx="35280" cy="163764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585920" y="2436840"/>
                <a:ext cx="35280" cy="1637640"/>
              </a:xfrm>
              <a:prstGeom prst="rect">
                <a:avLst/>
              </a:prstGeom>
              <a:solidFill>
                <a:srgbClr val="f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621200" y="2436840"/>
                <a:ext cx="35280" cy="1637640"/>
              </a:xfrm>
              <a:prstGeom prst="rect">
                <a:avLst/>
              </a:prstGeom>
              <a:solidFill>
                <a:srgbClr val="f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56840" y="2436840"/>
                <a:ext cx="24840" cy="163764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81680" y="2436840"/>
                <a:ext cx="35280" cy="1637640"/>
              </a:xfrm>
              <a:prstGeom prst="rect">
                <a:avLst/>
              </a:prstGeom>
              <a:solidFill>
                <a:srgbClr val="e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716960" y="2436840"/>
                <a:ext cx="35280" cy="1637640"/>
              </a:xfrm>
              <a:prstGeom prst="rect">
                <a:avLst/>
              </a:prstGeom>
              <a:solidFill>
                <a:srgbClr val="e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52240" y="2436840"/>
                <a:ext cx="35280" cy="163764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787520" y="2436840"/>
                <a:ext cx="35280" cy="163764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23160" y="2436840"/>
                <a:ext cx="35280" cy="163764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58800" y="2436840"/>
                <a:ext cx="23400" cy="1637640"/>
              </a:xfrm>
              <a:prstGeom prst="rect">
                <a:avLst/>
              </a:prstGeom>
              <a:solidFill>
                <a:srgbClr val="e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82200" y="2436840"/>
                <a:ext cx="35280" cy="1637640"/>
              </a:xfrm>
              <a:prstGeom prst="rect">
                <a:avLst/>
              </a:prstGeom>
              <a:solidFill>
                <a:srgbClr val="e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17480" y="2436840"/>
                <a:ext cx="35280" cy="1637640"/>
              </a:xfrm>
              <a:prstGeom prst="rect">
                <a:avLst/>
              </a:prstGeom>
              <a:solidFill>
                <a:srgbClr val="e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953120" y="2436840"/>
                <a:ext cx="35280" cy="163764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88400" y="2436840"/>
                <a:ext cx="35280" cy="16376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024040" y="2436840"/>
                <a:ext cx="23760" cy="163764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47800" y="2436840"/>
                <a:ext cx="35280" cy="1637640"/>
              </a:xfrm>
              <a:prstGeom prst="rect">
                <a:avLst/>
              </a:prstGeom>
              <a:solidFill>
                <a:srgbClr val="d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83080" y="2436840"/>
                <a:ext cx="35280" cy="163764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118360" y="2436840"/>
                <a:ext cx="36360" cy="163764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155080" y="2436840"/>
                <a:ext cx="35280" cy="1637640"/>
              </a:xfrm>
              <a:prstGeom prst="rect">
                <a:avLst/>
              </a:prstGeom>
              <a:solidFill>
                <a:srgbClr val="d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190360" y="2436840"/>
                <a:ext cx="35280" cy="1637640"/>
              </a:xfrm>
              <a:prstGeom prst="rect">
                <a:avLst/>
              </a:prstGeom>
              <a:solidFill>
                <a:srgbClr val="d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5640" y="2436840"/>
                <a:ext cx="23760" cy="163764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49760" y="2436840"/>
                <a:ext cx="35280" cy="1637640"/>
              </a:xfrm>
              <a:prstGeom prst="rect">
                <a:avLst/>
              </a:prstGeom>
              <a:solidFill>
                <a:srgbClr val="d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85040" y="2436840"/>
                <a:ext cx="35280" cy="163764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320320" y="2436840"/>
                <a:ext cx="35280" cy="1637640"/>
              </a:xfrm>
              <a:prstGeom prst="rect">
                <a:avLst/>
              </a:prstGeom>
              <a:solidFill>
                <a:srgbClr val="d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55600" y="2436840"/>
                <a:ext cx="35280" cy="163764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391240" y="2436840"/>
                <a:ext cx="35280" cy="1637640"/>
              </a:xfrm>
              <a:prstGeom prst="rect">
                <a:avLst/>
              </a:prstGeom>
              <a:solidFill>
                <a:srgbClr val="d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6520" y="2436840"/>
                <a:ext cx="2340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450280" y="2436840"/>
                <a:ext cx="3528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48592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52120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556480" y="2436840"/>
                <a:ext cx="3636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593200" y="2436840"/>
                <a:ext cx="3528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628480" y="2436840"/>
                <a:ext cx="2340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5224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68788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5241960" y="2436840"/>
              <a:ext cx="3493080" cy="1649880"/>
            </a:xfrm>
            <a:prstGeom prst="rect">
              <a:avLst/>
            </a:prstGeom>
            <a:noFill/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526000" y="2838600"/>
            <a:ext cx="970200" cy="99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91080" y="2803680"/>
            <a:ext cx="970200" cy="990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964120" y="2803680"/>
            <a:ext cx="23760" cy="918720"/>
            <a:chOff x="5964120" y="2803680"/>
            <a:chExt cx="23760" cy="918720"/>
          </a:xfrm>
        </p:grpSpPr>
        <p:sp>
          <p:nvSpPr>
            <p:cNvPr id="503" name=""/>
            <p:cNvSpPr/>
            <p:nvPr/>
          </p:nvSpPr>
          <p:spPr>
            <a:xfrm>
              <a:off x="5964120" y="2803680"/>
              <a:ext cx="23760" cy="93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64120" y="296856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64120" y="313380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64120" y="3299040"/>
              <a:ext cx="23760" cy="93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64120" y="346428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64120" y="362808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02240" y="3263760"/>
            <a:ext cx="921960" cy="22320"/>
            <a:chOff x="5502240" y="3263760"/>
            <a:chExt cx="921960" cy="22320"/>
          </a:xfrm>
        </p:grpSpPr>
        <p:sp>
          <p:nvSpPr>
            <p:cNvPr id="510" name=""/>
            <p:cNvSpPr/>
            <p:nvPr/>
          </p:nvSpPr>
          <p:spPr>
            <a:xfrm>
              <a:off x="5502240" y="3263760"/>
              <a:ext cx="9396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6712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32360" y="3263760"/>
              <a:ext cx="9540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9868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6356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2988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726160" y="2803680"/>
            <a:ext cx="3240" cy="97920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11800" y="2814480"/>
            <a:ext cx="1800" cy="96840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502240" y="3535200"/>
            <a:ext cx="959040" cy="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14840" y="3049560"/>
            <a:ext cx="946440" cy="324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56320" y="2790720"/>
            <a:ext cx="625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74760" y="284940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4040" y="299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44960" y="2990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75440" y="3060720"/>
            <a:ext cx="3096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94240" y="3121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66960" y="3121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65880" y="3060720"/>
            <a:ext cx="34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83600" y="3133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55960" y="31338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02240" y="2803680"/>
            <a:ext cx="355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21040" y="2860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90880" y="28605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26000" y="3500280"/>
            <a:ext cx="3682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644800" y="356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14640" y="356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29360" y="2790720"/>
            <a:ext cx="3668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46360" y="28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19440" y="2849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29360" y="3511440"/>
            <a:ext cx="390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46360" y="356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19440" y="356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40560" y="2436840"/>
            <a:ext cx="2271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21280" y="2494080"/>
            <a:ext cx="213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tioning-based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489800" y="3768840"/>
            <a:ext cx="237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61120" y="3898800"/>
            <a:ext cx="21412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46720" y="2638440"/>
            <a:ext cx="25560" cy="12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61120" y="2624040"/>
            <a:ext cx="3538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645160" y="2638440"/>
            <a:ext cx="152280" cy="151920"/>
            <a:chOff x="5645160" y="2638440"/>
            <a:chExt cx="152280" cy="151920"/>
          </a:xfrm>
        </p:grpSpPr>
        <p:sp>
          <p:nvSpPr>
            <p:cNvPr id="549" name=""/>
            <p:cNvSpPr/>
            <p:nvPr/>
          </p:nvSpPr>
          <p:spPr>
            <a:xfrm>
              <a:off x="5703480" y="2638440"/>
              <a:ext cx="234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45160" y="2649960"/>
              <a:ext cx="152280" cy="14040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0" y="0"/>
                  </a:moveTo>
                  <a:lnTo>
                    <a:pt x="60" y="12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0760" y="3863880"/>
            <a:ext cx="1528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91560" y="392256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19400" y="3922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48480" y="3359160"/>
            <a:ext cx="1974960" cy="39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391" idx="2"/>
            <a:endCxn id="447" idx="0"/>
          </p:cNvCxnSpPr>
          <p:nvPr/>
        </p:nvCxnSpPr>
        <p:spPr>
          <a:xfrm flipH="1">
            <a:off x="7000200" y="2266920"/>
            <a:ext cx="11880" cy="170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5651640" y="4362480"/>
            <a:ext cx="2720880" cy="22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51640" y="4743360"/>
            <a:ext cx="2720880" cy="22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R Low-temp ann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51640" y="5132520"/>
            <a:ext cx="2720880" cy="226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R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"/>
          <p:cNvCxnSpPr>
            <a:stCxn id="499" idx="2"/>
            <a:endCxn id="556" idx="0"/>
          </p:cNvCxnSpPr>
          <p:nvPr/>
        </p:nvCxnSpPr>
        <p:spPr>
          <a:xfrm>
            <a:off x="6989760" y="4108320"/>
            <a:ext cx="23040" cy="25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"/>
          <p:cNvCxnSpPr>
            <a:stCxn id="556" idx="2"/>
            <a:endCxn id="557" idx="0"/>
          </p:cNvCxnSpPr>
          <p:nvPr/>
        </p:nvCxnSpPr>
        <p:spPr>
          <a:xfrm>
            <a:off x="7013160" y="4589280"/>
            <a:ext cx="1080" cy="15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57" idx="2"/>
            <a:endCxn id="558" idx="0"/>
          </p:cNvCxnSpPr>
          <p:nvPr/>
        </p:nvCxnSpPr>
        <p:spPr>
          <a:xfrm>
            <a:off x="7013160" y="4970520"/>
            <a:ext cx="1080" cy="16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"/>
          <p:cNvSpPr/>
          <p:nvPr/>
        </p:nvSpPr>
        <p:spPr>
          <a:xfrm>
            <a:off x="5346720" y="4191120"/>
            <a:ext cx="32814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35400" y="1828800"/>
            <a:ext cx="3703680" cy="2433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48480" y="2841480"/>
            <a:ext cx="1974960" cy="39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l 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C4C5-900B-44C8-989E-8DDDEBFFDC88}" type="slidenum">
              <a:t>11</a:t>
            </a:fld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90920" y="1390680"/>
            <a:ext cx="1825560" cy="18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3520" y="1390680"/>
            <a:ext cx="180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590560" y="2305080"/>
            <a:ext cx="182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Net terminal alignment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termin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or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helps reduce # routing seg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anc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 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ne segment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1390680"/>
            <a:ext cx="1825560" cy="18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16480" y="1390680"/>
            <a:ext cx="1827000" cy="18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29080" y="1390680"/>
            <a:ext cx="180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78520" y="142416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21360" y="28782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4720" y="1390680"/>
            <a:ext cx="180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1760" y="2305080"/>
            <a:ext cx="182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552720" y="1960560"/>
            <a:ext cx="68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320600" y="181440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343640" y="2133720"/>
            <a:ext cx="151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to be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"/>
          <p:cNvCxnSpPr>
            <a:stCxn id="571" idx="3"/>
            <a:endCxn id="571" idx="1"/>
          </p:cNvCxnSpPr>
          <p:nvPr/>
        </p:nvCxnSpPr>
        <p:spPr>
          <a:xfrm flipH="1">
            <a:off x="4386960" y="2304720"/>
            <a:ext cx="188532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581" name=""/>
          <p:cNvSpPr/>
          <p:nvPr/>
        </p:nvSpPr>
        <p:spPr>
          <a:xfrm flipH="1" flipV="1">
            <a:off x="6552720" y="2287440"/>
            <a:ext cx="684360" cy="5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83" idx="5"/>
            <a:endCxn id="584" idx="2"/>
          </p:cNvCxnSpPr>
          <p:nvPr/>
        </p:nvCxnSpPr>
        <p:spPr>
          <a:xfrm>
            <a:off x="1226880" y="1929960"/>
            <a:ext cx="4339080" cy="788040"/>
          </a:xfrm>
          <a:prstGeom prst="straightConnector1">
            <a:avLst/>
          </a:prstGeom>
          <a:ln w="28440">
            <a:solidFill>
              <a:srgbClr val="33cc33"/>
            </a:solidFill>
            <a:miter/>
          </a:ln>
        </p:spPr>
      </p:cxnSp>
      <p:cxnSp>
        <p:nvCxnSpPr>
          <p:cNvPr id="585" name=""/>
          <p:cNvCxnSpPr>
            <a:stCxn id="583" idx="6"/>
            <a:endCxn id="586" idx="2"/>
          </p:cNvCxnSpPr>
          <p:nvPr/>
        </p:nvCxnSpPr>
        <p:spPr>
          <a:xfrm>
            <a:off x="1288800" y="1802880"/>
            <a:ext cx="4277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583" name=""/>
          <p:cNvSpPr/>
          <p:nvPr/>
        </p:nvSpPr>
        <p:spPr>
          <a:xfrm>
            <a:off x="954000" y="1643040"/>
            <a:ext cx="320760" cy="320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580000" y="2557440"/>
            <a:ext cx="320760" cy="32076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580000" y="1643040"/>
            <a:ext cx="320760" cy="320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DE38-437A-4198-9ADC-2A1F81810CDA}" type="slidenum">
              <a:t>12</a:t>
            </a:fld>
          </a:p>
        </p:txBody>
      </p:sp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Cut Direction?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90160" y="1303200"/>
            <a:ext cx="445932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A,C} preferred to {B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C preferred 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49840" y="1217520"/>
            <a:ext cx="1673280" cy="15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34120" y="1217520"/>
            <a:ext cx="1675080" cy="15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970760" y="1217520"/>
            <a:ext cx="1800" cy="15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566200" y="124452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605800" y="24462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86480" y="1217520"/>
            <a:ext cx="1440" cy="15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749840" y="1973160"/>
            <a:ext cx="167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750000" y="295920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53800" y="2838600"/>
            <a:ext cx="11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473960" y="3102120"/>
            <a:ext cx="151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to be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591" idx="3"/>
            <a:endCxn id="591" idx="1"/>
          </p:cNvCxnSpPr>
          <p:nvPr/>
        </p:nvCxnSpPr>
        <p:spPr>
          <a:xfrm flipH="1">
            <a:off x="7106400" y="1972800"/>
            <a:ext cx="172980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601" name=""/>
          <p:cNvSpPr/>
          <p:nvPr/>
        </p:nvSpPr>
        <p:spPr>
          <a:xfrm flipH="1" flipV="1">
            <a:off x="6750000" y="3230280"/>
            <a:ext cx="627120" cy="3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56080" y="12654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156080" y="242568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52360" y="3876840"/>
            <a:ext cx="8886960" cy="2400120"/>
            <a:chOff x="252360" y="3876840"/>
            <a:chExt cx="8886960" cy="2400120"/>
          </a:xfrm>
        </p:grpSpPr>
        <p:grpSp>
          <p:nvGrpSpPr>
            <p:cNvPr id="605" name=""/>
            <p:cNvGrpSpPr/>
            <p:nvPr/>
          </p:nvGrpSpPr>
          <p:grpSpPr>
            <a:xfrm>
              <a:off x="5535720" y="3876840"/>
              <a:ext cx="3603600" cy="2400120"/>
              <a:chOff x="5535720" y="3876840"/>
              <a:chExt cx="3603600" cy="2400120"/>
            </a:xfrm>
          </p:grpSpPr>
          <p:sp>
            <p:nvSpPr>
              <p:cNvPr id="606" name=""/>
              <p:cNvSpPr/>
              <p:nvPr/>
            </p:nvSpPr>
            <p:spPr>
              <a:xfrm>
                <a:off x="6665760" y="4543560"/>
                <a:ext cx="1195560" cy="1066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665760" y="4143240"/>
                <a:ext cx="1800" cy="186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61320" y="4143240"/>
                <a:ext cx="1440" cy="186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65800" y="4543560"/>
                <a:ext cx="1994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65800" y="5610240"/>
                <a:ext cx="1994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000840" y="5610240"/>
                <a:ext cx="264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8259840" y="5610240"/>
                <a:ext cx="264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000840" y="4543560"/>
                <a:ext cx="264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61320" y="3876840"/>
                <a:ext cx="144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61320" y="6010200"/>
                <a:ext cx="144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665760" y="6010200"/>
                <a:ext cx="180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665760" y="3876840"/>
                <a:ext cx="1800" cy="26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594560" y="5076720"/>
                <a:ext cx="531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94560" y="5210280"/>
                <a:ext cx="531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99360" y="4943520"/>
                <a:ext cx="531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75240" y="5443560"/>
                <a:ext cx="532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7064280" y="5343480"/>
                <a:ext cx="180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7196040" y="5343480"/>
                <a:ext cx="180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067520" y="4276440"/>
                <a:ext cx="1440" cy="53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419960" y="4276440"/>
                <a:ext cx="1440" cy="53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894800" y="5143680"/>
                <a:ext cx="12445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058960" y="521028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rit = 0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757720" y="521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30280" y="587700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rit = 0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529040" y="58770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96880" y="402732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rit = 0.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594200" y="4027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35720" y="5094360"/>
                <a:ext cx="12445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99880" y="516096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rit = 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98640" y="51609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252360" y="4506840"/>
              <a:ext cx="558324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flict between different n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t criticality dec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37" name=""/>
          <p:cNvCxnSpPr>
            <a:stCxn id="638" idx="5"/>
            <a:endCxn id="639" idx="2"/>
          </p:cNvCxnSpPr>
          <p:nvPr/>
        </p:nvCxnSpPr>
        <p:spPr>
          <a:xfrm>
            <a:off x="5264280" y="1695240"/>
            <a:ext cx="2953440" cy="641880"/>
          </a:xfrm>
          <a:prstGeom prst="straightConnector1">
            <a:avLst/>
          </a:prstGeom>
          <a:ln w="28440">
            <a:solidFill>
              <a:srgbClr val="33cc33"/>
            </a:solidFill>
            <a:miter/>
          </a:ln>
        </p:spPr>
      </p:cxnSp>
      <p:cxnSp>
        <p:nvCxnSpPr>
          <p:cNvPr id="640" name=""/>
          <p:cNvCxnSpPr>
            <a:stCxn id="638" idx="6"/>
            <a:endCxn id="641" idx="2"/>
          </p:cNvCxnSpPr>
          <p:nvPr/>
        </p:nvCxnSpPr>
        <p:spPr>
          <a:xfrm>
            <a:off x="5314680" y="1596600"/>
            <a:ext cx="2902680" cy="644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5049720" y="1477800"/>
            <a:ext cx="250920" cy="2383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31040" y="2217600"/>
            <a:ext cx="250920" cy="2383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231040" y="1541520"/>
            <a:ext cx="250920" cy="23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67560" y="5126040"/>
            <a:ext cx="1195200" cy="0"/>
          </a:xfrm>
          <a:prstGeom prst="line">
            <a:avLst/>
          </a:prstGeom>
          <a:ln w="3816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42120" y="4545000"/>
            <a:ext cx="15840" cy="1066680"/>
          </a:xfrm>
          <a:prstGeom prst="line">
            <a:avLst/>
          </a:prstGeom>
          <a:ln w="3816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884B-84C3-49E3-A42E-0CD9A1C2DE76}" type="slidenum">
              <a:t>13</a:t>
            </a:fld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lignment Detail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a nod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n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iming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in the s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as th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13200" y="1370160"/>
            <a:ext cx="4176720" cy="4506840"/>
          </a:xfrm>
          <a:custGeom>
            <a:avLst/>
            <a:gdLst/>
            <a:ahLst/>
            <a:rect l="l" t="t" r="r" b="b"/>
            <a:pathLst>
              <a:path w="1941" h="2047">
                <a:moveTo>
                  <a:pt x="901" y="549"/>
                </a:moveTo>
                <a:lnTo>
                  <a:pt x="901" y="2047"/>
                </a:lnTo>
                <a:lnTo>
                  <a:pt x="372" y="2000"/>
                </a:lnTo>
                <a:lnTo>
                  <a:pt x="0" y="1563"/>
                </a:lnTo>
                <a:lnTo>
                  <a:pt x="28" y="474"/>
                </a:lnTo>
                <a:lnTo>
                  <a:pt x="288" y="55"/>
                </a:lnTo>
                <a:lnTo>
                  <a:pt x="845" y="0"/>
                </a:lnTo>
                <a:lnTo>
                  <a:pt x="1941" y="18"/>
                </a:lnTo>
                <a:lnTo>
                  <a:pt x="1932" y="549"/>
                </a:lnTo>
                <a:lnTo>
                  <a:pt x="901" y="54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51440" y="45640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51440" y="470700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851440" y="484992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51440" y="499284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51440" y="513864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851440" y="528156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851440" y="5424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51440" y="556740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51440" y="57117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72240" y="5854680"/>
            <a:ext cx="79200" cy="41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19"/>
                </a:moveTo>
                <a:lnTo>
                  <a:pt x="37" y="10"/>
                </a:lnTo>
                <a:lnTo>
                  <a:pt x="37" y="1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32560" y="5854680"/>
            <a:ext cx="98280" cy="22320"/>
          </a:xfrm>
          <a:custGeom>
            <a:avLst/>
            <a:gdLst/>
            <a:ahLst/>
            <a:rect l="l" t="t" r="r" b="b"/>
            <a:pathLst>
              <a:path w="46" h="10">
                <a:moveTo>
                  <a:pt x="37" y="10"/>
                </a:moveTo>
                <a:lnTo>
                  <a:pt x="46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92880" y="5834160"/>
            <a:ext cx="98280" cy="2052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53200" y="5815080"/>
            <a:ext cx="98280" cy="39600"/>
          </a:xfrm>
          <a:custGeom>
            <a:avLst/>
            <a:gdLst/>
            <a:ahLst/>
            <a:rect l="l" t="t" r="r" b="b"/>
            <a:pathLst>
              <a:path w="46" h="18">
                <a:moveTo>
                  <a:pt x="37" y="18"/>
                </a:moveTo>
                <a:lnTo>
                  <a:pt x="46" y="9"/>
                </a:lnTo>
                <a:lnTo>
                  <a:pt x="37" y="9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213520" y="5815080"/>
            <a:ext cx="98280" cy="1908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73480" y="5792760"/>
            <a:ext cx="98640" cy="22320"/>
          </a:xfrm>
          <a:custGeom>
            <a:avLst/>
            <a:gdLst/>
            <a:ahLst/>
            <a:rect l="l" t="t" r="r" b="b"/>
            <a:pathLst>
              <a:path w="46" h="10">
                <a:moveTo>
                  <a:pt x="37" y="10"/>
                </a:moveTo>
                <a:lnTo>
                  <a:pt x="46" y="10"/>
                </a:lnTo>
                <a:lnTo>
                  <a:pt x="37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33800" y="5772240"/>
            <a:ext cx="98640" cy="42840"/>
          </a:xfrm>
          <a:custGeom>
            <a:avLst/>
            <a:gdLst/>
            <a:ahLst/>
            <a:rect l="l" t="t" r="r" b="b"/>
            <a:pathLst>
              <a:path w="46" h="19">
                <a:moveTo>
                  <a:pt x="37" y="19"/>
                </a:moveTo>
                <a:lnTo>
                  <a:pt x="46" y="9"/>
                </a:lnTo>
                <a:lnTo>
                  <a:pt x="37" y="9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2680" y="5772240"/>
            <a:ext cx="100080" cy="2052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72080" y="5711760"/>
            <a:ext cx="8100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37" y="28"/>
                </a:lnTo>
                <a:lnTo>
                  <a:pt x="28" y="28"/>
                </a:lnTo>
                <a:lnTo>
                  <a:pt x="19" y="28"/>
                </a:lnTo>
                <a:lnTo>
                  <a:pt x="19" y="28"/>
                </a:lnTo>
                <a:lnTo>
                  <a:pt x="28" y="28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19" y="28"/>
                </a:lnTo>
                <a:lnTo>
                  <a:pt x="19" y="37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573440" y="5610240"/>
            <a:ext cx="7956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94240" y="5506920"/>
            <a:ext cx="58680" cy="81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8" y="28"/>
                </a:moveTo>
                <a:lnTo>
                  <a:pt x="27" y="37"/>
                </a:lnTo>
                <a:lnTo>
                  <a:pt x="27" y="28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92720" y="5383080"/>
            <a:ext cx="7920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13160" y="5281560"/>
            <a:ext cx="60480" cy="81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19" y="37"/>
                </a:moveTo>
                <a:lnTo>
                  <a:pt x="28" y="37"/>
                </a:lnTo>
                <a:lnTo>
                  <a:pt x="28" y="37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1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14880" y="5178600"/>
            <a:ext cx="79200" cy="80640"/>
          </a:xfrm>
          <a:custGeom>
            <a:avLst/>
            <a:gdLst/>
            <a:ahLst/>
            <a:rect l="l" t="t" r="r" b="b"/>
            <a:pathLst>
              <a:path w="37" h="37">
                <a:moveTo>
                  <a:pt x="27" y="28"/>
                </a:moveTo>
                <a:lnTo>
                  <a:pt x="27" y="37"/>
                </a:lnTo>
                <a:lnTo>
                  <a:pt x="37" y="28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2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13360" y="5054760"/>
            <a:ext cx="79200" cy="83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28" y="38"/>
                </a:moveTo>
                <a:lnTo>
                  <a:pt x="37" y="38"/>
                </a:lnTo>
                <a:lnTo>
                  <a:pt x="37" y="38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28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033800" y="4954680"/>
            <a:ext cx="7956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35520" y="4849920"/>
            <a:ext cx="79200" cy="83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27" y="28"/>
                </a:moveTo>
                <a:lnTo>
                  <a:pt x="27" y="38"/>
                </a:lnTo>
                <a:lnTo>
                  <a:pt x="37" y="28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2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13200" y="4707000"/>
            <a:ext cx="22320" cy="102960"/>
          </a:xfrm>
          <a:custGeom>
            <a:avLst/>
            <a:gdLst/>
            <a:ahLst/>
            <a:rect l="l" t="t" r="r" b="b"/>
            <a:pathLst>
              <a:path w="10" h="47">
                <a:moveTo>
                  <a:pt x="0" y="47"/>
                </a:moveTo>
                <a:lnTo>
                  <a:pt x="0" y="47"/>
                </a:lnTo>
                <a:lnTo>
                  <a:pt x="10" y="47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13200" y="4564080"/>
            <a:ext cx="22320" cy="103320"/>
          </a:xfrm>
          <a:custGeom>
            <a:avLst/>
            <a:gdLst/>
            <a:ahLst/>
            <a:rect l="l" t="t" r="r" b="b"/>
            <a:pathLst>
              <a:path w="10" h="47">
                <a:moveTo>
                  <a:pt x="0" y="47"/>
                </a:moveTo>
                <a:lnTo>
                  <a:pt x="0" y="47"/>
                </a:lnTo>
                <a:lnTo>
                  <a:pt x="10" y="47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913200" y="4421160"/>
            <a:ext cx="22320" cy="10152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0" y="46"/>
                </a:lnTo>
                <a:lnTo>
                  <a:pt x="10" y="46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13200" y="4278240"/>
            <a:ext cx="22320" cy="10152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0" y="9"/>
                </a:lnTo>
                <a:lnTo>
                  <a:pt x="1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13200" y="4135320"/>
            <a:ext cx="22320" cy="100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0" y="9"/>
                </a:lnTo>
                <a:lnTo>
                  <a:pt x="1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13200" y="3992400"/>
            <a:ext cx="41400" cy="100080"/>
          </a:xfrm>
          <a:custGeom>
            <a:avLst/>
            <a:gdLst/>
            <a:ahLst/>
            <a:rect l="l" t="t" r="r" b="b"/>
            <a:pathLst>
              <a:path w="19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9" y="9"/>
                </a:lnTo>
                <a:lnTo>
                  <a:pt x="10" y="0"/>
                </a:lnTo>
                <a:lnTo>
                  <a:pt x="1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35520" y="384660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935520" y="37036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35520" y="35607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35520" y="341784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35520" y="3273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935520" y="3130560"/>
            <a:ext cx="38160" cy="101520"/>
          </a:xfrm>
          <a:custGeom>
            <a:avLst/>
            <a:gdLst/>
            <a:ahLst/>
            <a:rect l="l" t="t" r="r" b="b"/>
            <a:pathLst>
              <a:path w="18" h="46">
                <a:moveTo>
                  <a:pt x="0" y="46"/>
                </a:moveTo>
                <a:lnTo>
                  <a:pt x="9" y="46"/>
                </a:lnTo>
                <a:lnTo>
                  <a:pt x="9" y="46"/>
                </a:lnTo>
                <a:lnTo>
                  <a:pt x="18" y="9"/>
                </a:lnTo>
                <a:lnTo>
                  <a:pt x="9" y="0"/>
                </a:lnTo>
                <a:lnTo>
                  <a:pt x="9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54600" y="298764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954600" y="284328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4600" y="27003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4600" y="255600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4600" y="241308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92400" y="2290680"/>
            <a:ext cx="60480" cy="1033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37"/>
                </a:moveTo>
                <a:lnTo>
                  <a:pt x="0" y="47"/>
                </a:lnTo>
                <a:lnTo>
                  <a:pt x="10" y="37"/>
                </a:lnTo>
                <a:lnTo>
                  <a:pt x="28" y="10"/>
                </a:lnTo>
                <a:lnTo>
                  <a:pt x="19" y="0"/>
                </a:lnTo>
                <a:lnTo>
                  <a:pt x="19" y="1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052880" y="2166840"/>
            <a:ext cx="60480" cy="1033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38"/>
                </a:moveTo>
                <a:lnTo>
                  <a:pt x="10" y="47"/>
                </a:lnTo>
                <a:lnTo>
                  <a:pt x="10" y="38"/>
                </a:lnTo>
                <a:lnTo>
                  <a:pt x="28" y="10"/>
                </a:lnTo>
                <a:lnTo>
                  <a:pt x="28" y="0"/>
                </a:lnTo>
                <a:lnTo>
                  <a:pt x="19" y="1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132440" y="2046240"/>
            <a:ext cx="60120" cy="10008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37"/>
                </a:moveTo>
                <a:lnTo>
                  <a:pt x="0" y="46"/>
                </a:lnTo>
                <a:lnTo>
                  <a:pt x="10" y="37"/>
                </a:lnTo>
                <a:lnTo>
                  <a:pt x="28" y="9"/>
                </a:lnTo>
                <a:lnTo>
                  <a:pt x="28" y="0"/>
                </a:lnTo>
                <a:lnTo>
                  <a:pt x="19" y="9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14880" y="1943280"/>
            <a:ext cx="57240" cy="80640"/>
          </a:xfrm>
          <a:custGeom>
            <a:avLst/>
            <a:gdLst/>
            <a:ahLst/>
            <a:rect l="l" t="t" r="r" b="b"/>
            <a:pathLst>
              <a:path w="27" h="37">
                <a:moveTo>
                  <a:pt x="0" y="28"/>
                </a:moveTo>
                <a:lnTo>
                  <a:pt x="0" y="37"/>
                </a:lnTo>
                <a:lnTo>
                  <a:pt x="9" y="28"/>
                </a:lnTo>
                <a:lnTo>
                  <a:pt x="27" y="0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72120" y="1819440"/>
            <a:ext cx="60120" cy="8064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10" y="37"/>
                </a:lnTo>
                <a:lnTo>
                  <a:pt x="10" y="37"/>
                </a:lnTo>
                <a:lnTo>
                  <a:pt x="28" y="0"/>
                </a:lnTo>
                <a:lnTo>
                  <a:pt x="28" y="0"/>
                </a:lnTo>
                <a:lnTo>
                  <a:pt x="19" y="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354560" y="1695600"/>
            <a:ext cx="57240" cy="83880"/>
          </a:xfrm>
          <a:custGeom>
            <a:avLst/>
            <a:gdLst/>
            <a:ahLst/>
            <a:rect l="l" t="t" r="r" b="b"/>
            <a:pathLst>
              <a:path w="27" h="38">
                <a:moveTo>
                  <a:pt x="0" y="38"/>
                </a:moveTo>
                <a:lnTo>
                  <a:pt x="9" y="38"/>
                </a:lnTo>
                <a:lnTo>
                  <a:pt x="9" y="38"/>
                </a:lnTo>
                <a:lnTo>
                  <a:pt x="27" y="0"/>
                </a:lnTo>
                <a:lnTo>
                  <a:pt x="27" y="0"/>
                </a:lnTo>
                <a:lnTo>
                  <a:pt x="18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33760" y="1574640"/>
            <a:ext cx="60480" cy="81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0" y="37"/>
                </a:lnTo>
                <a:lnTo>
                  <a:pt x="9" y="37"/>
                </a:lnTo>
                <a:lnTo>
                  <a:pt x="28" y="0"/>
                </a:lnTo>
                <a:lnTo>
                  <a:pt x="18" y="0"/>
                </a:lnTo>
                <a:lnTo>
                  <a:pt x="18" y="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94240" y="1471680"/>
            <a:ext cx="98280" cy="6192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28"/>
                </a:moveTo>
                <a:lnTo>
                  <a:pt x="9" y="28"/>
                </a:lnTo>
                <a:lnTo>
                  <a:pt x="9" y="28"/>
                </a:lnTo>
                <a:lnTo>
                  <a:pt x="27" y="9"/>
                </a:lnTo>
                <a:lnTo>
                  <a:pt x="18" y="9"/>
                </a:lnTo>
                <a:lnTo>
                  <a:pt x="18" y="19"/>
                </a:lnTo>
                <a:lnTo>
                  <a:pt x="37" y="9"/>
                </a:lnTo>
                <a:lnTo>
                  <a:pt x="46" y="9"/>
                </a:lnTo>
                <a:lnTo>
                  <a:pt x="37" y="0"/>
                </a:lnTo>
                <a:lnTo>
                  <a:pt x="18" y="9"/>
                </a:lnTo>
                <a:lnTo>
                  <a:pt x="18" y="9"/>
                </a:lnTo>
                <a:lnTo>
                  <a:pt x="18" y="9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3920" y="1471680"/>
            <a:ext cx="79200" cy="19080"/>
          </a:xfrm>
          <a:custGeom>
            <a:avLst/>
            <a:gdLst/>
            <a:ahLst/>
            <a:rect l="l" t="t" r="r" b="b"/>
            <a:pathLst>
              <a:path w="37" h="9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3080" y="1450800"/>
            <a:ext cx="10008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892760" y="1428840"/>
            <a:ext cx="100080" cy="42840"/>
          </a:xfrm>
          <a:custGeom>
            <a:avLst/>
            <a:gdLst/>
            <a:ahLst/>
            <a:rect l="l" t="t" r="r" b="b"/>
            <a:pathLst>
              <a:path w="47" h="19">
                <a:moveTo>
                  <a:pt x="10" y="10"/>
                </a:moveTo>
                <a:lnTo>
                  <a:pt x="0" y="10"/>
                </a:lnTo>
                <a:lnTo>
                  <a:pt x="10" y="19"/>
                </a:lnTo>
                <a:lnTo>
                  <a:pt x="47" y="10"/>
                </a:lnTo>
                <a:lnTo>
                  <a:pt x="47" y="10"/>
                </a:lnTo>
                <a:lnTo>
                  <a:pt x="47" y="0"/>
                </a:lnTo>
                <a:lnTo>
                  <a:pt x="1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032440" y="1428840"/>
            <a:ext cx="101520" cy="21960"/>
          </a:xfrm>
          <a:custGeom>
            <a:avLst/>
            <a:gdLst/>
            <a:ahLst/>
            <a:rect l="l" t="t" r="r" b="b"/>
            <a:pathLst>
              <a:path w="47" h="10">
                <a:moveTo>
                  <a:pt x="10" y="0"/>
                </a:moveTo>
                <a:lnTo>
                  <a:pt x="0" y="0"/>
                </a:lnTo>
                <a:lnTo>
                  <a:pt x="10" y="10"/>
                </a:lnTo>
                <a:lnTo>
                  <a:pt x="47" y="10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172120" y="14097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11800" y="138924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10" y="9"/>
                </a:moveTo>
                <a:lnTo>
                  <a:pt x="0" y="9"/>
                </a:lnTo>
                <a:lnTo>
                  <a:pt x="10" y="18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451480" y="137016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10" y="9"/>
                </a:moveTo>
                <a:lnTo>
                  <a:pt x="0" y="9"/>
                </a:lnTo>
                <a:lnTo>
                  <a:pt x="10" y="18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59116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3084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87052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2000" y="1370160"/>
            <a:ext cx="997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151680" y="1370160"/>
            <a:ext cx="997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9136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43104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57072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1040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0080" y="137016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18"/>
                </a:lnTo>
                <a:lnTo>
                  <a:pt x="47" y="9"/>
                </a:lnTo>
                <a:lnTo>
                  <a:pt x="47" y="9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8976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2944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27092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41060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55028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8996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2964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96932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70840" y="142884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070840" y="1574640"/>
            <a:ext cx="19080" cy="1018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070840" y="1717560"/>
            <a:ext cx="19080" cy="1018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1860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200340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070840" y="214632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070840" y="22906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070840" y="243360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296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6899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55028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41060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27092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1294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9897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5008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1040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57072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310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913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168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1200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72320" y="2577960"/>
            <a:ext cx="2219040" cy="1943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2480" y="2577960"/>
            <a:ext cx="79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731000" y="2577960"/>
            <a:ext cx="81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913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45164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31196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7228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3260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929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53240" y="2577960"/>
            <a:ext cx="79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11760" y="2577960"/>
            <a:ext cx="81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7208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3240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927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5304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872320" y="2085840"/>
            <a:ext cx="1440" cy="381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110440" y="1593720"/>
            <a:ext cx="1800" cy="338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1000" y="2577960"/>
            <a:ext cx="31989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91000" y="4543560"/>
            <a:ext cx="31989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8570880" y="4543560"/>
            <a:ext cx="31752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70600" y="3294000"/>
            <a:ext cx="619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13440" y="3459240"/>
            <a:ext cx="17784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73760" y="3232080"/>
            <a:ext cx="17784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710400" y="3598920"/>
            <a:ext cx="17784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869160" y="3808440"/>
            <a:ext cx="181080" cy="18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53000" y="417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112160" y="3413160"/>
            <a:ext cx="18072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066080" y="3571920"/>
            <a:ext cx="177840" cy="18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977160" y="3664080"/>
            <a:ext cx="17784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707160" y="3390840"/>
            <a:ext cx="181080" cy="1857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2520" y="3273480"/>
            <a:ext cx="179640" cy="1857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313160" y="3807000"/>
            <a:ext cx="158400" cy="183600"/>
            <a:chOff x="4313160" y="3807000"/>
            <a:chExt cx="158400" cy="183600"/>
          </a:xfrm>
        </p:grpSpPr>
        <p:sp>
          <p:nvSpPr>
            <p:cNvPr id="778" name=""/>
            <p:cNvSpPr/>
            <p:nvPr/>
          </p:nvSpPr>
          <p:spPr>
            <a:xfrm>
              <a:off x="4313160" y="3807000"/>
              <a:ext cx="158400" cy="183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13160" y="3807000"/>
              <a:ext cx="158400" cy="1836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033800" y="1900080"/>
            <a:ext cx="1817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237200" y="200340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regions alread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36840" y="22510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laced at sa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33960" y="24969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673520" y="24969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5372280" y="3335400"/>
            <a:ext cx="180360" cy="185400"/>
            <a:chOff x="5372280" y="3335400"/>
            <a:chExt cx="180360" cy="185400"/>
          </a:xfrm>
        </p:grpSpPr>
        <p:sp>
          <p:nvSpPr>
            <p:cNvPr id="786" name=""/>
            <p:cNvSpPr/>
            <p:nvPr/>
          </p:nvSpPr>
          <p:spPr>
            <a:xfrm>
              <a:off x="5372280" y="3335400"/>
              <a:ext cx="180360" cy="185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72280" y="3335400"/>
              <a:ext cx="180360" cy="1854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272280" y="1941480"/>
            <a:ext cx="180720" cy="185400"/>
            <a:chOff x="6272280" y="1941480"/>
            <a:chExt cx="180720" cy="185400"/>
          </a:xfrm>
        </p:grpSpPr>
        <p:sp>
          <p:nvSpPr>
            <p:cNvPr id="789" name=""/>
            <p:cNvSpPr/>
            <p:nvPr/>
          </p:nvSpPr>
          <p:spPr>
            <a:xfrm>
              <a:off x="6272280" y="1941480"/>
              <a:ext cx="180720" cy="185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72280" y="1941480"/>
              <a:ext cx="180720" cy="1854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6593040" y="2104920"/>
            <a:ext cx="177120" cy="185400"/>
            <a:chOff x="6593040" y="2104920"/>
            <a:chExt cx="177120" cy="185400"/>
          </a:xfrm>
        </p:grpSpPr>
        <p:sp>
          <p:nvSpPr>
            <p:cNvPr id="792" name=""/>
            <p:cNvSpPr/>
            <p:nvPr/>
          </p:nvSpPr>
          <p:spPr>
            <a:xfrm>
              <a:off x="6593040" y="2104920"/>
              <a:ext cx="177120" cy="185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93040" y="2104920"/>
              <a:ext cx="177120" cy="1854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210440" y="1471680"/>
            <a:ext cx="180720" cy="183600"/>
            <a:chOff x="7210440" y="1471680"/>
            <a:chExt cx="180720" cy="183600"/>
          </a:xfrm>
        </p:grpSpPr>
        <p:sp>
          <p:nvSpPr>
            <p:cNvPr id="795" name=""/>
            <p:cNvSpPr/>
            <p:nvPr/>
          </p:nvSpPr>
          <p:spPr>
            <a:xfrm>
              <a:off x="7210440" y="1471680"/>
              <a:ext cx="180720" cy="183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10440" y="1471680"/>
              <a:ext cx="180720" cy="1836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550280" y="2104920"/>
            <a:ext cx="180360" cy="185400"/>
            <a:chOff x="7550280" y="2104920"/>
            <a:chExt cx="180360" cy="185400"/>
          </a:xfrm>
        </p:grpSpPr>
        <p:sp>
          <p:nvSpPr>
            <p:cNvPr id="798" name=""/>
            <p:cNvSpPr/>
            <p:nvPr/>
          </p:nvSpPr>
          <p:spPr>
            <a:xfrm>
              <a:off x="7550280" y="2104920"/>
              <a:ext cx="180360" cy="185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50280" y="2104920"/>
              <a:ext cx="180360" cy="1854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781680" y="3714840"/>
            <a:ext cx="177840" cy="18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37280" y="5828040"/>
            <a:ext cx="1666800" cy="243720"/>
            <a:chOff x="6137280" y="5828040"/>
            <a:chExt cx="1666800" cy="243720"/>
          </a:xfrm>
        </p:grpSpPr>
        <p:sp>
          <p:nvSpPr>
            <p:cNvPr id="802" name=""/>
            <p:cNvSpPr/>
            <p:nvPr/>
          </p:nvSpPr>
          <p:spPr>
            <a:xfrm>
              <a:off x="6137280" y="5859360"/>
              <a:ext cx="181080" cy="1828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64160" y="5828040"/>
              <a:ext cx="133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135840" y="5002560"/>
            <a:ext cx="2271600" cy="243720"/>
            <a:chOff x="6135840" y="5002560"/>
            <a:chExt cx="2271600" cy="243720"/>
          </a:xfrm>
        </p:grpSpPr>
        <p:grpSp>
          <p:nvGrpSpPr>
            <p:cNvPr id="805" name=""/>
            <p:cNvGrpSpPr/>
            <p:nvPr/>
          </p:nvGrpSpPr>
          <p:grpSpPr>
            <a:xfrm>
              <a:off x="6135840" y="5032440"/>
              <a:ext cx="180360" cy="182160"/>
              <a:chOff x="6135840" y="5032440"/>
              <a:chExt cx="180360" cy="182160"/>
            </a:xfrm>
          </p:grpSpPr>
          <p:sp>
            <p:nvSpPr>
              <p:cNvPr id="806" name=""/>
              <p:cNvSpPr/>
              <p:nvPr/>
            </p:nvSpPr>
            <p:spPr>
              <a:xfrm>
                <a:off x="6135840" y="5032440"/>
                <a:ext cx="180360" cy="182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135840" y="5032440"/>
                <a:ext cx="180360" cy="182160"/>
              </a:xfrm>
              <a:prstGeom prst="ellipse">
                <a:avLst/>
              </a:prstGeom>
              <a:solidFill>
                <a:srgbClr val="ff00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6464160" y="5002560"/>
              <a:ext cx="19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tical 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135840" y="5277240"/>
            <a:ext cx="2447640" cy="243720"/>
            <a:chOff x="6135840" y="5277240"/>
            <a:chExt cx="2447640" cy="243720"/>
          </a:xfrm>
        </p:grpSpPr>
        <p:grpSp>
          <p:nvGrpSpPr>
            <p:cNvPr id="810" name=""/>
            <p:cNvGrpSpPr/>
            <p:nvPr/>
          </p:nvGrpSpPr>
          <p:grpSpPr>
            <a:xfrm>
              <a:off x="6135840" y="5307120"/>
              <a:ext cx="180360" cy="182160"/>
              <a:chOff x="6135840" y="5307120"/>
              <a:chExt cx="180360" cy="182160"/>
            </a:xfrm>
          </p:grpSpPr>
          <p:sp>
            <p:nvSpPr>
              <p:cNvPr id="811" name=""/>
              <p:cNvSpPr/>
              <p:nvPr/>
            </p:nvSpPr>
            <p:spPr>
              <a:xfrm>
                <a:off x="6135840" y="5307120"/>
                <a:ext cx="180360" cy="1821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135840" y="5307120"/>
                <a:ext cx="180360" cy="182160"/>
              </a:xfrm>
              <a:prstGeom prst="ellipse">
                <a:avLst/>
              </a:prstGeom>
              <a:solidFill>
                <a:srgbClr val="3333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6464160" y="5277240"/>
              <a:ext cx="21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critical 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137280" y="5551920"/>
            <a:ext cx="1666800" cy="243720"/>
            <a:chOff x="6137280" y="5551920"/>
            <a:chExt cx="1666800" cy="243720"/>
          </a:xfrm>
        </p:grpSpPr>
        <p:sp>
          <p:nvSpPr>
            <p:cNvPr id="815" name=""/>
            <p:cNvSpPr/>
            <p:nvPr/>
          </p:nvSpPr>
          <p:spPr>
            <a:xfrm>
              <a:off x="6137280" y="5583240"/>
              <a:ext cx="181080" cy="1825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64160" y="5551920"/>
              <a:ext cx="133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7" name=""/>
          <p:cNvCxnSpPr>
            <a:stCxn id="779" idx="6"/>
            <a:endCxn id="800" idx="2"/>
          </p:cNvCxnSpPr>
          <p:nvPr/>
        </p:nvCxnSpPr>
        <p:spPr>
          <a:xfrm flipV="1">
            <a:off x="4478040" y="3806280"/>
            <a:ext cx="2289960" cy="9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18" name=""/>
          <p:cNvCxnSpPr>
            <a:stCxn id="787" idx="6"/>
            <a:endCxn id="769" idx="2"/>
          </p:cNvCxnSpPr>
          <p:nvPr/>
        </p:nvCxnSpPr>
        <p:spPr>
          <a:xfrm>
            <a:off x="5559120" y="3429000"/>
            <a:ext cx="1137240" cy="26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19" name=""/>
          <p:cNvCxnSpPr>
            <a:stCxn id="790" idx="4"/>
            <a:endCxn id="775" idx="1"/>
          </p:cNvCxnSpPr>
          <p:nvPr/>
        </p:nvCxnSpPr>
        <p:spPr>
          <a:xfrm>
            <a:off x="6362640" y="2133360"/>
            <a:ext cx="372240" cy="1278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20" name=""/>
          <p:cNvCxnSpPr>
            <a:stCxn id="793" idx="4"/>
            <a:endCxn id="768" idx="0"/>
          </p:cNvCxnSpPr>
          <p:nvPr/>
        </p:nvCxnSpPr>
        <p:spPr>
          <a:xfrm>
            <a:off x="6681960" y="2297160"/>
            <a:ext cx="181440" cy="9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796" idx="4"/>
            <a:endCxn id="776" idx="0"/>
          </p:cNvCxnSpPr>
          <p:nvPr/>
        </p:nvCxnSpPr>
        <p:spPr>
          <a:xfrm flipH="1">
            <a:off x="7022520" y="1662120"/>
            <a:ext cx="278280" cy="1605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22" name=""/>
          <p:cNvCxnSpPr>
            <a:stCxn id="767" idx="7"/>
            <a:endCxn id="799" idx="3"/>
          </p:cNvCxnSpPr>
          <p:nvPr/>
        </p:nvCxnSpPr>
        <p:spPr>
          <a:xfrm flipV="1">
            <a:off x="7066080" y="2270160"/>
            <a:ext cx="511920" cy="120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7410600" y="480996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643800" y="472608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248680" y="409248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248680" y="365292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248680" y="326700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6" idx="2"/>
            <a:endCxn id="773" idx="6"/>
          </p:cNvCxnSpPr>
          <p:nvPr/>
        </p:nvCxnSpPr>
        <p:spPr>
          <a:xfrm flipH="1" flipV="1">
            <a:off x="7257600" y="3663360"/>
            <a:ext cx="991440" cy="51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29" name=""/>
          <p:cNvCxnSpPr>
            <a:stCxn id="825" idx="2"/>
            <a:endCxn id="774" idx="6"/>
          </p:cNvCxnSpPr>
          <p:nvPr/>
        </p:nvCxnSpPr>
        <p:spPr>
          <a:xfrm flipH="1" flipV="1">
            <a:off x="7168320" y="3755160"/>
            <a:ext cx="1080360" cy="399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0" name=""/>
          <p:cNvCxnSpPr>
            <a:stCxn id="824" idx="0"/>
            <a:endCxn id="770" idx="3"/>
          </p:cNvCxnSpPr>
          <p:nvPr/>
        </p:nvCxnSpPr>
        <p:spPr>
          <a:xfrm flipV="1">
            <a:off x="6722640" y="3979080"/>
            <a:ext cx="1738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23" idx="0"/>
            <a:endCxn id="774" idx="4"/>
          </p:cNvCxnSpPr>
          <p:nvPr/>
        </p:nvCxnSpPr>
        <p:spPr>
          <a:xfrm flipH="1" flipV="1">
            <a:off x="7065360" y="3859920"/>
            <a:ext cx="424440" cy="95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2" name=""/>
          <p:cNvCxnSpPr>
            <a:stCxn id="772" idx="6"/>
            <a:endCxn id="827" idx="2"/>
          </p:cNvCxnSpPr>
          <p:nvPr/>
        </p:nvCxnSpPr>
        <p:spPr>
          <a:xfrm flipV="1">
            <a:off x="7306920" y="3328920"/>
            <a:ext cx="942120" cy="1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3" name=""/>
          <p:cNvCxnSpPr>
            <a:stCxn id="746" idx="0"/>
            <a:endCxn id="746" idx="2"/>
          </p:cNvCxnSpPr>
          <p:nvPr/>
        </p:nvCxnSpPr>
        <p:spPr>
          <a:xfrm>
            <a:off x="6981480" y="2577960"/>
            <a:ext cx="1080" cy="194400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834" name=""/>
          <p:cNvSpPr/>
          <p:nvPr/>
        </p:nvSpPr>
        <p:spPr>
          <a:xfrm flipH="1" flipV="1">
            <a:off x="6332400" y="3293640"/>
            <a:ext cx="401760" cy="1652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7032600" y="3089160"/>
            <a:ext cx="558720" cy="24624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55F2-FD1E-400F-A689-FCA690AF8608}" type="slidenum">
              <a:t>14</a:t>
            </a:fld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lignment Detail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a nod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n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iming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in the s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as th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913200" y="1370160"/>
            <a:ext cx="4176720" cy="4506840"/>
          </a:xfrm>
          <a:custGeom>
            <a:avLst/>
            <a:gdLst/>
            <a:ahLst/>
            <a:rect l="l" t="t" r="r" b="b"/>
            <a:pathLst>
              <a:path w="1941" h="2047">
                <a:moveTo>
                  <a:pt x="901" y="549"/>
                </a:moveTo>
                <a:lnTo>
                  <a:pt x="901" y="2047"/>
                </a:lnTo>
                <a:lnTo>
                  <a:pt x="372" y="2000"/>
                </a:lnTo>
                <a:lnTo>
                  <a:pt x="0" y="1563"/>
                </a:lnTo>
                <a:lnTo>
                  <a:pt x="28" y="474"/>
                </a:lnTo>
                <a:lnTo>
                  <a:pt x="288" y="55"/>
                </a:lnTo>
                <a:lnTo>
                  <a:pt x="845" y="0"/>
                </a:lnTo>
                <a:lnTo>
                  <a:pt x="1941" y="18"/>
                </a:lnTo>
                <a:lnTo>
                  <a:pt x="1932" y="549"/>
                </a:lnTo>
                <a:lnTo>
                  <a:pt x="901" y="54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851440" y="45640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851440" y="470700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851440" y="484992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51440" y="499284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51440" y="513864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851440" y="528156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851440" y="5424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851440" y="556740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851440" y="57117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772240" y="5854680"/>
            <a:ext cx="79200" cy="41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19"/>
                </a:moveTo>
                <a:lnTo>
                  <a:pt x="37" y="10"/>
                </a:lnTo>
                <a:lnTo>
                  <a:pt x="37" y="1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632560" y="5854680"/>
            <a:ext cx="98280" cy="22320"/>
          </a:xfrm>
          <a:custGeom>
            <a:avLst/>
            <a:gdLst/>
            <a:ahLst/>
            <a:rect l="l" t="t" r="r" b="b"/>
            <a:pathLst>
              <a:path w="46" h="10">
                <a:moveTo>
                  <a:pt x="37" y="10"/>
                </a:moveTo>
                <a:lnTo>
                  <a:pt x="46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492880" y="5834160"/>
            <a:ext cx="98280" cy="2052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53200" y="5815080"/>
            <a:ext cx="98280" cy="39600"/>
          </a:xfrm>
          <a:custGeom>
            <a:avLst/>
            <a:gdLst/>
            <a:ahLst/>
            <a:rect l="l" t="t" r="r" b="b"/>
            <a:pathLst>
              <a:path w="46" h="18">
                <a:moveTo>
                  <a:pt x="37" y="18"/>
                </a:moveTo>
                <a:lnTo>
                  <a:pt x="46" y="9"/>
                </a:lnTo>
                <a:lnTo>
                  <a:pt x="37" y="9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13520" y="5815080"/>
            <a:ext cx="98280" cy="1908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73480" y="5792760"/>
            <a:ext cx="98640" cy="22320"/>
          </a:xfrm>
          <a:custGeom>
            <a:avLst/>
            <a:gdLst/>
            <a:ahLst/>
            <a:rect l="l" t="t" r="r" b="b"/>
            <a:pathLst>
              <a:path w="46" h="10">
                <a:moveTo>
                  <a:pt x="37" y="10"/>
                </a:moveTo>
                <a:lnTo>
                  <a:pt x="46" y="10"/>
                </a:lnTo>
                <a:lnTo>
                  <a:pt x="37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933800" y="5772240"/>
            <a:ext cx="98640" cy="42840"/>
          </a:xfrm>
          <a:custGeom>
            <a:avLst/>
            <a:gdLst/>
            <a:ahLst/>
            <a:rect l="l" t="t" r="r" b="b"/>
            <a:pathLst>
              <a:path w="46" h="19">
                <a:moveTo>
                  <a:pt x="37" y="19"/>
                </a:moveTo>
                <a:lnTo>
                  <a:pt x="46" y="9"/>
                </a:lnTo>
                <a:lnTo>
                  <a:pt x="37" y="9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92680" y="5772240"/>
            <a:ext cx="100080" cy="2052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72080" y="5711760"/>
            <a:ext cx="8100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37" y="28"/>
                </a:lnTo>
                <a:lnTo>
                  <a:pt x="28" y="28"/>
                </a:lnTo>
                <a:lnTo>
                  <a:pt x="19" y="28"/>
                </a:lnTo>
                <a:lnTo>
                  <a:pt x="19" y="28"/>
                </a:lnTo>
                <a:lnTo>
                  <a:pt x="28" y="28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19" y="28"/>
                </a:lnTo>
                <a:lnTo>
                  <a:pt x="19" y="37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573440" y="5610240"/>
            <a:ext cx="7956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494240" y="5506920"/>
            <a:ext cx="58680" cy="81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8" y="28"/>
                </a:moveTo>
                <a:lnTo>
                  <a:pt x="27" y="37"/>
                </a:lnTo>
                <a:lnTo>
                  <a:pt x="27" y="28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392720" y="5383080"/>
            <a:ext cx="7920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313160" y="5281560"/>
            <a:ext cx="60480" cy="81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19" y="37"/>
                </a:moveTo>
                <a:lnTo>
                  <a:pt x="28" y="37"/>
                </a:lnTo>
                <a:lnTo>
                  <a:pt x="28" y="37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1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14880" y="5178600"/>
            <a:ext cx="79200" cy="80640"/>
          </a:xfrm>
          <a:custGeom>
            <a:avLst/>
            <a:gdLst/>
            <a:ahLst/>
            <a:rect l="l" t="t" r="r" b="b"/>
            <a:pathLst>
              <a:path w="37" h="37">
                <a:moveTo>
                  <a:pt x="27" y="28"/>
                </a:moveTo>
                <a:lnTo>
                  <a:pt x="27" y="37"/>
                </a:lnTo>
                <a:lnTo>
                  <a:pt x="37" y="28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2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113360" y="5054760"/>
            <a:ext cx="79200" cy="83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28" y="38"/>
                </a:moveTo>
                <a:lnTo>
                  <a:pt x="37" y="38"/>
                </a:lnTo>
                <a:lnTo>
                  <a:pt x="37" y="38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28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3800" y="4954680"/>
            <a:ext cx="7956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935520" y="4849920"/>
            <a:ext cx="79200" cy="83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27" y="28"/>
                </a:moveTo>
                <a:lnTo>
                  <a:pt x="27" y="38"/>
                </a:lnTo>
                <a:lnTo>
                  <a:pt x="37" y="28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2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913200" y="4707000"/>
            <a:ext cx="22320" cy="102960"/>
          </a:xfrm>
          <a:custGeom>
            <a:avLst/>
            <a:gdLst/>
            <a:ahLst/>
            <a:rect l="l" t="t" r="r" b="b"/>
            <a:pathLst>
              <a:path w="10" h="47">
                <a:moveTo>
                  <a:pt x="0" y="47"/>
                </a:moveTo>
                <a:lnTo>
                  <a:pt x="0" y="47"/>
                </a:lnTo>
                <a:lnTo>
                  <a:pt x="10" y="47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913200" y="4564080"/>
            <a:ext cx="22320" cy="103320"/>
          </a:xfrm>
          <a:custGeom>
            <a:avLst/>
            <a:gdLst/>
            <a:ahLst/>
            <a:rect l="l" t="t" r="r" b="b"/>
            <a:pathLst>
              <a:path w="10" h="47">
                <a:moveTo>
                  <a:pt x="0" y="47"/>
                </a:moveTo>
                <a:lnTo>
                  <a:pt x="0" y="47"/>
                </a:lnTo>
                <a:lnTo>
                  <a:pt x="10" y="47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913200" y="4421160"/>
            <a:ext cx="22320" cy="10152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0" y="46"/>
                </a:lnTo>
                <a:lnTo>
                  <a:pt x="10" y="46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13200" y="4278240"/>
            <a:ext cx="22320" cy="10152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0" y="9"/>
                </a:lnTo>
                <a:lnTo>
                  <a:pt x="1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913200" y="4135320"/>
            <a:ext cx="22320" cy="100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0" y="9"/>
                </a:lnTo>
                <a:lnTo>
                  <a:pt x="1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913200" y="3992400"/>
            <a:ext cx="41400" cy="100080"/>
          </a:xfrm>
          <a:custGeom>
            <a:avLst/>
            <a:gdLst/>
            <a:ahLst/>
            <a:rect l="l" t="t" r="r" b="b"/>
            <a:pathLst>
              <a:path w="19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9" y="9"/>
                </a:lnTo>
                <a:lnTo>
                  <a:pt x="10" y="0"/>
                </a:lnTo>
                <a:lnTo>
                  <a:pt x="1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935520" y="384660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35520" y="37036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935520" y="35607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35520" y="341784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935520" y="3273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935520" y="3130560"/>
            <a:ext cx="38160" cy="101520"/>
          </a:xfrm>
          <a:custGeom>
            <a:avLst/>
            <a:gdLst/>
            <a:ahLst/>
            <a:rect l="l" t="t" r="r" b="b"/>
            <a:pathLst>
              <a:path w="18" h="46">
                <a:moveTo>
                  <a:pt x="0" y="46"/>
                </a:moveTo>
                <a:lnTo>
                  <a:pt x="9" y="46"/>
                </a:lnTo>
                <a:lnTo>
                  <a:pt x="9" y="46"/>
                </a:lnTo>
                <a:lnTo>
                  <a:pt x="18" y="9"/>
                </a:lnTo>
                <a:lnTo>
                  <a:pt x="9" y="0"/>
                </a:lnTo>
                <a:lnTo>
                  <a:pt x="9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954600" y="298764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954600" y="284328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54600" y="27003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954600" y="255600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954600" y="241308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992400" y="2290680"/>
            <a:ext cx="60480" cy="1033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37"/>
                </a:moveTo>
                <a:lnTo>
                  <a:pt x="0" y="47"/>
                </a:lnTo>
                <a:lnTo>
                  <a:pt x="10" y="37"/>
                </a:lnTo>
                <a:lnTo>
                  <a:pt x="28" y="10"/>
                </a:lnTo>
                <a:lnTo>
                  <a:pt x="19" y="0"/>
                </a:lnTo>
                <a:lnTo>
                  <a:pt x="19" y="1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052880" y="2166840"/>
            <a:ext cx="60480" cy="1033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38"/>
                </a:moveTo>
                <a:lnTo>
                  <a:pt x="10" y="47"/>
                </a:lnTo>
                <a:lnTo>
                  <a:pt x="10" y="38"/>
                </a:lnTo>
                <a:lnTo>
                  <a:pt x="28" y="10"/>
                </a:lnTo>
                <a:lnTo>
                  <a:pt x="28" y="0"/>
                </a:lnTo>
                <a:lnTo>
                  <a:pt x="19" y="1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132440" y="2046240"/>
            <a:ext cx="60120" cy="10008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37"/>
                </a:moveTo>
                <a:lnTo>
                  <a:pt x="0" y="46"/>
                </a:lnTo>
                <a:lnTo>
                  <a:pt x="10" y="37"/>
                </a:lnTo>
                <a:lnTo>
                  <a:pt x="28" y="9"/>
                </a:lnTo>
                <a:lnTo>
                  <a:pt x="28" y="0"/>
                </a:lnTo>
                <a:lnTo>
                  <a:pt x="19" y="9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214880" y="1943280"/>
            <a:ext cx="57240" cy="80640"/>
          </a:xfrm>
          <a:custGeom>
            <a:avLst/>
            <a:gdLst/>
            <a:ahLst/>
            <a:rect l="l" t="t" r="r" b="b"/>
            <a:pathLst>
              <a:path w="27" h="37">
                <a:moveTo>
                  <a:pt x="0" y="28"/>
                </a:moveTo>
                <a:lnTo>
                  <a:pt x="0" y="37"/>
                </a:lnTo>
                <a:lnTo>
                  <a:pt x="9" y="28"/>
                </a:lnTo>
                <a:lnTo>
                  <a:pt x="27" y="0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72120" y="1819440"/>
            <a:ext cx="60120" cy="8064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10" y="37"/>
                </a:lnTo>
                <a:lnTo>
                  <a:pt x="10" y="37"/>
                </a:lnTo>
                <a:lnTo>
                  <a:pt x="28" y="0"/>
                </a:lnTo>
                <a:lnTo>
                  <a:pt x="28" y="0"/>
                </a:lnTo>
                <a:lnTo>
                  <a:pt x="19" y="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54560" y="1695600"/>
            <a:ext cx="57240" cy="83880"/>
          </a:xfrm>
          <a:custGeom>
            <a:avLst/>
            <a:gdLst/>
            <a:ahLst/>
            <a:rect l="l" t="t" r="r" b="b"/>
            <a:pathLst>
              <a:path w="27" h="38">
                <a:moveTo>
                  <a:pt x="0" y="38"/>
                </a:moveTo>
                <a:lnTo>
                  <a:pt x="9" y="38"/>
                </a:lnTo>
                <a:lnTo>
                  <a:pt x="9" y="38"/>
                </a:lnTo>
                <a:lnTo>
                  <a:pt x="27" y="0"/>
                </a:lnTo>
                <a:lnTo>
                  <a:pt x="27" y="0"/>
                </a:lnTo>
                <a:lnTo>
                  <a:pt x="18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433760" y="1574640"/>
            <a:ext cx="60480" cy="81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0" y="37"/>
                </a:lnTo>
                <a:lnTo>
                  <a:pt x="9" y="37"/>
                </a:lnTo>
                <a:lnTo>
                  <a:pt x="28" y="0"/>
                </a:lnTo>
                <a:lnTo>
                  <a:pt x="18" y="0"/>
                </a:lnTo>
                <a:lnTo>
                  <a:pt x="18" y="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94240" y="1471680"/>
            <a:ext cx="98280" cy="6192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28"/>
                </a:moveTo>
                <a:lnTo>
                  <a:pt x="9" y="28"/>
                </a:lnTo>
                <a:lnTo>
                  <a:pt x="9" y="28"/>
                </a:lnTo>
                <a:lnTo>
                  <a:pt x="27" y="9"/>
                </a:lnTo>
                <a:lnTo>
                  <a:pt x="18" y="9"/>
                </a:lnTo>
                <a:lnTo>
                  <a:pt x="18" y="19"/>
                </a:lnTo>
                <a:lnTo>
                  <a:pt x="37" y="9"/>
                </a:lnTo>
                <a:lnTo>
                  <a:pt x="46" y="9"/>
                </a:lnTo>
                <a:lnTo>
                  <a:pt x="37" y="0"/>
                </a:lnTo>
                <a:lnTo>
                  <a:pt x="18" y="9"/>
                </a:lnTo>
                <a:lnTo>
                  <a:pt x="18" y="9"/>
                </a:lnTo>
                <a:lnTo>
                  <a:pt x="18" y="9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633920" y="1471680"/>
            <a:ext cx="79200" cy="19080"/>
          </a:xfrm>
          <a:custGeom>
            <a:avLst/>
            <a:gdLst/>
            <a:ahLst/>
            <a:rect l="l" t="t" r="r" b="b"/>
            <a:pathLst>
              <a:path w="37" h="9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753080" y="1450800"/>
            <a:ext cx="10008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92760" y="1428840"/>
            <a:ext cx="100080" cy="42840"/>
          </a:xfrm>
          <a:custGeom>
            <a:avLst/>
            <a:gdLst/>
            <a:ahLst/>
            <a:rect l="l" t="t" r="r" b="b"/>
            <a:pathLst>
              <a:path w="47" h="19">
                <a:moveTo>
                  <a:pt x="10" y="10"/>
                </a:moveTo>
                <a:lnTo>
                  <a:pt x="0" y="10"/>
                </a:lnTo>
                <a:lnTo>
                  <a:pt x="10" y="19"/>
                </a:lnTo>
                <a:lnTo>
                  <a:pt x="47" y="10"/>
                </a:lnTo>
                <a:lnTo>
                  <a:pt x="47" y="10"/>
                </a:lnTo>
                <a:lnTo>
                  <a:pt x="47" y="0"/>
                </a:lnTo>
                <a:lnTo>
                  <a:pt x="1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32440" y="1428840"/>
            <a:ext cx="101520" cy="21960"/>
          </a:xfrm>
          <a:custGeom>
            <a:avLst/>
            <a:gdLst/>
            <a:ahLst/>
            <a:rect l="l" t="t" r="r" b="b"/>
            <a:pathLst>
              <a:path w="47" h="10">
                <a:moveTo>
                  <a:pt x="10" y="0"/>
                </a:moveTo>
                <a:lnTo>
                  <a:pt x="0" y="0"/>
                </a:lnTo>
                <a:lnTo>
                  <a:pt x="10" y="10"/>
                </a:lnTo>
                <a:lnTo>
                  <a:pt x="47" y="10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2120" y="14097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311800" y="138924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10" y="9"/>
                </a:moveTo>
                <a:lnTo>
                  <a:pt x="0" y="9"/>
                </a:lnTo>
                <a:lnTo>
                  <a:pt x="10" y="18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451480" y="137016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10" y="9"/>
                </a:moveTo>
                <a:lnTo>
                  <a:pt x="0" y="9"/>
                </a:lnTo>
                <a:lnTo>
                  <a:pt x="10" y="18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59116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73084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7052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012000" y="1370160"/>
            <a:ext cx="997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151680" y="1370160"/>
            <a:ext cx="997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29136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43104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57072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1040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50080" y="137016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18"/>
                </a:lnTo>
                <a:lnTo>
                  <a:pt x="47" y="9"/>
                </a:lnTo>
                <a:lnTo>
                  <a:pt x="47" y="9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98976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12944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27092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41060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55028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68996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82964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96932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070840" y="142884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8070840" y="1574640"/>
            <a:ext cx="19080" cy="1018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070840" y="1717560"/>
            <a:ext cx="19080" cy="1018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070840" y="1860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70840" y="200340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70840" y="214632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070840" y="22906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070840" y="243360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8296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899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55028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41060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27092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1294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897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85008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71040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57072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310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2913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15168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01200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872320" y="2577960"/>
            <a:ext cx="2219040" cy="1943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872480" y="2577960"/>
            <a:ext cx="79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731000" y="2577960"/>
            <a:ext cx="81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5913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45164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31196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17228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03260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929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53240" y="2577960"/>
            <a:ext cx="79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611760" y="2577960"/>
            <a:ext cx="81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47208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3240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1927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05304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2085840"/>
            <a:ext cx="1440" cy="381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0440" y="1593720"/>
            <a:ext cx="1800" cy="338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391000" y="2577960"/>
            <a:ext cx="31989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391000" y="4543560"/>
            <a:ext cx="31989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8570880" y="4543560"/>
            <a:ext cx="31752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70600" y="3294000"/>
            <a:ext cx="619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913440" y="3459240"/>
            <a:ext cx="17784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773760" y="3232080"/>
            <a:ext cx="17784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10400" y="3598920"/>
            <a:ext cx="17784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69160" y="3808440"/>
            <a:ext cx="181080" cy="18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453000" y="417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112160" y="3413160"/>
            <a:ext cx="18072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066080" y="3571920"/>
            <a:ext cx="177840" cy="18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977160" y="3664080"/>
            <a:ext cx="17784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61200" y="3271680"/>
            <a:ext cx="180720" cy="1857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311960" y="3198960"/>
            <a:ext cx="179280" cy="1857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313160" y="3807000"/>
            <a:ext cx="158400" cy="183600"/>
            <a:chOff x="4313160" y="3807000"/>
            <a:chExt cx="158400" cy="183600"/>
          </a:xfrm>
        </p:grpSpPr>
        <p:sp>
          <p:nvSpPr>
            <p:cNvPr id="970" name=""/>
            <p:cNvSpPr/>
            <p:nvPr/>
          </p:nvSpPr>
          <p:spPr>
            <a:xfrm>
              <a:off x="4313160" y="3807000"/>
              <a:ext cx="158400" cy="183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313160" y="3807000"/>
              <a:ext cx="158400" cy="1836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4033800" y="1900080"/>
            <a:ext cx="1817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237200" y="200340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regions alread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236840" y="22510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laced at sa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233960" y="24969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673520" y="24969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5372280" y="3335400"/>
            <a:ext cx="180360" cy="185400"/>
            <a:chOff x="5372280" y="3335400"/>
            <a:chExt cx="180360" cy="185400"/>
          </a:xfrm>
        </p:grpSpPr>
        <p:sp>
          <p:nvSpPr>
            <p:cNvPr id="978" name=""/>
            <p:cNvSpPr/>
            <p:nvPr/>
          </p:nvSpPr>
          <p:spPr>
            <a:xfrm>
              <a:off x="5372280" y="3335400"/>
              <a:ext cx="180360" cy="185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372280" y="3335400"/>
              <a:ext cx="180360" cy="1854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6272280" y="1941480"/>
            <a:ext cx="180720" cy="185400"/>
            <a:chOff x="6272280" y="1941480"/>
            <a:chExt cx="180720" cy="185400"/>
          </a:xfrm>
        </p:grpSpPr>
        <p:sp>
          <p:nvSpPr>
            <p:cNvPr id="981" name=""/>
            <p:cNvSpPr/>
            <p:nvPr/>
          </p:nvSpPr>
          <p:spPr>
            <a:xfrm>
              <a:off x="6272280" y="1941480"/>
              <a:ext cx="180720" cy="185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272280" y="1941480"/>
              <a:ext cx="180720" cy="1854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593040" y="2104920"/>
            <a:ext cx="177120" cy="185400"/>
            <a:chOff x="6593040" y="2104920"/>
            <a:chExt cx="177120" cy="185400"/>
          </a:xfrm>
        </p:grpSpPr>
        <p:sp>
          <p:nvSpPr>
            <p:cNvPr id="984" name=""/>
            <p:cNvSpPr/>
            <p:nvPr/>
          </p:nvSpPr>
          <p:spPr>
            <a:xfrm>
              <a:off x="6593040" y="2104920"/>
              <a:ext cx="177120" cy="185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93040" y="2104920"/>
              <a:ext cx="177120" cy="1854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210440" y="1471680"/>
            <a:ext cx="180720" cy="183600"/>
            <a:chOff x="7210440" y="1471680"/>
            <a:chExt cx="180720" cy="183600"/>
          </a:xfrm>
        </p:grpSpPr>
        <p:sp>
          <p:nvSpPr>
            <p:cNvPr id="987" name=""/>
            <p:cNvSpPr/>
            <p:nvPr/>
          </p:nvSpPr>
          <p:spPr>
            <a:xfrm>
              <a:off x="7210440" y="1471680"/>
              <a:ext cx="180720" cy="183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0440" y="1471680"/>
              <a:ext cx="180720" cy="1836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7550280" y="2104920"/>
            <a:ext cx="180360" cy="185400"/>
            <a:chOff x="7550280" y="2104920"/>
            <a:chExt cx="180360" cy="185400"/>
          </a:xfrm>
        </p:grpSpPr>
        <p:sp>
          <p:nvSpPr>
            <p:cNvPr id="990" name=""/>
            <p:cNvSpPr/>
            <p:nvPr/>
          </p:nvSpPr>
          <p:spPr>
            <a:xfrm>
              <a:off x="7550280" y="2104920"/>
              <a:ext cx="180360" cy="185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550280" y="2104920"/>
              <a:ext cx="180360" cy="1854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6781680" y="3714840"/>
            <a:ext cx="177840" cy="18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137280" y="5828040"/>
            <a:ext cx="1666800" cy="243720"/>
            <a:chOff x="6137280" y="5828040"/>
            <a:chExt cx="1666800" cy="243720"/>
          </a:xfrm>
        </p:grpSpPr>
        <p:sp>
          <p:nvSpPr>
            <p:cNvPr id="994" name=""/>
            <p:cNvSpPr/>
            <p:nvPr/>
          </p:nvSpPr>
          <p:spPr>
            <a:xfrm>
              <a:off x="6137280" y="5859360"/>
              <a:ext cx="181080" cy="1828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464160" y="5828040"/>
              <a:ext cx="133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6135840" y="5002560"/>
            <a:ext cx="2271600" cy="243720"/>
            <a:chOff x="6135840" y="5002560"/>
            <a:chExt cx="2271600" cy="243720"/>
          </a:xfrm>
        </p:grpSpPr>
        <p:grpSp>
          <p:nvGrpSpPr>
            <p:cNvPr id="997" name=""/>
            <p:cNvGrpSpPr/>
            <p:nvPr/>
          </p:nvGrpSpPr>
          <p:grpSpPr>
            <a:xfrm>
              <a:off x="6135840" y="5032440"/>
              <a:ext cx="180360" cy="182160"/>
              <a:chOff x="6135840" y="5032440"/>
              <a:chExt cx="180360" cy="182160"/>
            </a:xfrm>
          </p:grpSpPr>
          <p:sp>
            <p:nvSpPr>
              <p:cNvPr id="998" name=""/>
              <p:cNvSpPr/>
              <p:nvPr/>
            </p:nvSpPr>
            <p:spPr>
              <a:xfrm>
                <a:off x="6135840" y="5032440"/>
                <a:ext cx="180360" cy="182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135840" y="5032440"/>
                <a:ext cx="180360" cy="182160"/>
              </a:xfrm>
              <a:prstGeom prst="ellipse">
                <a:avLst/>
              </a:prstGeom>
              <a:solidFill>
                <a:srgbClr val="ff00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6464160" y="5002560"/>
              <a:ext cx="19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tical 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135840" y="5277240"/>
            <a:ext cx="2447640" cy="243720"/>
            <a:chOff x="6135840" y="5277240"/>
            <a:chExt cx="2447640" cy="243720"/>
          </a:xfrm>
        </p:grpSpPr>
        <p:grpSp>
          <p:nvGrpSpPr>
            <p:cNvPr id="1002" name=""/>
            <p:cNvGrpSpPr/>
            <p:nvPr/>
          </p:nvGrpSpPr>
          <p:grpSpPr>
            <a:xfrm>
              <a:off x="6135840" y="5307120"/>
              <a:ext cx="180360" cy="182160"/>
              <a:chOff x="6135840" y="5307120"/>
              <a:chExt cx="180360" cy="182160"/>
            </a:xfrm>
          </p:grpSpPr>
          <p:sp>
            <p:nvSpPr>
              <p:cNvPr id="1003" name=""/>
              <p:cNvSpPr/>
              <p:nvPr/>
            </p:nvSpPr>
            <p:spPr>
              <a:xfrm>
                <a:off x="6135840" y="5307120"/>
                <a:ext cx="180360" cy="1821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135840" y="5307120"/>
                <a:ext cx="180360" cy="182160"/>
              </a:xfrm>
              <a:prstGeom prst="ellipse">
                <a:avLst/>
              </a:prstGeom>
              <a:solidFill>
                <a:srgbClr val="3333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6464160" y="5277240"/>
              <a:ext cx="21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critical 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6137280" y="5551920"/>
            <a:ext cx="1666800" cy="243720"/>
            <a:chOff x="6137280" y="5551920"/>
            <a:chExt cx="1666800" cy="243720"/>
          </a:xfrm>
        </p:grpSpPr>
        <p:sp>
          <p:nvSpPr>
            <p:cNvPr id="1007" name=""/>
            <p:cNvSpPr/>
            <p:nvPr/>
          </p:nvSpPr>
          <p:spPr>
            <a:xfrm>
              <a:off x="6137280" y="5583240"/>
              <a:ext cx="181080" cy="1825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64160" y="5551920"/>
              <a:ext cx="133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09" name=""/>
          <p:cNvCxnSpPr>
            <a:stCxn id="971" idx="6"/>
            <a:endCxn id="992" idx="2"/>
          </p:cNvCxnSpPr>
          <p:nvPr/>
        </p:nvCxnSpPr>
        <p:spPr>
          <a:xfrm flipV="1">
            <a:off x="4478040" y="3806280"/>
            <a:ext cx="2289960" cy="9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979" idx="6"/>
            <a:endCxn id="961" idx="2"/>
          </p:cNvCxnSpPr>
          <p:nvPr/>
        </p:nvCxnSpPr>
        <p:spPr>
          <a:xfrm>
            <a:off x="5559120" y="3429000"/>
            <a:ext cx="1137240" cy="26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982" idx="4"/>
            <a:endCxn id="967" idx="0"/>
          </p:cNvCxnSpPr>
          <p:nvPr/>
        </p:nvCxnSpPr>
        <p:spPr>
          <a:xfrm>
            <a:off x="6362280" y="2133720"/>
            <a:ext cx="89640" cy="1132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985" idx="4"/>
            <a:endCxn id="960" idx="0"/>
          </p:cNvCxnSpPr>
          <p:nvPr/>
        </p:nvCxnSpPr>
        <p:spPr>
          <a:xfrm>
            <a:off x="6681960" y="2297160"/>
            <a:ext cx="181440" cy="9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3" name=""/>
          <p:cNvCxnSpPr>
            <a:stCxn id="988" idx="4"/>
            <a:endCxn id="968" idx="0"/>
          </p:cNvCxnSpPr>
          <p:nvPr/>
        </p:nvCxnSpPr>
        <p:spPr>
          <a:xfrm>
            <a:off x="7300440" y="1661760"/>
            <a:ext cx="102600" cy="153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959" idx="7"/>
            <a:endCxn id="991" idx="3"/>
          </p:cNvCxnSpPr>
          <p:nvPr/>
        </p:nvCxnSpPr>
        <p:spPr>
          <a:xfrm flipV="1">
            <a:off x="7066080" y="2270160"/>
            <a:ext cx="511920" cy="120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5" name=""/>
          <p:cNvSpPr/>
          <p:nvPr/>
        </p:nvSpPr>
        <p:spPr>
          <a:xfrm>
            <a:off x="7410600" y="480996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3800" y="472608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248680" y="409248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248680" y="365292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248680" y="326700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"/>
          <p:cNvCxnSpPr>
            <a:stCxn id="1018" idx="2"/>
            <a:endCxn id="965" idx="6"/>
          </p:cNvCxnSpPr>
          <p:nvPr/>
        </p:nvCxnSpPr>
        <p:spPr>
          <a:xfrm flipH="1" flipV="1">
            <a:off x="7257600" y="3663360"/>
            <a:ext cx="991440" cy="51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17" idx="2"/>
            <a:endCxn id="966" idx="6"/>
          </p:cNvCxnSpPr>
          <p:nvPr/>
        </p:nvCxnSpPr>
        <p:spPr>
          <a:xfrm flipH="1" flipV="1">
            <a:off x="7168320" y="3755160"/>
            <a:ext cx="1080360" cy="399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2" name=""/>
          <p:cNvCxnSpPr>
            <a:stCxn id="1016" idx="0"/>
            <a:endCxn id="962" idx="3"/>
          </p:cNvCxnSpPr>
          <p:nvPr/>
        </p:nvCxnSpPr>
        <p:spPr>
          <a:xfrm flipV="1">
            <a:off x="6722640" y="3979080"/>
            <a:ext cx="1738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1015" idx="0"/>
            <a:endCxn id="966" idx="4"/>
          </p:cNvCxnSpPr>
          <p:nvPr/>
        </p:nvCxnSpPr>
        <p:spPr>
          <a:xfrm flipH="1" flipV="1">
            <a:off x="7065360" y="3859920"/>
            <a:ext cx="424440" cy="95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64" idx="6"/>
            <a:endCxn id="1019" idx="2"/>
          </p:cNvCxnSpPr>
          <p:nvPr/>
        </p:nvCxnSpPr>
        <p:spPr>
          <a:xfrm flipV="1">
            <a:off x="7306920" y="3328920"/>
            <a:ext cx="942120" cy="1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38" idx="0"/>
            <a:endCxn id="938" idx="2"/>
          </p:cNvCxnSpPr>
          <p:nvPr/>
        </p:nvCxnSpPr>
        <p:spPr>
          <a:xfrm>
            <a:off x="6981480" y="2577960"/>
            <a:ext cx="1080" cy="194400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71E1-7A69-4BFB-AB6F-339C8584CE04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lignment Detail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a nod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n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iming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in the s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as th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913200" y="1370160"/>
            <a:ext cx="4176720" cy="4506840"/>
          </a:xfrm>
          <a:custGeom>
            <a:avLst/>
            <a:gdLst/>
            <a:ahLst/>
            <a:rect l="l" t="t" r="r" b="b"/>
            <a:pathLst>
              <a:path w="1941" h="2047">
                <a:moveTo>
                  <a:pt x="901" y="549"/>
                </a:moveTo>
                <a:lnTo>
                  <a:pt x="901" y="2047"/>
                </a:lnTo>
                <a:lnTo>
                  <a:pt x="372" y="2000"/>
                </a:lnTo>
                <a:lnTo>
                  <a:pt x="0" y="1563"/>
                </a:lnTo>
                <a:lnTo>
                  <a:pt x="28" y="474"/>
                </a:lnTo>
                <a:lnTo>
                  <a:pt x="288" y="55"/>
                </a:lnTo>
                <a:lnTo>
                  <a:pt x="845" y="0"/>
                </a:lnTo>
                <a:lnTo>
                  <a:pt x="1941" y="18"/>
                </a:lnTo>
                <a:lnTo>
                  <a:pt x="1932" y="549"/>
                </a:lnTo>
                <a:lnTo>
                  <a:pt x="901" y="54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851440" y="45640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851440" y="470700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851440" y="484992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851440" y="499284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851440" y="513864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851440" y="528156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851440" y="5424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851440" y="556740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851440" y="57117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772240" y="5854680"/>
            <a:ext cx="79200" cy="4140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19"/>
                </a:moveTo>
                <a:lnTo>
                  <a:pt x="37" y="10"/>
                </a:lnTo>
                <a:lnTo>
                  <a:pt x="37" y="1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632560" y="5854680"/>
            <a:ext cx="98280" cy="22320"/>
          </a:xfrm>
          <a:custGeom>
            <a:avLst/>
            <a:gdLst/>
            <a:ahLst/>
            <a:rect l="l" t="t" r="r" b="b"/>
            <a:pathLst>
              <a:path w="46" h="10">
                <a:moveTo>
                  <a:pt x="37" y="10"/>
                </a:moveTo>
                <a:lnTo>
                  <a:pt x="46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92880" y="5834160"/>
            <a:ext cx="98280" cy="2052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353200" y="5815080"/>
            <a:ext cx="98280" cy="39600"/>
          </a:xfrm>
          <a:custGeom>
            <a:avLst/>
            <a:gdLst/>
            <a:ahLst/>
            <a:rect l="l" t="t" r="r" b="b"/>
            <a:pathLst>
              <a:path w="46" h="18">
                <a:moveTo>
                  <a:pt x="37" y="18"/>
                </a:moveTo>
                <a:lnTo>
                  <a:pt x="46" y="9"/>
                </a:lnTo>
                <a:lnTo>
                  <a:pt x="37" y="9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13520" y="5815080"/>
            <a:ext cx="98280" cy="1908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73480" y="5792760"/>
            <a:ext cx="98640" cy="22320"/>
          </a:xfrm>
          <a:custGeom>
            <a:avLst/>
            <a:gdLst/>
            <a:ahLst/>
            <a:rect l="l" t="t" r="r" b="b"/>
            <a:pathLst>
              <a:path w="46" h="10">
                <a:moveTo>
                  <a:pt x="37" y="10"/>
                </a:moveTo>
                <a:lnTo>
                  <a:pt x="46" y="10"/>
                </a:lnTo>
                <a:lnTo>
                  <a:pt x="37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933800" y="5772240"/>
            <a:ext cx="98640" cy="42840"/>
          </a:xfrm>
          <a:custGeom>
            <a:avLst/>
            <a:gdLst/>
            <a:ahLst/>
            <a:rect l="l" t="t" r="r" b="b"/>
            <a:pathLst>
              <a:path w="46" h="19">
                <a:moveTo>
                  <a:pt x="37" y="19"/>
                </a:moveTo>
                <a:lnTo>
                  <a:pt x="46" y="9"/>
                </a:lnTo>
                <a:lnTo>
                  <a:pt x="37" y="9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792680" y="5772240"/>
            <a:ext cx="100080" cy="2052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672080" y="5711760"/>
            <a:ext cx="8100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37" y="28"/>
                </a:lnTo>
                <a:lnTo>
                  <a:pt x="28" y="28"/>
                </a:lnTo>
                <a:lnTo>
                  <a:pt x="19" y="28"/>
                </a:lnTo>
                <a:lnTo>
                  <a:pt x="19" y="28"/>
                </a:lnTo>
                <a:lnTo>
                  <a:pt x="28" y="28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19" y="28"/>
                </a:lnTo>
                <a:lnTo>
                  <a:pt x="19" y="37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573440" y="5610240"/>
            <a:ext cx="7956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494240" y="5506920"/>
            <a:ext cx="58680" cy="81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8" y="28"/>
                </a:moveTo>
                <a:lnTo>
                  <a:pt x="27" y="37"/>
                </a:lnTo>
                <a:lnTo>
                  <a:pt x="27" y="28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392720" y="5383080"/>
            <a:ext cx="7920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313160" y="5281560"/>
            <a:ext cx="60480" cy="81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19" y="37"/>
                </a:moveTo>
                <a:lnTo>
                  <a:pt x="28" y="37"/>
                </a:lnTo>
                <a:lnTo>
                  <a:pt x="28" y="37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1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214880" y="5178600"/>
            <a:ext cx="79200" cy="80640"/>
          </a:xfrm>
          <a:custGeom>
            <a:avLst/>
            <a:gdLst/>
            <a:ahLst/>
            <a:rect l="l" t="t" r="r" b="b"/>
            <a:pathLst>
              <a:path w="37" h="37">
                <a:moveTo>
                  <a:pt x="27" y="28"/>
                </a:moveTo>
                <a:lnTo>
                  <a:pt x="27" y="37"/>
                </a:lnTo>
                <a:lnTo>
                  <a:pt x="37" y="28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2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113360" y="5054760"/>
            <a:ext cx="79200" cy="83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28" y="38"/>
                </a:moveTo>
                <a:lnTo>
                  <a:pt x="37" y="38"/>
                </a:lnTo>
                <a:lnTo>
                  <a:pt x="37" y="38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28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33800" y="4954680"/>
            <a:ext cx="79560" cy="81000"/>
          </a:xfrm>
          <a:custGeom>
            <a:avLst/>
            <a:gdLst/>
            <a:ahLst/>
            <a:rect l="l" t="t" r="r" b="b"/>
            <a:pathLst>
              <a:path w="37" h="37">
                <a:moveTo>
                  <a:pt x="28" y="37"/>
                </a:moveTo>
                <a:lnTo>
                  <a:pt x="28" y="37"/>
                </a:lnTo>
                <a:lnTo>
                  <a:pt x="37" y="37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28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35520" y="4849920"/>
            <a:ext cx="79200" cy="83880"/>
          </a:xfrm>
          <a:custGeom>
            <a:avLst/>
            <a:gdLst/>
            <a:ahLst/>
            <a:rect l="l" t="t" r="r" b="b"/>
            <a:pathLst>
              <a:path w="37" h="38">
                <a:moveTo>
                  <a:pt x="27" y="28"/>
                </a:moveTo>
                <a:lnTo>
                  <a:pt x="27" y="38"/>
                </a:lnTo>
                <a:lnTo>
                  <a:pt x="37" y="28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27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913200" y="4707000"/>
            <a:ext cx="22320" cy="102960"/>
          </a:xfrm>
          <a:custGeom>
            <a:avLst/>
            <a:gdLst/>
            <a:ahLst/>
            <a:rect l="l" t="t" r="r" b="b"/>
            <a:pathLst>
              <a:path w="10" h="47">
                <a:moveTo>
                  <a:pt x="0" y="47"/>
                </a:moveTo>
                <a:lnTo>
                  <a:pt x="0" y="47"/>
                </a:lnTo>
                <a:lnTo>
                  <a:pt x="10" y="47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13200" y="4564080"/>
            <a:ext cx="22320" cy="103320"/>
          </a:xfrm>
          <a:custGeom>
            <a:avLst/>
            <a:gdLst/>
            <a:ahLst/>
            <a:rect l="l" t="t" r="r" b="b"/>
            <a:pathLst>
              <a:path w="10" h="47">
                <a:moveTo>
                  <a:pt x="0" y="47"/>
                </a:moveTo>
                <a:lnTo>
                  <a:pt x="0" y="47"/>
                </a:lnTo>
                <a:lnTo>
                  <a:pt x="10" y="47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913200" y="4421160"/>
            <a:ext cx="22320" cy="10152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0" y="46"/>
                </a:lnTo>
                <a:lnTo>
                  <a:pt x="10" y="46"/>
                </a:lnTo>
                <a:lnTo>
                  <a:pt x="10" y="9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13200" y="4278240"/>
            <a:ext cx="22320" cy="10152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0" y="9"/>
                </a:lnTo>
                <a:lnTo>
                  <a:pt x="1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13200" y="4135320"/>
            <a:ext cx="22320" cy="100080"/>
          </a:xfrm>
          <a:custGeom>
            <a:avLst/>
            <a:gdLst/>
            <a:ahLst/>
            <a:rect l="l" t="t" r="r" b="b"/>
            <a:pathLst>
              <a:path w="10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0" y="9"/>
                </a:lnTo>
                <a:lnTo>
                  <a:pt x="1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13200" y="3992400"/>
            <a:ext cx="41400" cy="100080"/>
          </a:xfrm>
          <a:custGeom>
            <a:avLst/>
            <a:gdLst/>
            <a:ahLst/>
            <a:rect l="l" t="t" r="r" b="b"/>
            <a:pathLst>
              <a:path w="19" h="46">
                <a:moveTo>
                  <a:pt x="0" y="46"/>
                </a:moveTo>
                <a:lnTo>
                  <a:pt x="10" y="46"/>
                </a:lnTo>
                <a:lnTo>
                  <a:pt x="10" y="46"/>
                </a:lnTo>
                <a:lnTo>
                  <a:pt x="19" y="9"/>
                </a:lnTo>
                <a:lnTo>
                  <a:pt x="10" y="0"/>
                </a:lnTo>
                <a:lnTo>
                  <a:pt x="1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935520" y="384660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35520" y="37036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35520" y="35607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935520" y="341784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935520" y="3273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35520" y="3130560"/>
            <a:ext cx="38160" cy="101520"/>
          </a:xfrm>
          <a:custGeom>
            <a:avLst/>
            <a:gdLst/>
            <a:ahLst/>
            <a:rect l="l" t="t" r="r" b="b"/>
            <a:pathLst>
              <a:path w="18" h="46">
                <a:moveTo>
                  <a:pt x="0" y="46"/>
                </a:moveTo>
                <a:lnTo>
                  <a:pt x="9" y="46"/>
                </a:lnTo>
                <a:lnTo>
                  <a:pt x="9" y="46"/>
                </a:lnTo>
                <a:lnTo>
                  <a:pt x="18" y="9"/>
                </a:lnTo>
                <a:lnTo>
                  <a:pt x="9" y="0"/>
                </a:lnTo>
                <a:lnTo>
                  <a:pt x="9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954600" y="298764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954600" y="284328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54600" y="270036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54600" y="255600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54600" y="2413080"/>
            <a:ext cx="19080" cy="10296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9" y="47"/>
                </a:lnTo>
                <a:lnTo>
                  <a:pt x="9" y="47"/>
                </a:lnTo>
                <a:lnTo>
                  <a:pt x="9" y="9"/>
                </a:lnTo>
                <a:lnTo>
                  <a:pt x="9" y="0"/>
                </a:lnTo>
                <a:lnTo>
                  <a:pt x="0" y="9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92400" y="2290680"/>
            <a:ext cx="60480" cy="1033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37"/>
                </a:moveTo>
                <a:lnTo>
                  <a:pt x="0" y="47"/>
                </a:lnTo>
                <a:lnTo>
                  <a:pt x="10" y="37"/>
                </a:lnTo>
                <a:lnTo>
                  <a:pt x="28" y="10"/>
                </a:lnTo>
                <a:lnTo>
                  <a:pt x="19" y="0"/>
                </a:lnTo>
                <a:lnTo>
                  <a:pt x="19" y="1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52880" y="2166840"/>
            <a:ext cx="60480" cy="1033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38"/>
                </a:moveTo>
                <a:lnTo>
                  <a:pt x="10" y="47"/>
                </a:lnTo>
                <a:lnTo>
                  <a:pt x="10" y="38"/>
                </a:lnTo>
                <a:lnTo>
                  <a:pt x="28" y="10"/>
                </a:lnTo>
                <a:lnTo>
                  <a:pt x="28" y="0"/>
                </a:lnTo>
                <a:lnTo>
                  <a:pt x="19" y="1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132440" y="2046240"/>
            <a:ext cx="60120" cy="10008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37"/>
                </a:moveTo>
                <a:lnTo>
                  <a:pt x="0" y="46"/>
                </a:lnTo>
                <a:lnTo>
                  <a:pt x="10" y="37"/>
                </a:lnTo>
                <a:lnTo>
                  <a:pt x="28" y="9"/>
                </a:lnTo>
                <a:lnTo>
                  <a:pt x="28" y="0"/>
                </a:lnTo>
                <a:lnTo>
                  <a:pt x="19" y="9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214880" y="1943280"/>
            <a:ext cx="57240" cy="80640"/>
          </a:xfrm>
          <a:custGeom>
            <a:avLst/>
            <a:gdLst/>
            <a:ahLst/>
            <a:rect l="l" t="t" r="r" b="b"/>
            <a:pathLst>
              <a:path w="27" h="37">
                <a:moveTo>
                  <a:pt x="0" y="28"/>
                </a:moveTo>
                <a:lnTo>
                  <a:pt x="0" y="37"/>
                </a:lnTo>
                <a:lnTo>
                  <a:pt x="9" y="28"/>
                </a:lnTo>
                <a:lnTo>
                  <a:pt x="27" y="0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72120" y="1819440"/>
            <a:ext cx="60120" cy="8064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10" y="37"/>
                </a:lnTo>
                <a:lnTo>
                  <a:pt x="10" y="37"/>
                </a:lnTo>
                <a:lnTo>
                  <a:pt x="28" y="0"/>
                </a:lnTo>
                <a:lnTo>
                  <a:pt x="28" y="0"/>
                </a:lnTo>
                <a:lnTo>
                  <a:pt x="19" y="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354560" y="1695600"/>
            <a:ext cx="57240" cy="83880"/>
          </a:xfrm>
          <a:custGeom>
            <a:avLst/>
            <a:gdLst/>
            <a:ahLst/>
            <a:rect l="l" t="t" r="r" b="b"/>
            <a:pathLst>
              <a:path w="27" h="38">
                <a:moveTo>
                  <a:pt x="0" y="38"/>
                </a:moveTo>
                <a:lnTo>
                  <a:pt x="9" y="38"/>
                </a:lnTo>
                <a:lnTo>
                  <a:pt x="9" y="38"/>
                </a:lnTo>
                <a:lnTo>
                  <a:pt x="27" y="0"/>
                </a:lnTo>
                <a:lnTo>
                  <a:pt x="27" y="0"/>
                </a:lnTo>
                <a:lnTo>
                  <a:pt x="18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433760" y="1574640"/>
            <a:ext cx="60480" cy="81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0" y="37"/>
                </a:lnTo>
                <a:lnTo>
                  <a:pt x="9" y="37"/>
                </a:lnTo>
                <a:lnTo>
                  <a:pt x="28" y="0"/>
                </a:lnTo>
                <a:lnTo>
                  <a:pt x="18" y="0"/>
                </a:lnTo>
                <a:lnTo>
                  <a:pt x="18" y="0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494240" y="1471680"/>
            <a:ext cx="98280" cy="6192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28"/>
                </a:moveTo>
                <a:lnTo>
                  <a:pt x="9" y="28"/>
                </a:lnTo>
                <a:lnTo>
                  <a:pt x="9" y="28"/>
                </a:lnTo>
                <a:lnTo>
                  <a:pt x="27" y="9"/>
                </a:lnTo>
                <a:lnTo>
                  <a:pt x="18" y="9"/>
                </a:lnTo>
                <a:lnTo>
                  <a:pt x="18" y="19"/>
                </a:lnTo>
                <a:lnTo>
                  <a:pt x="37" y="9"/>
                </a:lnTo>
                <a:lnTo>
                  <a:pt x="46" y="9"/>
                </a:lnTo>
                <a:lnTo>
                  <a:pt x="37" y="0"/>
                </a:lnTo>
                <a:lnTo>
                  <a:pt x="18" y="9"/>
                </a:lnTo>
                <a:lnTo>
                  <a:pt x="18" y="9"/>
                </a:lnTo>
                <a:lnTo>
                  <a:pt x="18" y="9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633920" y="1471680"/>
            <a:ext cx="79200" cy="19080"/>
          </a:xfrm>
          <a:custGeom>
            <a:avLst/>
            <a:gdLst/>
            <a:ahLst/>
            <a:rect l="l" t="t" r="r" b="b"/>
            <a:pathLst>
              <a:path w="37" h="9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753080" y="1450800"/>
            <a:ext cx="10008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92760" y="1428840"/>
            <a:ext cx="100080" cy="42840"/>
          </a:xfrm>
          <a:custGeom>
            <a:avLst/>
            <a:gdLst/>
            <a:ahLst/>
            <a:rect l="l" t="t" r="r" b="b"/>
            <a:pathLst>
              <a:path w="47" h="19">
                <a:moveTo>
                  <a:pt x="10" y="10"/>
                </a:moveTo>
                <a:lnTo>
                  <a:pt x="0" y="10"/>
                </a:lnTo>
                <a:lnTo>
                  <a:pt x="10" y="19"/>
                </a:lnTo>
                <a:lnTo>
                  <a:pt x="47" y="10"/>
                </a:lnTo>
                <a:lnTo>
                  <a:pt x="47" y="10"/>
                </a:lnTo>
                <a:lnTo>
                  <a:pt x="47" y="0"/>
                </a:lnTo>
                <a:lnTo>
                  <a:pt x="1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32440" y="1428840"/>
            <a:ext cx="101520" cy="21960"/>
          </a:xfrm>
          <a:custGeom>
            <a:avLst/>
            <a:gdLst/>
            <a:ahLst/>
            <a:rect l="l" t="t" r="r" b="b"/>
            <a:pathLst>
              <a:path w="47" h="10">
                <a:moveTo>
                  <a:pt x="10" y="0"/>
                </a:moveTo>
                <a:lnTo>
                  <a:pt x="0" y="0"/>
                </a:lnTo>
                <a:lnTo>
                  <a:pt x="10" y="10"/>
                </a:lnTo>
                <a:lnTo>
                  <a:pt x="47" y="10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72120" y="14097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311800" y="138924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10" y="9"/>
                </a:moveTo>
                <a:lnTo>
                  <a:pt x="0" y="9"/>
                </a:lnTo>
                <a:lnTo>
                  <a:pt x="10" y="18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451480" y="137016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10" y="9"/>
                </a:moveTo>
                <a:lnTo>
                  <a:pt x="0" y="9"/>
                </a:lnTo>
                <a:lnTo>
                  <a:pt x="10" y="18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9116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3084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87052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012000" y="1370160"/>
            <a:ext cx="997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151680" y="1370160"/>
            <a:ext cx="997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29136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0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43104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57072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710400" y="1370160"/>
            <a:ext cx="101520" cy="19080"/>
          </a:xfrm>
          <a:custGeom>
            <a:avLst/>
            <a:gdLst/>
            <a:ahLst/>
            <a:rect l="l" t="t" r="r" b="b"/>
            <a:pathLst>
              <a:path w="47" h="9">
                <a:moveTo>
                  <a:pt x="10" y="0"/>
                </a:move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850080" y="1370160"/>
            <a:ext cx="101520" cy="39600"/>
          </a:xfrm>
          <a:custGeom>
            <a:avLst/>
            <a:gdLst/>
            <a:ahLst/>
            <a:rect l="l" t="t" r="r" b="b"/>
            <a:pathLst>
              <a:path w="47" h="18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18"/>
                </a:lnTo>
                <a:lnTo>
                  <a:pt x="47" y="9"/>
                </a:lnTo>
                <a:lnTo>
                  <a:pt x="47" y="9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98976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12944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27092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41060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0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550280" y="1389240"/>
            <a:ext cx="997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68996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82964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969320" y="1389240"/>
            <a:ext cx="101520" cy="20520"/>
          </a:xfrm>
          <a:custGeom>
            <a:avLst/>
            <a:gdLst/>
            <a:ahLst/>
            <a:rect l="l" t="t" r="r" b="b"/>
            <a:pathLst>
              <a:path w="47" h="9">
                <a:moveTo>
                  <a:pt x="9" y="0"/>
                </a:moveTo>
                <a:lnTo>
                  <a:pt x="0" y="9"/>
                </a:lnTo>
                <a:lnTo>
                  <a:pt x="9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070840" y="142884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9" y="0"/>
                </a:lnTo>
                <a:lnTo>
                  <a:pt x="0" y="10"/>
                </a:lnTo>
                <a:lnTo>
                  <a:pt x="0" y="47"/>
                </a:lnTo>
                <a:lnTo>
                  <a:pt x="9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070840" y="1574640"/>
            <a:ext cx="19080" cy="1018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8070840" y="1717560"/>
            <a:ext cx="19080" cy="1018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070840" y="186048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070840" y="2003400"/>
            <a:ext cx="19080" cy="1015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070840" y="2146320"/>
            <a:ext cx="19080" cy="10476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9"/>
                </a:moveTo>
                <a:lnTo>
                  <a:pt x="0" y="0"/>
                </a:lnTo>
                <a:lnTo>
                  <a:pt x="0" y="9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070840" y="229068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8070840" y="2433600"/>
            <a:ext cx="19080" cy="1033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10"/>
                </a:move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8296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6899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55028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41060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27092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1294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9897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85008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71040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7072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43104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291360" y="2577960"/>
            <a:ext cx="1015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15168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12000" y="2577960"/>
            <a:ext cx="99720" cy="2088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872320" y="2577960"/>
            <a:ext cx="2219040" cy="1943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872480" y="2577960"/>
            <a:ext cx="79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731000" y="2577960"/>
            <a:ext cx="81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5913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745164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31196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7228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03260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8929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753240" y="2577960"/>
            <a:ext cx="79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611760" y="2577960"/>
            <a:ext cx="810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7208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33240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9272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053040" y="2577960"/>
            <a:ext cx="79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872320" y="2085840"/>
            <a:ext cx="1440" cy="381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8110440" y="1593720"/>
            <a:ext cx="1800" cy="338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391000" y="2577960"/>
            <a:ext cx="31989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391000" y="4543560"/>
            <a:ext cx="31989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8570880" y="4543560"/>
            <a:ext cx="31752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870600" y="3294000"/>
            <a:ext cx="619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472080" y="3429000"/>
            <a:ext cx="17784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251840" y="3429000"/>
            <a:ext cx="17784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251400" y="3429000"/>
            <a:ext cx="17784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453360" y="3624120"/>
            <a:ext cx="180720" cy="184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53000" y="417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459560" y="3335400"/>
            <a:ext cx="181080" cy="185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442280" y="3519360"/>
            <a:ext cx="177840" cy="184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362720" y="3652920"/>
            <a:ext cx="17784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357960" y="3274920"/>
            <a:ext cx="181080" cy="1857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311960" y="3198960"/>
            <a:ext cx="179280" cy="1857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4313160" y="3807000"/>
            <a:ext cx="158400" cy="183600"/>
            <a:chOff x="4313160" y="3807000"/>
            <a:chExt cx="158400" cy="183600"/>
          </a:xfrm>
        </p:grpSpPr>
        <p:sp>
          <p:nvSpPr>
            <p:cNvPr id="1160" name=""/>
            <p:cNvSpPr/>
            <p:nvPr/>
          </p:nvSpPr>
          <p:spPr>
            <a:xfrm>
              <a:off x="4313160" y="3807000"/>
              <a:ext cx="158400" cy="183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13160" y="3807000"/>
              <a:ext cx="158400" cy="1836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4033800" y="1900080"/>
            <a:ext cx="18176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237200" y="2003400"/>
            <a:ext cx="1171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regions alread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236840" y="2251080"/>
            <a:ext cx="1162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laced at sa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233960" y="24969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673520" y="24969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5372280" y="3335400"/>
            <a:ext cx="180360" cy="185400"/>
            <a:chOff x="5372280" y="3335400"/>
            <a:chExt cx="180360" cy="185400"/>
          </a:xfrm>
        </p:grpSpPr>
        <p:sp>
          <p:nvSpPr>
            <p:cNvPr id="1168" name=""/>
            <p:cNvSpPr/>
            <p:nvPr/>
          </p:nvSpPr>
          <p:spPr>
            <a:xfrm>
              <a:off x="5372280" y="3335400"/>
              <a:ext cx="180360" cy="185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72280" y="3335400"/>
              <a:ext cx="180360" cy="1854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6272280" y="1941480"/>
            <a:ext cx="180720" cy="185400"/>
            <a:chOff x="6272280" y="1941480"/>
            <a:chExt cx="180720" cy="185400"/>
          </a:xfrm>
        </p:grpSpPr>
        <p:sp>
          <p:nvSpPr>
            <p:cNvPr id="1171" name=""/>
            <p:cNvSpPr/>
            <p:nvPr/>
          </p:nvSpPr>
          <p:spPr>
            <a:xfrm>
              <a:off x="6272280" y="1941480"/>
              <a:ext cx="180720" cy="185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72280" y="1941480"/>
              <a:ext cx="180720" cy="1854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6593040" y="2104920"/>
            <a:ext cx="177120" cy="185400"/>
            <a:chOff x="6593040" y="2104920"/>
            <a:chExt cx="177120" cy="185400"/>
          </a:xfrm>
        </p:grpSpPr>
        <p:sp>
          <p:nvSpPr>
            <p:cNvPr id="1174" name=""/>
            <p:cNvSpPr/>
            <p:nvPr/>
          </p:nvSpPr>
          <p:spPr>
            <a:xfrm>
              <a:off x="6593040" y="2104920"/>
              <a:ext cx="177120" cy="185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93040" y="2104920"/>
              <a:ext cx="177120" cy="1854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210440" y="1471680"/>
            <a:ext cx="180720" cy="183600"/>
            <a:chOff x="7210440" y="1471680"/>
            <a:chExt cx="180720" cy="183600"/>
          </a:xfrm>
        </p:grpSpPr>
        <p:sp>
          <p:nvSpPr>
            <p:cNvPr id="1177" name=""/>
            <p:cNvSpPr/>
            <p:nvPr/>
          </p:nvSpPr>
          <p:spPr>
            <a:xfrm>
              <a:off x="7210440" y="1471680"/>
              <a:ext cx="180720" cy="183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210440" y="1471680"/>
              <a:ext cx="180720" cy="1836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7550280" y="2104920"/>
            <a:ext cx="180360" cy="185400"/>
            <a:chOff x="7550280" y="2104920"/>
            <a:chExt cx="180360" cy="185400"/>
          </a:xfrm>
        </p:grpSpPr>
        <p:sp>
          <p:nvSpPr>
            <p:cNvPr id="1180" name=""/>
            <p:cNvSpPr/>
            <p:nvPr/>
          </p:nvSpPr>
          <p:spPr>
            <a:xfrm>
              <a:off x="7550280" y="2104920"/>
              <a:ext cx="180360" cy="1854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550280" y="2104920"/>
              <a:ext cx="180360" cy="185400"/>
            </a:xfrm>
            <a:prstGeom prst="ellipse">
              <a:avLst/>
            </a:prstGeom>
            <a:solidFill>
              <a:srgbClr val="3333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294600" y="3624120"/>
            <a:ext cx="177480" cy="184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6137280" y="5828040"/>
            <a:ext cx="1666800" cy="243720"/>
            <a:chOff x="6137280" y="5828040"/>
            <a:chExt cx="1666800" cy="243720"/>
          </a:xfrm>
        </p:grpSpPr>
        <p:sp>
          <p:nvSpPr>
            <p:cNvPr id="1184" name=""/>
            <p:cNvSpPr/>
            <p:nvPr/>
          </p:nvSpPr>
          <p:spPr>
            <a:xfrm>
              <a:off x="6137280" y="5859360"/>
              <a:ext cx="181080" cy="1828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64160" y="5828040"/>
              <a:ext cx="133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6135840" y="5002560"/>
            <a:ext cx="2271600" cy="243720"/>
            <a:chOff x="6135840" y="5002560"/>
            <a:chExt cx="2271600" cy="243720"/>
          </a:xfrm>
        </p:grpSpPr>
        <p:grpSp>
          <p:nvGrpSpPr>
            <p:cNvPr id="1187" name=""/>
            <p:cNvGrpSpPr/>
            <p:nvPr/>
          </p:nvGrpSpPr>
          <p:grpSpPr>
            <a:xfrm>
              <a:off x="6135840" y="5032440"/>
              <a:ext cx="180360" cy="182160"/>
              <a:chOff x="6135840" y="5032440"/>
              <a:chExt cx="180360" cy="182160"/>
            </a:xfrm>
          </p:grpSpPr>
          <p:sp>
            <p:nvSpPr>
              <p:cNvPr id="1188" name=""/>
              <p:cNvSpPr/>
              <p:nvPr/>
            </p:nvSpPr>
            <p:spPr>
              <a:xfrm>
                <a:off x="6135840" y="5032440"/>
                <a:ext cx="180360" cy="182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35840" y="5032440"/>
                <a:ext cx="180360" cy="182160"/>
              </a:xfrm>
              <a:prstGeom prst="ellipse">
                <a:avLst/>
              </a:prstGeom>
              <a:solidFill>
                <a:srgbClr val="ff00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6464160" y="5002560"/>
              <a:ext cx="19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tical 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135840" y="5277240"/>
            <a:ext cx="2447640" cy="243720"/>
            <a:chOff x="6135840" y="5277240"/>
            <a:chExt cx="2447640" cy="243720"/>
          </a:xfrm>
        </p:grpSpPr>
        <p:grpSp>
          <p:nvGrpSpPr>
            <p:cNvPr id="1192" name=""/>
            <p:cNvGrpSpPr/>
            <p:nvPr/>
          </p:nvGrpSpPr>
          <p:grpSpPr>
            <a:xfrm>
              <a:off x="6135840" y="5307120"/>
              <a:ext cx="180360" cy="182160"/>
              <a:chOff x="6135840" y="5307120"/>
              <a:chExt cx="180360" cy="182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6135840" y="5307120"/>
                <a:ext cx="180360" cy="1821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135840" y="5307120"/>
                <a:ext cx="180360" cy="182160"/>
              </a:xfrm>
              <a:prstGeom prst="ellipse">
                <a:avLst/>
              </a:prstGeom>
              <a:solidFill>
                <a:srgbClr val="3333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6464160" y="5277240"/>
              <a:ext cx="211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critical anc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137280" y="5551920"/>
            <a:ext cx="1666800" cy="243720"/>
            <a:chOff x="6137280" y="5551920"/>
            <a:chExt cx="1666800" cy="243720"/>
          </a:xfrm>
        </p:grpSpPr>
        <p:sp>
          <p:nvSpPr>
            <p:cNvPr id="1197" name=""/>
            <p:cNvSpPr/>
            <p:nvPr/>
          </p:nvSpPr>
          <p:spPr>
            <a:xfrm>
              <a:off x="6137280" y="5583240"/>
              <a:ext cx="181080" cy="1825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64160" y="5551920"/>
              <a:ext cx="133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99" name=""/>
          <p:cNvCxnSpPr>
            <a:stCxn id="1161" idx="6"/>
            <a:endCxn id="1182" idx="2"/>
          </p:cNvCxnSpPr>
          <p:nvPr/>
        </p:nvCxnSpPr>
        <p:spPr>
          <a:xfrm flipV="1">
            <a:off x="4478040" y="3715560"/>
            <a:ext cx="1802520" cy="18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69" idx="6"/>
            <a:endCxn id="1151" idx="2"/>
          </p:cNvCxnSpPr>
          <p:nvPr/>
        </p:nvCxnSpPr>
        <p:spPr>
          <a:xfrm>
            <a:off x="5559120" y="3429000"/>
            <a:ext cx="678600" cy="9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72" idx="4"/>
            <a:endCxn id="1157" idx="0"/>
          </p:cNvCxnSpPr>
          <p:nvPr/>
        </p:nvCxnSpPr>
        <p:spPr>
          <a:xfrm>
            <a:off x="6362640" y="2133360"/>
            <a:ext cx="86400" cy="1135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75" idx="5"/>
            <a:endCxn id="1150" idx="1"/>
          </p:cNvCxnSpPr>
          <p:nvPr/>
        </p:nvCxnSpPr>
        <p:spPr>
          <a:xfrm>
            <a:off x="6744960" y="2270160"/>
            <a:ext cx="532440" cy="11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78" idx="4"/>
            <a:endCxn id="1158" idx="0"/>
          </p:cNvCxnSpPr>
          <p:nvPr/>
        </p:nvCxnSpPr>
        <p:spPr>
          <a:xfrm>
            <a:off x="7300440" y="1661760"/>
            <a:ext cx="102600" cy="153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49" idx="7"/>
            <a:endCxn id="1181" idx="3"/>
          </p:cNvCxnSpPr>
          <p:nvPr/>
        </p:nvCxnSpPr>
        <p:spPr>
          <a:xfrm flipV="1">
            <a:off x="6624720" y="2269800"/>
            <a:ext cx="953280" cy="11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5" name=""/>
          <p:cNvSpPr/>
          <p:nvPr/>
        </p:nvSpPr>
        <p:spPr>
          <a:xfrm>
            <a:off x="7410600" y="480996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43800" y="472608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48680" y="409248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48680" y="365292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248680" y="3267000"/>
            <a:ext cx="158760" cy="1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2"/>
            <a:endCxn id="1155" idx="6"/>
          </p:cNvCxnSpPr>
          <p:nvPr/>
        </p:nvCxnSpPr>
        <p:spPr>
          <a:xfrm flipH="1" flipV="1">
            <a:off x="7633440" y="3610800"/>
            <a:ext cx="615240" cy="104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1" name=""/>
          <p:cNvCxnSpPr>
            <a:stCxn id="1207" idx="2"/>
            <a:endCxn id="1156" idx="6"/>
          </p:cNvCxnSpPr>
          <p:nvPr/>
        </p:nvCxnSpPr>
        <p:spPr>
          <a:xfrm flipH="1" flipV="1">
            <a:off x="7554240" y="3744360"/>
            <a:ext cx="694440" cy="41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0"/>
            <a:endCxn id="1152" idx="4"/>
          </p:cNvCxnSpPr>
          <p:nvPr/>
        </p:nvCxnSpPr>
        <p:spPr>
          <a:xfrm flipH="1" flipV="1">
            <a:off x="6543360" y="3822120"/>
            <a:ext cx="180000" cy="90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5" idx="0"/>
            <a:endCxn id="1156" idx="4"/>
          </p:cNvCxnSpPr>
          <p:nvPr/>
        </p:nvCxnSpPr>
        <p:spPr>
          <a:xfrm flipH="1" flipV="1">
            <a:off x="7451280" y="3849120"/>
            <a:ext cx="38880" cy="960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4" name=""/>
          <p:cNvCxnSpPr>
            <a:stCxn id="1154" idx="6"/>
            <a:endCxn id="1209" idx="2"/>
          </p:cNvCxnSpPr>
          <p:nvPr/>
        </p:nvCxnSpPr>
        <p:spPr>
          <a:xfrm flipV="1">
            <a:off x="7654680" y="3328560"/>
            <a:ext cx="594360" cy="100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128" idx="0"/>
            <a:endCxn id="1128" idx="2"/>
          </p:cNvCxnSpPr>
          <p:nvPr/>
        </p:nvCxnSpPr>
        <p:spPr>
          <a:xfrm>
            <a:off x="6981480" y="2577960"/>
            <a:ext cx="1080" cy="194400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717B-B856-4A39-8CFD-ED08C560B882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artitioning Order Revisited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38120" y="1447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to-bottom and left-to-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1295280" y="2833560"/>
            <a:ext cx="2388960" cy="2322360"/>
            <a:chOff x="1295280" y="2833560"/>
            <a:chExt cx="2388960" cy="2322360"/>
          </a:xfrm>
        </p:grpSpPr>
        <p:sp>
          <p:nvSpPr>
            <p:cNvPr id="1219" name=""/>
            <p:cNvSpPr/>
            <p:nvPr/>
          </p:nvSpPr>
          <p:spPr>
            <a:xfrm>
              <a:off x="1295280" y="3419280"/>
              <a:ext cx="587160" cy="1736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82440" y="2833560"/>
              <a:ext cx="1801800" cy="587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1320840" y="3430440"/>
            <a:ext cx="2389320" cy="1725480"/>
            <a:chOff x="1320840" y="3430440"/>
            <a:chExt cx="2389320" cy="1725480"/>
          </a:xfrm>
        </p:grpSpPr>
        <p:sp>
          <p:nvSpPr>
            <p:cNvPr id="1222" name=""/>
            <p:cNvSpPr/>
            <p:nvPr/>
          </p:nvSpPr>
          <p:spPr>
            <a:xfrm>
              <a:off x="1320840" y="4016160"/>
              <a:ext cx="587520" cy="1139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08360" y="3430440"/>
              <a:ext cx="1801800" cy="587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895400" y="4002120"/>
            <a:ext cx="1801800" cy="58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897200" y="4581360"/>
            <a:ext cx="1801800" cy="58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884240" y="2832120"/>
            <a:ext cx="1779480" cy="2322000"/>
            <a:chOff x="1884240" y="2832120"/>
            <a:chExt cx="1779480" cy="2322000"/>
          </a:xfrm>
        </p:grpSpPr>
        <p:sp>
          <p:nvSpPr>
            <p:cNvPr id="1227" name=""/>
            <p:cNvSpPr/>
            <p:nvPr/>
          </p:nvSpPr>
          <p:spPr>
            <a:xfrm>
              <a:off x="1884240" y="3417480"/>
              <a:ext cx="587520" cy="173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71760" y="2832120"/>
              <a:ext cx="1191960" cy="587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295280" y="2841480"/>
            <a:ext cx="594000" cy="579240"/>
            <a:chOff x="1295280" y="2841480"/>
            <a:chExt cx="594000" cy="579240"/>
          </a:xfrm>
        </p:grpSpPr>
        <p:sp>
          <p:nvSpPr>
            <p:cNvPr id="1230" name=""/>
            <p:cNvSpPr/>
            <p:nvPr/>
          </p:nvSpPr>
          <p:spPr>
            <a:xfrm>
              <a:off x="1295280" y="2841480"/>
              <a:ext cx="594000" cy="579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84360" y="284148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09680" y="312084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82840" y="2993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1301760" y="3419640"/>
            <a:ext cx="593640" cy="579240"/>
            <a:chOff x="1301760" y="3419640"/>
            <a:chExt cx="593640" cy="579240"/>
          </a:xfrm>
        </p:grpSpPr>
        <p:sp>
          <p:nvSpPr>
            <p:cNvPr id="1235" name=""/>
            <p:cNvSpPr/>
            <p:nvPr/>
          </p:nvSpPr>
          <p:spPr>
            <a:xfrm>
              <a:off x="1301760" y="3419640"/>
              <a:ext cx="593640" cy="579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90840" y="341964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16160" y="369900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88960" y="3571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301760" y="4011480"/>
            <a:ext cx="593640" cy="579240"/>
            <a:chOff x="1301760" y="4011480"/>
            <a:chExt cx="593640" cy="579240"/>
          </a:xfrm>
        </p:grpSpPr>
        <p:sp>
          <p:nvSpPr>
            <p:cNvPr id="1240" name=""/>
            <p:cNvSpPr/>
            <p:nvPr/>
          </p:nvSpPr>
          <p:spPr>
            <a:xfrm>
              <a:off x="1301760" y="4011480"/>
              <a:ext cx="593640" cy="579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590840" y="401148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316160" y="429084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488960" y="4163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1305000" y="4587840"/>
            <a:ext cx="593640" cy="579600"/>
            <a:chOff x="1305000" y="4587840"/>
            <a:chExt cx="593640" cy="579600"/>
          </a:xfrm>
        </p:grpSpPr>
        <p:sp>
          <p:nvSpPr>
            <p:cNvPr id="1245" name=""/>
            <p:cNvSpPr/>
            <p:nvPr/>
          </p:nvSpPr>
          <p:spPr>
            <a:xfrm>
              <a:off x="1305000" y="4587840"/>
              <a:ext cx="593640" cy="579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93720" y="4587840"/>
              <a:ext cx="0" cy="5796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319040" y="486720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92200" y="474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882800" y="2841480"/>
            <a:ext cx="593640" cy="579240"/>
            <a:chOff x="1882800" y="2841480"/>
            <a:chExt cx="593640" cy="579240"/>
          </a:xfrm>
        </p:grpSpPr>
        <p:sp>
          <p:nvSpPr>
            <p:cNvPr id="1250" name=""/>
            <p:cNvSpPr/>
            <p:nvPr/>
          </p:nvSpPr>
          <p:spPr>
            <a:xfrm>
              <a:off x="1882800" y="2841480"/>
              <a:ext cx="593640" cy="5792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71520" y="284148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97200" y="312084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070000" y="2993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1889280" y="3419640"/>
            <a:ext cx="593640" cy="579240"/>
            <a:chOff x="1889280" y="3419640"/>
            <a:chExt cx="593640" cy="579240"/>
          </a:xfrm>
        </p:grpSpPr>
        <p:sp>
          <p:nvSpPr>
            <p:cNvPr id="1255" name=""/>
            <p:cNvSpPr/>
            <p:nvPr/>
          </p:nvSpPr>
          <p:spPr>
            <a:xfrm>
              <a:off x="1889280" y="3419640"/>
              <a:ext cx="593640" cy="5792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178000" y="3419640"/>
              <a:ext cx="0" cy="57924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03320" y="3699000"/>
              <a:ext cx="573120" cy="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076480" y="3571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4570560" y="323388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753800" y="3321000"/>
            <a:ext cx="3768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 be partitioned placement reg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322280" y="3419640"/>
            <a:ext cx="2362320" cy="14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882800" y="2841480"/>
            <a:ext cx="1440" cy="231480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570560" y="2935440"/>
            <a:ext cx="3078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753440" y="3006720"/>
            <a:ext cx="3164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artitioned placement reg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4308480" y="3057480"/>
            <a:ext cx="227160" cy="210960"/>
            <a:chOff x="4308480" y="3057480"/>
            <a:chExt cx="227160" cy="210960"/>
          </a:xfrm>
        </p:grpSpPr>
        <p:sp>
          <p:nvSpPr>
            <p:cNvPr id="1266" name=""/>
            <p:cNvSpPr/>
            <p:nvPr/>
          </p:nvSpPr>
          <p:spPr>
            <a:xfrm>
              <a:off x="4308480" y="3057480"/>
              <a:ext cx="209520" cy="1936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08480" y="305748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11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08480" y="3181320"/>
              <a:ext cx="1764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08480" y="3251160"/>
              <a:ext cx="6984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30880" y="3251160"/>
              <a:ext cx="1728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500720" y="3198600"/>
              <a:ext cx="3492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33"/>
                  </a:moveTo>
                  <a:lnTo>
                    <a:pt x="0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518000" y="3128760"/>
              <a:ext cx="17640" cy="1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65800" y="3057480"/>
              <a:ext cx="69840" cy="1728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33" y="11"/>
                  </a:moveTo>
                  <a:lnTo>
                    <a:pt x="44" y="1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3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395960" y="3057480"/>
              <a:ext cx="17280" cy="17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4325760" y="3355920"/>
            <a:ext cx="227160" cy="20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470320" y="2841480"/>
            <a:ext cx="1440" cy="231480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52720" y="3664080"/>
            <a:ext cx="2748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 be horizontally align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325760" y="3699000"/>
            <a:ext cx="227160" cy="209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751280" y="3994200"/>
            <a:ext cx="246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 be vertically align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325760" y="4029120"/>
            <a:ext cx="227160" cy="209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897200" y="3433680"/>
            <a:ext cx="1779480" cy="1712880"/>
            <a:chOff x="1897200" y="3433680"/>
            <a:chExt cx="1779480" cy="1712880"/>
          </a:xfrm>
        </p:grpSpPr>
        <p:sp>
          <p:nvSpPr>
            <p:cNvPr id="1282" name=""/>
            <p:cNvSpPr/>
            <p:nvPr/>
          </p:nvSpPr>
          <p:spPr>
            <a:xfrm>
              <a:off x="1897200" y="4019400"/>
              <a:ext cx="587520" cy="11271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484720" y="3433680"/>
              <a:ext cx="1191960" cy="587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1301760" y="2840040"/>
            <a:ext cx="2419200" cy="2341800"/>
            <a:chOff x="1301760" y="2840040"/>
            <a:chExt cx="2419200" cy="2341800"/>
          </a:xfrm>
        </p:grpSpPr>
        <p:sp>
          <p:nvSpPr>
            <p:cNvPr id="1285" name=""/>
            <p:cNvSpPr/>
            <p:nvPr/>
          </p:nvSpPr>
          <p:spPr>
            <a:xfrm>
              <a:off x="1304640" y="2841480"/>
              <a:ext cx="2403000" cy="2325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6" name=""/>
            <p:cNvCxnSpPr/>
            <p:nvPr/>
          </p:nvCxnSpPr>
          <p:spPr>
            <a:xfrm>
              <a:off x="1301760" y="4009320"/>
              <a:ext cx="2419560" cy="1080"/>
            </a:xfrm>
            <a:prstGeom prst="straightConnector1">
              <a:avLst/>
            </a:prstGeom>
            <a:ln w="57240">
              <a:solidFill>
                <a:srgbClr val="808000"/>
              </a:solidFill>
              <a:prstDash val="sysDot"/>
              <a:miter/>
            </a:ln>
          </p:spPr>
        </p:cxnSp>
        <p:cxnSp>
          <p:nvCxnSpPr>
            <p:cNvPr id="1287" name=""/>
            <p:cNvCxnSpPr>
              <a:endCxn id="1285" idx="2"/>
            </p:cNvCxnSpPr>
            <p:nvPr/>
          </p:nvCxnSpPr>
          <p:spPr>
            <a:xfrm>
              <a:off x="2488680" y="2840040"/>
              <a:ext cx="17640" cy="2342160"/>
            </a:xfrm>
            <a:prstGeom prst="straightConnector1">
              <a:avLst/>
            </a:prstGeom>
            <a:ln w="57240">
              <a:solidFill>
                <a:srgbClr val="808000"/>
              </a:solidFill>
              <a:prstDash val="sysDot"/>
              <a:miter/>
            </a:ln>
          </p:spPr>
        </p:cxnSp>
      </p:grpSp>
      <p:sp>
        <p:nvSpPr>
          <p:cNvPr id="1288" name=""/>
          <p:cNvSpPr/>
          <p:nvPr/>
        </p:nvSpPr>
        <p:spPr>
          <a:xfrm>
            <a:off x="1322280" y="4572000"/>
            <a:ext cx="2374920" cy="14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095640" y="2833560"/>
            <a:ext cx="1440" cy="233388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683E-85F8-43E1-B79D-CC8210D2F650}" type="slidenum">
              <a:t>17</a:t>
            </a:fld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termin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680240" y="2119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024600" y="2039760"/>
            <a:ext cx="1974960" cy="22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5241960" y="2436840"/>
            <a:ext cx="3539880" cy="1698120"/>
            <a:chOff x="5241960" y="2436840"/>
            <a:chExt cx="3539880" cy="1698120"/>
          </a:xfrm>
        </p:grpSpPr>
        <p:sp>
          <p:nvSpPr>
            <p:cNvPr id="1295" name=""/>
            <p:cNvSpPr/>
            <p:nvPr/>
          </p:nvSpPr>
          <p:spPr>
            <a:xfrm>
              <a:off x="5288760" y="2485080"/>
              <a:ext cx="3493080" cy="1649880"/>
            </a:xfrm>
            <a:prstGeom prst="rect">
              <a:avLst/>
            </a:prstGeom>
            <a:solidFill>
              <a:srgbClr val="808080"/>
            </a:solidFill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241960" y="2436840"/>
              <a:ext cx="3481200" cy="1637640"/>
              <a:chOff x="5241960" y="2436840"/>
              <a:chExt cx="3481200" cy="1637640"/>
            </a:xfrm>
          </p:grpSpPr>
          <p:sp>
            <p:nvSpPr>
              <p:cNvPr id="1297" name=""/>
              <p:cNvSpPr/>
              <p:nvPr/>
            </p:nvSpPr>
            <p:spPr>
              <a:xfrm>
                <a:off x="524196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7724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312880" y="2436840"/>
                <a:ext cx="2340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336280" y="2436840"/>
                <a:ext cx="3528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371560" y="2436840"/>
                <a:ext cx="3636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0828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44356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479200" y="2436840"/>
                <a:ext cx="3528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14480" y="2436840"/>
                <a:ext cx="2340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538240" y="2436840"/>
                <a:ext cx="35280" cy="1637640"/>
              </a:xfrm>
              <a:prstGeom prst="rect">
                <a:avLst/>
              </a:prstGeom>
              <a:solidFill>
                <a:srgbClr val="d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573520" y="2436840"/>
                <a:ext cx="35280" cy="163764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608800" y="2436840"/>
                <a:ext cx="35280" cy="1637640"/>
              </a:xfrm>
              <a:prstGeom prst="rect">
                <a:avLst/>
              </a:prstGeom>
              <a:solidFill>
                <a:srgbClr val="d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644440" y="2436840"/>
                <a:ext cx="35280" cy="163764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679720" y="2436840"/>
                <a:ext cx="35280" cy="1637640"/>
              </a:xfrm>
              <a:prstGeom prst="rect">
                <a:avLst/>
              </a:prstGeom>
              <a:solidFill>
                <a:srgbClr val="d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715360" y="2436840"/>
                <a:ext cx="23760" cy="163764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739120" y="2436840"/>
                <a:ext cx="35280" cy="1637640"/>
              </a:xfrm>
              <a:prstGeom prst="rect">
                <a:avLst/>
              </a:prstGeom>
              <a:solidFill>
                <a:srgbClr val="d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774400" y="2436840"/>
                <a:ext cx="35280" cy="1637640"/>
              </a:xfrm>
              <a:prstGeom prst="rect">
                <a:avLst/>
              </a:prstGeom>
              <a:solidFill>
                <a:srgbClr val="d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09680" y="2436840"/>
                <a:ext cx="35280" cy="163764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44960" y="2436840"/>
                <a:ext cx="36360" cy="163764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81680" y="2436840"/>
                <a:ext cx="35280" cy="1637640"/>
              </a:xfrm>
              <a:prstGeom prst="rect">
                <a:avLst/>
              </a:prstGeom>
              <a:solidFill>
                <a:srgbClr val="d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917320" y="2436840"/>
                <a:ext cx="23760" cy="163764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41080" y="2436840"/>
                <a:ext cx="35280" cy="16376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976360" y="2436840"/>
                <a:ext cx="35280" cy="163764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011640" y="2436840"/>
                <a:ext cx="35280" cy="1637640"/>
              </a:xfrm>
              <a:prstGeom prst="rect">
                <a:avLst/>
              </a:prstGeom>
              <a:solidFill>
                <a:srgbClr val="e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046920" y="2436840"/>
                <a:ext cx="35280" cy="1637640"/>
              </a:xfrm>
              <a:prstGeom prst="rect">
                <a:avLst/>
              </a:prstGeom>
              <a:solidFill>
                <a:srgbClr val="e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082560" y="2436840"/>
                <a:ext cx="35280" cy="1637640"/>
              </a:xfrm>
              <a:prstGeom prst="rect">
                <a:avLst/>
              </a:prstGeom>
              <a:solidFill>
                <a:srgbClr val="e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117840" y="2436840"/>
                <a:ext cx="23400" cy="163764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141600" y="2436840"/>
                <a:ext cx="35280" cy="163764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77240" y="2436840"/>
                <a:ext cx="35280" cy="163764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12520" y="2436840"/>
                <a:ext cx="35280" cy="1637640"/>
              </a:xfrm>
              <a:prstGeom prst="rect">
                <a:avLst/>
              </a:prstGeom>
              <a:solidFill>
                <a:srgbClr val="e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247800" y="2436840"/>
                <a:ext cx="35280" cy="1637640"/>
              </a:xfrm>
              <a:prstGeom prst="rect">
                <a:avLst/>
              </a:prstGeom>
              <a:solidFill>
                <a:srgbClr val="e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283080" y="2436840"/>
                <a:ext cx="24840" cy="163764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08280" y="2436840"/>
                <a:ext cx="35280" cy="1637640"/>
              </a:xfrm>
              <a:prstGeom prst="rect">
                <a:avLst/>
              </a:prstGeom>
              <a:solidFill>
                <a:srgbClr val="f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43560" y="2436840"/>
                <a:ext cx="35280" cy="1637640"/>
              </a:xfrm>
              <a:prstGeom prst="rect">
                <a:avLst/>
              </a:prstGeom>
              <a:solidFill>
                <a:srgbClr val="f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79200" y="2436840"/>
                <a:ext cx="35280" cy="163764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414480" y="2436840"/>
                <a:ext cx="35280" cy="1637640"/>
              </a:xfrm>
              <a:prstGeom prst="rect">
                <a:avLst/>
              </a:prstGeom>
              <a:solidFill>
                <a:srgbClr val="f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449760" y="2436840"/>
                <a:ext cx="35280" cy="163764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485040" y="2436840"/>
                <a:ext cx="23760" cy="1637640"/>
              </a:xfrm>
              <a:prstGeom prst="rect">
                <a:avLst/>
              </a:prstGeom>
              <a:solidFill>
                <a:srgbClr val="f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508800" y="2436840"/>
                <a:ext cx="35280" cy="163764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544440" y="2436840"/>
                <a:ext cx="35280" cy="1637640"/>
              </a:xfrm>
              <a:prstGeom prst="rect">
                <a:avLst/>
              </a:prstGeom>
              <a:solidFill>
                <a:srgbClr val="f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579720" y="2436840"/>
                <a:ext cx="35280" cy="163764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615360" y="2436840"/>
                <a:ext cx="35280" cy="1637640"/>
              </a:xfrm>
              <a:prstGeom prst="rect">
                <a:avLst/>
              </a:prstGeom>
              <a:solidFill>
                <a:srgbClr val="f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50640" y="2436840"/>
                <a:ext cx="3528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85920" y="2436840"/>
                <a:ext cx="2340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09680" y="2436840"/>
                <a:ext cx="3528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5320" y="2436840"/>
                <a:ext cx="3636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8168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81732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85260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887880" y="2436840"/>
                <a:ext cx="2340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91164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946920" y="2436840"/>
                <a:ext cx="35280" cy="163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982560" y="2436840"/>
                <a:ext cx="35280" cy="163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01784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053480" y="2436840"/>
                <a:ext cx="2340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076880" y="2436840"/>
                <a:ext cx="35280" cy="1637640"/>
              </a:xfrm>
              <a:prstGeom prst="rect">
                <a:avLst/>
              </a:prstGeom>
              <a:solidFill>
                <a:srgbClr val="f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11216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47800" y="2436840"/>
                <a:ext cx="35280" cy="1637640"/>
              </a:xfrm>
              <a:prstGeom prst="rect">
                <a:avLst/>
              </a:prstGeom>
              <a:solidFill>
                <a:srgbClr val="f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183440" y="2436840"/>
                <a:ext cx="3636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219800" y="2436840"/>
                <a:ext cx="35280" cy="1637640"/>
              </a:xfrm>
              <a:prstGeom prst="rect">
                <a:avLst/>
              </a:prstGeom>
              <a:solidFill>
                <a:srgbClr val="f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255440" y="2436840"/>
                <a:ext cx="2340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278840" y="2436840"/>
                <a:ext cx="35280" cy="1637640"/>
              </a:xfrm>
              <a:prstGeom prst="rect">
                <a:avLst/>
              </a:prstGeom>
              <a:solidFill>
                <a:srgbClr val="f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14120" y="2436840"/>
                <a:ext cx="35280" cy="1637640"/>
              </a:xfrm>
              <a:prstGeom prst="rect">
                <a:avLst/>
              </a:prstGeom>
              <a:solidFill>
                <a:srgbClr val="f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49400" y="2436840"/>
                <a:ext cx="35280" cy="1637640"/>
              </a:xfrm>
              <a:prstGeom prst="rect">
                <a:avLst/>
              </a:prstGeom>
              <a:solidFill>
                <a:srgbClr val="f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85040" y="2436840"/>
                <a:ext cx="35280" cy="1637640"/>
              </a:xfrm>
              <a:prstGeom prst="rect">
                <a:avLst/>
              </a:prstGeom>
              <a:solidFill>
                <a:srgbClr val="f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20680" y="2436840"/>
                <a:ext cx="35280" cy="1637640"/>
              </a:xfrm>
              <a:prstGeom prst="rect">
                <a:avLst/>
              </a:prstGeom>
              <a:solidFill>
                <a:srgbClr val="f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55960" y="2436840"/>
                <a:ext cx="23400" cy="1637640"/>
              </a:xfrm>
              <a:prstGeom prst="rect">
                <a:avLst/>
              </a:prstGeom>
              <a:solidFill>
                <a:srgbClr val="f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79360" y="2436840"/>
                <a:ext cx="35280" cy="1637640"/>
              </a:xfrm>
              <a:prstGeom prst="rect">
                <a:avLst/>
              </a:prstGeom>
              <a:solidFill>
                <a:srgbClr val="f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15000" y="2436840"/>
                <a:ext cx="35280" cy="1637640"/>
              </a:xfrm>
              <a:prstGeom prst="rect">
                <a:avLst/>
              </a:prstGeom>
              <a:solidFill>
                <a:srgbClr val="f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550280" y="2436840"/>
                <a:ext cx="35280" cy="1637640"/>
              </a:xfrm>
              <a:prstGeom prst="rect">
                <a:avLst/>
              </a:prstGeom>
              <a:solidFill>
                <a:srgbClr val="f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585920" y="2436840"/>
                <a:ext cx="35280" cy="1637640"/>
              </a:xfrm>
              <a:prstGeom prst="rect">
                <a:avLst/>
              </a:prstGeom>
              <a:solidFill>
                <a:srgbClr val="f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621200" y="2436840"/>
                <a:ext cx="35280" cy="1637640"/>
              </a:xfrm>
              <a:prstGeom prst="rect">
                <a:avLst/>
              </a:prstGeom>
              <a:solidFill>
                <a:srgbClr val="f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656840" y="2436840"/>
                <a:ext cx="24840" cy="1637640"/>
              </a:xfrm>
              <a:prstGeom prst="rect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681680" y="2436840"/>
                <a:ext cx="35280" cy="1637640"/>
              </a:xfrm>
              <a:prstGeom prst="rect">
                <a:avLst/>
              </a:prstGeom>
              <a:solidFill>
                <a:srgbClr val="e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716960" y="2436840"/>
                <a:ext cx="35280" cy="1637640"/>
              </a:xfrm>
              <a:prstGeom prst="rect">
                <a:avLst/>
              </a:prstGeom>
              <a:solidFill>
                <a:srgbClr val="e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752240" y="2436840"/>
                <a:ext cx="35280" cy="1637640"/>
              </a:xfrm>
              <a:prstGeom prst="rect">
                <a:avLst/>
              </a:prstGeom>
              <a:solidFill>
                <a:srgbClr val="e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787520" y="2436840"/>
                <a:ext cx="35280" cy="1637640"/>
              </a:xfrm>
              <a:prstGeom prst="rect">
                <a:avLst/>
              </a:prstGeom>
              <a:solidFill>
                <a:srgbClr val="e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823160" y="2436840"/>
                <a:ext cx="35280" cy="1637640"/>
              </a:xfrm>
              <a:prstGeom prst="rect">
                <a:avLst/>
              </a:prstGeom>
              <a:solidFill>
                <a:srgbClr val="e7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858800" y="2436840"/>
                <a:ext cx="23400" cy="1637640"/>
              </a:xfrm>
              <a:prstGeom prst="rect">
                <a:avLst/>
              </a:prstGeom>
              <a:solidFill>
                <a:srgbClr val="e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882200" y="2436840"/>
                <a:ext cx="35280" cy="1637640"/>
              </a:xfrm>
              <a:prstGeom prst="rect">
                <a:avLst/>
              </a:prstGeom>
              <a:solidFill>
                <a:srgbClr val="e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7480" y="2436840"/>
                <a:ext cx="35280" cy="1637640"/>
              </a:xfrm>
              <a:prstGeom prst="rect">
                <a:avLst/>
              </a:prstGeom>
              <a:solidFill>
                <a:srgbClr val="e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53120" y="2436840"/>
                <a:ext cx="35280" cy="1637640"/>
              </a:xfrm>
              <a:prstGeom prst="rect">
                <a:avLst/>
              </a:prstGeom>
              <a:solidFill>
                <a:srgbClr val="e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88400" y="2436840"/>
                <a:ext cx="35280" cy="16376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024040" y="2436840"/>
                <a:ext cx="23760" cy="1637640"/>
              </a:xfrm>
              <a:prstGeom prst="rect">
                <a:avLst/>
              </a:pr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047800" y="2436840"/>
                <a:ext cx="35280" cy="1637640"/>
              </a:xfrm>
              <a:prstGeom prst="rect">
                <a:avLst/>
              </a:prstGeom>
              <a:solidFill>
                <a:srgbClr val="d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083080" y="2436840"/>
                <a:ext cx="35280" cy="1637640"/>
              </a:xfrm>
              <a:prstGeom prst="rect">
                <a:avLst/>
              </a:prstGeom>
              <a:solidFill>
                <a:srgbClr val="db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118360" y="2436840"/>
                <a:ext cx="36360" cy="1637640"/>
              </a:xfrm>
              <a:prstGeom prst="rect">
                <a:avLst/>
              </a:prstGeom>
              <a:solidFill>
                <a:srgbClr val="d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155080" y="2436840"/>
                <a:ext cx="35280" cy="1637640"/>
              </a:xfrm>
              <a:prstGeom prst="rect">
                <a:avLst/>
              </a:prstGeom>
              <a:solidFill>
                <a:srgbClr val="d8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190360" y="2436840"/>
                <a:ext cx="35280" cy="1637640"/>
              </a:xfrm>
              <a:prstGeom prst="rect">
                <a:avLst/>
              </a:prstGeom>
              <a:solidFill>
                <a:srgbClr val="d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225640" y="2436840"/>
                <a:ext cx="23760" cy="1637640"/>
              </a:xfrm>
              <a:prstGeom prst="rect">
                <a:avLst/>
              </a:prstGeom>
              <a:solidFill>
                <a:srgbClr val="d5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249760" y="2436840"/>
                <a:ext cx="35280" cy="1637640"/>
              </a:xfrm>
              <a:prstGeom prst="rect">
                <a:avLst/>
              </a:prstGeom>
              <a:solidFill>
                <a:srgbClr val="d4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285040" y="2436840"/>
                <a:ext cx="35280" cy="1637640"/>
              </a:xfrm>
              <a:prstGeom prst="rect">
                <a:avLst/>
              </a:prstGeom>
              <a:solidFill>
                <a:srgbClr val="d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320320" y="2436840"/>
                <a:ext cx="35280" cy="1637640"/>
              </a:xfrm>
              <a:prstGeom prst="rect">
                <a:avLst/>
              </a:prstGeom>
              <a:solidFill>
                <a:srgbClr val="d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355600" y="2436840"/>
                <a:ext cx="35280" cy="1637640"/>
              </a:xfrm>
              <a:prstGeom prst="rect">
                <a:avLst/>
              </a:prstGeom>
              <a:solidFill>
                <a:srgbClr val="d1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391240" y="2436840"/>
                <a:ext cx="35280" cy="1637640"/>
              </a:xfrm>
              <a:prstGeom prst="rect">
                <a:avLst/>
              </a:prstGeom>
              <a:solidFill>
                <a:srgbClr val="d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426520" y="2436840"/>
                <a:ext cx="2340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450280" y="2436840"/>
                <a:ext cx="35280" cy="1637640"/>
              </a:xfrm>
              <a:prstGeom prst="rect">
                <a:avLst/>
              </a:prstGeom>
              <a:solidFill>
                <a:srgbClr val="c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48592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521200" y="2436840"/>
                <a:ext cx="35280" cy="1637640"/>
              </a:xfrm>
              <a:prstGeom prst="rect">
                <a:avLst/>
              </a:prstGeom>
              <a:solidFill>
                <a:srgbClr val="ce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556480" y="2436840"/>
                <a:ext cx="3636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593200" y="2436840"/>
                <a:ext cx="35280" cy="1637640"/>
              </a:xfrm>
              <a:prstGeom prst="rect">
                <a:avLst/>
              </a:prstGeom>
              <a:solidFill>
                <a:srgbClr val="c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628480" y="2436840"/>
                <a:ext cx="2340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65224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687880" y="2436840"/>
                <a:ext cx="35280" cy="1637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5241960" y="2436840"/>
              <a:ext cx="3493080" cy="1649880"/>
            </a:xfrm>
            <a:prstGeom prst="rect">
              <a:avLst/>
            </a:prstGeom>
            <a:noFill/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5526000" y="2838600"/>
            <a:ext cx="970200" cy="99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491080" y="2803680"/>
            <a:ext cx="970200" cy="990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5964120" y="2803680"/>
            <a:ext cx="23760" cy="918720"/>
            <a:chOff x="5964120" y="2803680"/>
            <a:chExt cx="23760" cy="918720"/>
          </a:xfrm>
        </p:grpSpPr>
        <p:sp>
          <p:nvSpPr>
            <p:cNvPr id="1405" name=""/>
            <p:cNvSpPr/>
            <p:nvPr/>
          </p:nvSpPr>
          <p:spPr>
            <a:xfrm>
              <a:off x="5964120" y="2803680"/>
              <a:ext cx="23760" cy="93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964120" y="296856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964120" y="313380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964120" y="3299040"/>
              <a:ext cx="23760" cy="939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964120" y="346428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964120" y="3628080"/>
              <a:ext cx="23760" cy="94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502240" y="3263760"/>
            <a:ext cx="921960" cy="22320"/>
            <a:chOff x="5502240" y="3263760"/>
            <a:chExt cx="921960" cy="22320"/>
          </a:xfrm>
        </p:grpSpPr>
        <p:sp>
          <p:nvSpPr>
            <p:cNvPr id="1412" name=""/>
            <p:cNvSpPr/>
            <p:nvPr/>
          </p:nvSpPr>
          <p:spPr>
            <a:xfrm>
              <a:off x="5502240" y="3263760"/>
              <a:ext cx="9396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66712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32360" y="3263760"/>
              <a:ext cx="9540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9868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16356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29880" y="3263760"/>
              <a:ext cx="94320" cy="22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5726160" y="2803680"/>
            <a:ext cx="3240" cy="97920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211800" y="2814480"/>
            <a:ext cx="1800" cy="96840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502240" y="3535200"/>
            <a:ext cx="959040" cy="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514840" y="3049560"/>
            <a:ext cx="946440" cy="3240"/>
          </a:xfrm>
          <a:prstGeom prst="line">
            <a:avLst/>
          </a:prstGeom>
          <a:ln w="15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6320" y="2790720"/>
            <a:ext cx="625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774760" y="284940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74040" y="2990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844960" y="2990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75440" y="3060720"/>
            <a:ext cx="3096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294240" y="3121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366960" y="3121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65880" y="3060720"/>
            <a:ext cx="344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3600" y="3133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55960" y="31338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502240" y="2803680"/>
            <a:ext cx="3556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621040" y="2860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690880" y="28605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526000" y="3500280"/>
            <a:ext cx="3682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644800" y="356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14640" y="356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129360" y="2790720"/>
            <a:ext cx="3668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246360" y="28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319440" y="2849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29360" y="3511440"/>
            <a:ext cx="390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246360" y="356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319440" y="356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648480" y="2841480"/>
            <a:ext cx="1974960" cy="39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l 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740560" y="2436840"/>
            <a:ext cx="2271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921280" y="2494080"/>
            <a:ext cx="213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tioning-based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89800" y="3768840"/>
            <a:ext cx="237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361120" y="3898800"/>
            <a:ext cx="21412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346720" y="2638440"/>
            <a:ext cx="25560" cy="12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61120" y="2624040"/>
            <a:ext cx="3538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5645160" y="2638440"/>
            <a:ext cx="152280" cy="151920"/>
            <a:chOff x="5645160" y="2638440"/>
            <a:chExt cx="152280" cy="151920"/>
          </a:xfrm>
        </p:grpSpPr>
        <p:sp>
          <p:nvSpPr>
            <p:cNvPr id="1452" name=""/>
            <p:cNvSpPr/>
            <p:nvPr/>
          </p:nvSpPr>
          <p:spPr>
            <a:xfrm>
              <a:off x="5703480" y="2638440"/>
              <a:ext cx="234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45160" y="2649960"/>
              <a:ext cx="152280" cy="14040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0" y="0"/>
                  </a:moveTo>
                  <a:lnTo>
                    <a:pt x="60" y="12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5630760" y="3863880"/>
            <a:ext cx="15289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091560" y="392256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719400" y="3922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7" name=""/>
          <p:cNvCxnSpPr>
            <a:stCxn id="1293" idx="2"/>
            <a:endCxn id="1349" idx="0"/>
          </p:cNvCxnSpPr>
          <p:nvPr/>
        </p:nvCxnSpPr>
        <p:spPr>
          <a:xfrm flipH="1">
            <a:off x="7000200" y="2266920"/>
            <a:ext cx="11880" cy="170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8" name=""/>
          <p:cNvSpPr/>
          <p:nvPr/>
        </p:nvSpPr>
        <p:spPr>
          <a:xfrm>
            <a:off x="5651640" y="4362480"/>
            <a:ext cx="2720880" cy="22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lap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651640" y="4743360"/>
            <a:ext cx="2720880" cy="22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R Low-temp ann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651640" y="5132520"/>
            <a:ext cx="2720880" cy="226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R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1" name=""/>
          <p:cNvCxnSpPr>
            <a:stCxn id="1401" idx="2"/>
            <a:endCxn id="1458" idx="0"/>
          </p:cNvCxnSpPr>
          <p:nvPr/>
        </p:nvCxnSpPr>
        <p:spPr>
          <a:xfrm>
            <a:off x="6989760" y="4108320"/>
            <a:ext cx="23040" cy="25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2" name=""/>
          <p:cNvCxnSpPr>
            <a:stCxn id="1458" idx="2"/>
            <a:endCxn id="1459" idx="0"/>
          </p:cNvCxnSpPr>
          <p:nvPr/>
        </p:nvCxnSpPr>
        <p:spPr>
          <a:xfrm>
            <a:off x="7013160" y="4589280"/>
            <a:ext cx="1080" cy="15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3" name=""/>
          <p:cNvCxnSpPr>
            <a:stCxn id="1459" idx="2"/>
            <a:endCxn id="1460" idx="0"/>
          </p:cNvCxnSpPr>
          <p:nvPr/>
        </p:nvCxnSpPr>
        <p:spPr>
          <a:xfrm>
            <a:off x="7013160" y="4970520"/>
            <a:ext cx="1080" cy="16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4" name=""/>
          <p:cNvSpPr/>
          <p:nvPr/>
        </p:nvSpPr>
        <p:spPr>
          <a:xfrm>
            <a:off x="5346720" y="4191120"/>
            <a:ext cx="32814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211720" y="2362320"/>
            <a:ext cx="37036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648480" y="3359160"/>
            <a:ext cx="1974960" cy="39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2E0A-CBC3-48BF-9166-FD82F1FF829F}" type="slidenum">
              <a:t>18</a:t>
            </a:fld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Delay Estimation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hard to estim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dow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higher levels, no accurate loca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GA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segment typ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 distance estim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ment typ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partition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 d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critica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ment typ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391520" y="2819520"/>
            <a:ext cx="1523880" cy="1523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91520" y="35812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153280" y="2819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153280" y="3581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772400" y="2819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391520" y="32004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772400" y="3581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391520" y="39625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534520" y="2819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8153280" y="3200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534520" y="3581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153280" y="3962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391520" y="1066680"/>
            <a:ext cx="1523880" cy="1524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391520" y="1828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153280" y="10666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8153280" y="18288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DDBD-D640-4FCC-A5A5-131BAEF66EAC}" type="slidenum">
              <a:t>19</a:t>
            </a:fld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Significance?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GA increasingly more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time-to-market for en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non-recurr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debugging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easy desig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tools have to catch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, scalabl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GA specific 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D57E-A57D-4414-8C91-F976A20D8E77}" type="slidenum">
              <a:t>2</a:t>
            </a:fld>
          </a:p>
        </p:txBody>
      </p: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1517760" y="3124080"/>
            <a:ext cx="3454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nalysis: Seg Types </a:t>
            </a:r>
            <a:r>
              <a:rPr b="0" lang="en-US" sz="4400" spc="-1" strike="noStrike">
                <a:solidFill>
                  <a:srgbClr val="fff033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 Level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580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lacement &amp;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751200" y="323856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683160" y="3238560"/>
            <a:ext cx="960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861360" y="3306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ex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517760" y="4906800"/>
            <a:ext cx="72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057040" y="49752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517760" y="4024440"/>
            <a:ext cx="72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865160" y="4092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16360" y="4618080"/>
            <a:ext cx="739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61960" y="468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084120" y="4878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957400" y="5265720"/>
            <a:ext cx="7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303360" y="5348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354400" y="5913360"/>
            <a:ext cx="16174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491560" y="6067440"/>
            <a:ext cx="16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829680" y="5983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540520" y="62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rot="16200000">
            <a:off x="42480" y="4234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36844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235320" y="5729400"/>
            <a:ext cx="0" cy="11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409248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23992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97188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124640" y="4616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1447560" y="4700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124640" y="352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447560" y="3611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215040" y="1403280"/>
            <a:ext cx="2340000" cy="23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457200" y="1388880"/>
            <a:ext cx="8112600" cy="2368800"/>
            <a:chOff x="457200" y="1388880"/>
            <a:chExt cx="8112600" cy="2368800"/>
          </a:xfrm>
        </p:grpSpPr>
        <p:cxnSp>
          <p:nvCxnSpPr>
            <p:cNvPr id="1516" name=""/>
            <p:cNvCxnSpPr>
              <a:stCxn id="1514" idx="0"/>
              <a:endCxn id="1514" idx="2"/>
            </p:cNvCxnSpPr>
            <p:nvPr/>
          </p:nvCxnSpPr>
          <p:spPr>
            <a:xfrm>
              <a:off x="7384680" y="1388880"/>
              <a:ext cx="1080" cy="2369160"/>
            </a:xfrm>
            <a:prstGeom prst="straightConnector1">
              <a:avLst/>
            </a:prstGeom>
            <a:ln w="57240">
              <a:solidFill>
                <a:srgbClr val="808000"/>
              </a:solidFill>
              <a:prstDash val="sysDot"/>
              <a:miter/>
            </a:ln>
          </p:spPr>
        </p:cxnSp>
        <p:cxnSp>
          <p:nvCxnSpPr>
            <p:cNvPr id="1517" name=""/>
            <p:cNvCxnSpPr>
              <a:stCxn id="1514" idx="1"/>
              <a:endCxn id="1514" idx="3"/>
            </p:cNvCxnSpPr>
            <p:nvPr/>
          </p:nvCxnSpPr>
          <p:spPr>
            <a:xfrm>
              <a:off x="6200640" y="2572920"/>
              <a:ext cx="2369520" cy="1080"/>
            </a:xfrm>
            <a:prstGeom prst="straightConnector1">
              <a:avLst/>
            </a:prstGeom>
            <a:ln w="57240">
              <a:solidFill>
                <a:srgbClr val="808000"/>
              </a:solidFill>
              <a:prstDash val="sysDot"/>
              <a:miter/>
            </a:ln>
          </p:spPr>
        </p:cxnSp>
        <p:sp>
          <p:nvSpPr>
            <p:cNvPr id="1518" name=""/>
            <p:cNvSpPr/>
            <p:nvPr/>
          </p:nvSpPr>
          <p:spPr>
            <a:xfrm>
              <a:off x="457200" y="1593720"/>
              <a:ext cx="55800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unt segment types crossing level 1 bounda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2889-C33E-4786-8CA7-34DED76F2CEE}" type="slidenum">
              <a:t>20</a:t>
            </a:fld>
          </a:p>
        </p:txBody>
      </p:sp>
    </p:spTree>
  </p:cSld>
  <p:transition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"/>
          <p:cNvGrpSpPr/>
          <p:nvPr/>
        </p:nvGrpSpPr>
        <p:grpSpPr>
          <a:xfrm>
            <a:off x="6068880" y="1268280"/>
            <a:ext cx="2617920" cy="2568600"/>
            <a:chOff x="6068880" y="1268280"/>
            <a:chExt cx="2617920" cy="2568600"/>
          </a:xfrm>
        </p:grpSpPr>
        <p:sp>
          <p:nvSpPr>
            <p:cNvPr id="1520" name=""/>
            <p:cNvSpPr/>
            <p:nvPr/>
          </p:nvSpPr>
          <p:spPr>
            <a:xfrm>
              <a:off x="6068880" y="1268280"/>
              <a:ext cx="1170000" cy="117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516800" y="1268280"/>
              <a:ext cx="1170000" cy="117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95880" y="2666880"/>
              <a:ext cx="1170000" cy="117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16800" y="2666880"/>
              <a:ext cx="1170000" cy="117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517760" y="3124080"/>
            <a:ext cx="3454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nalysis: Seg Types </a:t>
            </a:r>
            <a:r>
              <a:rPr b="0" lang="en-US" sz="4400" spc="-1" strike="noStrike">
                <a:solidFill>
                  <a:srgbClr val="fff033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 Level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580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lacement &amp;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751200" y="323856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683160" y="3238560"/>
            <a:ext cx="960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861360" y="3306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ex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517760" y="4906800"/>
            <a:ext cx="72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57040" y="49752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517760" y="4024440"/>
            <a:ext cx="72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865160" y="4092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916360" y="4618080"/>
            <a:ext cx="739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261960" y="468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084120" y="4878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957400" y="5265720"/>
            <a:ext cx="7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303360" y="5348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354400" y="5913360"/>
            <a:ext cx="16174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491560" y="6067440"/>
            <a:ext cx="16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29680" y="5983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540520" y="62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rot="16200000">
            <a:off x="42480" y="4234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36844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235320" y="5729400"/>
            <a:ext cx="0" cy="11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09248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23992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97188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124640" y="4616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1447560" y="4700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124640" y="352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447560" y="3611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1484280" y="1593720"/>
            <a:ext cx="6853320" cy="3140280"/>
            <a:chOff x="1484280" y="1593720"/>
            <a:chExt cx="6853320" cy="3140280"/>
          </a:xfrm>
        </p:grpSpPr>
        <p:sp>
          <p:nvSpPr>
            <p:cNvPr id="1554" name=""/>
            <p:cNvSpPr/>
            <p:nvPr/>
          </p:nvSpPr>
          <p:spPr>
            <a:xfrm>
              <a:off x="1608120" y="4202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L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484280" y="4651200"/>
              <a:ext cx="69840" cy="828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6421320" y="1593720"/>
              <a:ext cx="1916280" cy="1717920"/>
              <a:chOff x="6421320" y="1593720"/>
              <a:chExt cx="1916280" cy="1717920"/>
            </a:xfrm>
          </p:grpSpPr>
          <p:sp>
            <p:nvSpPr>
              <p:cNvPr id="1557" name=""/>
              <p:cNvSpPr/>
              <p:nvPr/>
            </p:nvSpPr>
            <p:spPr>
              <a:xfrm>
                <a:off x="7015320" y="1593720"/>
                <a:ext cx="8143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805440" y="2354400"/>
                <a:ext cx="81468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211880" y="3311640"/>
                <a:ext cx="81468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7772400" y="2243160"/>
                <a:ext cx="0" cy="814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6421320" y="1847880"/>
                <a:ext cx="0" cy="814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8337600" y="2097000"/>
                <a:ext cx="0" cy="814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3" name=""/>
          <p:cNvGrpSpPr/>
          <p:nvPr/>
        </p:nvGrpSpPr>
        <p:grpSpPr>
          <a:xfrm>
            <a:off x="1460520" y="1294920"/>
            <a:ext cx="7226280" cy="3954960"/>
            <a:chOff x="1460520" y="1294920"/>
            <a:chExt cx="7226280" cy="3954960"/>
          </a:xfrm>
        </p:grpSpPr>
        <p:sp>
          <p:nvSpPr>
            <p:cNvPr id="1564" name=""/>
            <p:cNvSpPr/>
            <p:nvPr/>
          </p:nvSpPr>
          <p:spPr>
            <a:xfrm>
              <a:off x="1656360" y="49752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460520" y="5133960"/>
              <a:ext cx="100080" cy="889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95880" y="1294920"/>
              <a:ext cx="2590920" cy="2514600"/>
              <a:chOff x="6095880" y="1294920"/>
              <a:chExt cx="2590920" cy="251460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3429000"/>
                <a:ext cx="259092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95880" y="2057400"/>
                <a:ext cx="259092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V="1">
                <a:off x="6934320" y="1294920"/>
                <a:ext cx="0" cy="251460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0" name=""/>
          <p:cNvGrpSpPr/>
          <p:nvPr/>
        </p:nvGrpSpPr>
        <p:grpSpPr>
          <a:xfrm>
            <a:off x="1474920" y="1708200"/>
            <a:ext cx="6970680" cy="4102200"/>
            <a:chOff x="1474920" y="1708200"/>
            <a:chExt cx="6970680" cy="4102200"/>
          </a:xfrm>
        </p:grpSpPr>
        <p:grpSp>
          <p:nvGrpSpPr>
            <p:cNvPr id="1571" name=""/>
            <p:cNvGrpSpPr/>
            <p:nvPr/>
          </p:nvGrpSpPr>
          <p:grpSpPr>
            <a:xfrm>
              <a:off x="1474920" y="5348160"/>
              <a:ext cx="442440" cy="462240"/>
              <a:chOff x="1474920" y="5348160"/>
              <a:chExt cx="442440" cy="462240"/>
            </a:xfrm>
          </p:grpSpPr>
          <p:sp>
            <p:nvSpPr>
              <p:cNvPr id="1572" name=""/>
              <p:cNvSpPr/>
              <p:nvPr/>
            </p:nvSpPr>
            <p:spPr>
              <a:xfrm>
                <a:off x="1587600" y="53481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cc33"/>
                    </a:solidFill>
                    <a:latin typeface="Arial"/>
                  </a:rPr>
                  <a:t>L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663560" y="55357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</a:rPr>
                  <a:t>L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474920" y="5465880"/>
                <a:ext cx="93600" cy="8892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74920" y="5665680"/>
                <a:ext cx="99720" cy="106560"/>
              </a:xfrm>
              <a:prstGeom prst="plus">
                <a:avLst>
                  <a:gd name="adj" fmla="val 25000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540480" y="1708200"/>
              <a:ext cx="1905120" cy="1917720"/>
              <a:chOff x="6540480" y="1708200"/>
              <a:chExt cx="1905120" cy="1917720"/>
            </a:xfrm>
          </p:grpSpPr>
          <p:grpSp>
            <p:nvGrpSpPr>
              <p:cNvPr id="1577" name=""/>
              <p:cNvGrpSpPr/>
              <p:nvPr/>
            </p:nvGrpSpPr>
            <p:grpSpPr>
              <a:xfrm>
                <a:off x="7221600" y="1708200"/>
                <a:ext cx="376200" cy="1917720"/>
                <a:chOff x="7221600" y="1708200"/>
                <a:chExt cx="376200" cy="19177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7221600" y="1847880"/>
                  <a:ext cx="274680" cy="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46800" y="2216160"/>
                  <a:ext cx="274680" cy="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323120" y="2889360"/>
                  <a:ext cx="274680" cy="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21600" y="3625920"/>
                  <a:ext cx="274680" cy="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310520" y="1708200"/>
                  <a:ext cx="13644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48680" y="3257640"/>
                  <a:ext cx="13644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540480" y="2379240"/>
                <a:ext cx="1905120" cy="312840"/>
                <a:chOff x="6540480" y="2379240"/>
                <a:chExt cx="1905120" cy="312840"/>
              </a:xfrm>
            </p:grpSpPr>
            <p:sp>
              <p:nvSpPr>
                <p:cNvPr id="1585" name=""/>
                <p:cNvSpPr/>
                <p:nvPr/>
              </p:nvSpPr>
              <p:spPr>
                <a:xfrm flipV="1">
                  <a:off x="7521480" y="2404800"/>
                  <a:ext cx="0" cy="2746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8182080" y="2417400"/>
                  <a:ext cx="0" cy="2746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645240" y="2379240"/>
                  <a:ext cx="0" cy="274680"/>
                </a:xfrm>
                <a:prstGeom prst="line">
                  <a:avLst/>
                </a:prstGeom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335720" y="247032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V="1">
                  <a:off x="7670880" y="251604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8064360" y="2528640"/>
                  <a:ext cx="0" cy="13644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8445600" y="2528640"/>
                  <a:ext cx="0" cy="13644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V="1">
                  <a:off x="7061040" y="2503080"/>
                  <a:ext cx="0" cy="13644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>
                  <a:off x="6540480" y="2516040"/>
                  <a:ext cx="0" cy="13680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1594" name=""/>
          <p:cNvCxnSpPr/>
          <p:nvPr/>
        </p:nvCxnSpPr>
        <p:spPr>
          <a:xfrm>
            <a:off x="7384680" y="1388880"/>
            <a:ext cx="1080" cy="236916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cxnSp>
        <p:nvCxnSpPr>
          <p:cNvPr id="1595" name=""/>
          <p:cNvCxnSpPr/>
          <p:nvPr/>
        </p:nvCxnSpPr>
        <p:spPr>
          <a:xfrm>
            <a:off x="6200640" y="2572920"/>
            <a:ext cx="2369520" cy="108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1596" name=""/>
          <p:cNvSpPr/>
          <p:nvPr/>
        </p:nvSpPr>
        <p:spPr>
          <a:xfrm>
            <a:off x="457200" y="1593720"/>
            <a:ext cx="5580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egment types crossing level 1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DB04-5845-4999-B413-25B1D7509E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6068880" y="1268280"/>
            <a:ext cx="1170000" cy="117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516800" y="1268280"/>
            <a:ext cx="1170000" cy="117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095880" y="2666880"/>
            <a:ext cx="1170000" cy="117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516800" y="2666880"/>
            <a:ext cx="1170000" cy="117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517760" y="3124080"/>
            <a:ext cx="3454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nalysis: Seg Types </a:t>
            </a:r>
            <a:r>
              <a:rPr b="0" lang="en-US" sz="4400" spc="-1" strike="noStrike">
                <a:solidFill>
                  <a:srgbClr val="fff033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 Level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580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lacement &amp;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751200" y="323856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683160" y="3238560"/>
            <a:ext cx="960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861360" y="3306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ex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517760" y="4906800"/>
            <a:ext cx="72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057040" y="49752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517760" y="4024440"/>
            <a:ext cx="72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865160" y="4092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916360" y="4618080"/>
            <a:ext cx="739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261960" y="468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084120" y="4878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957400" y="5265720"/>
            <a:ext cx="7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303360" y="5348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354400" y="5913360"/>
            <a:ext cx="16174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491560" y="6067440"/>
            <a:ext cx="16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829680" y="5983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40520" y="62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rot="16200000">
            <a:off x="42480" y="4234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36844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3235320" y="5729400"/>
            <a:ext cx="0" cy="11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09248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23992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97188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124640" y="4616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1447560" y="4700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124640" y="352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1447560" y="3611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608120" y="4202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484280" y="4651200"/>
            <a:ext cx="69840" cy="82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656360" y="49752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60520" y="5133960"/>
            <a:ext cx="100080" cy="889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1474920" y="5348160"/>
            <a:ext cx="442440" cy="462240"/>
            <a:chOff x="1474920" y="5348160"/>
            <a:chExt cx="442440" cy="462240"/>
          </a:xfrm>
        </p:grpSpPr>
        <p:sp>
          <p:nvSpPr>
            <p:cNvPr id="1635" name=""/>
            <p:cNvSpPr/>
            <p:nvPr/>
          </p:nvSpPr>
          <p:spPr>
            <a:xfrm>
              <a:off x="1587600" y="5348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663560" y="5535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474920" y="5465880"/>
              <a:ext cx="9360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474920" y="5665680"/>
              <a:ext cx="9972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9" name=""/>
          <p:cNvCxnSpPr/>
          <p:nvPr/>
        </p:nvCxnSpPr>
        <p:spPr>
          <a:xfrm>
            <a:off x="7384680" y="1388880"/>
            <a:ext cx="1080" cy="236916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cxnSp>
        <p:nvCxnSpPr>
          <p:cNvPr id="1640" name=""/>
          <p:cNvCxnSpPr/>
          <p:nvPr/>
        </p:nvCxnSpPr>
        <p:spPr>
          <a:xfrm>
            <a:off x="6200640" y="2572920"/>
            <a:ext cx="2369520" cy="108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1641" name=""/>
          <p:cNvSpPr/>
          <p:nvPr/>
        </p:nvSpPr>
        <p:spPr>
          <a:xfrm>
            <a:off x="457200" y="1593720"/>
            <a:ext cx="5580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egment types crossing level 1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457200" y="1254240"/>
            <a:ext cx="8229600" cy="2616120"/>
            <a:chOff x="457200" y="1254240"/>
            <a:chExt cx="8229600" cy="2616120"/>
          </a:xfrm>
        </p:grpSpPr>
        <p:grpSp>
          <p:nvGrpSpPr>
            <p:cNvPr id="1643" name=""/>
            <p:cNvGrpSpPr/>
            <p:nvPr/>
          </p:nvGrpSpPr>
          <p:grpSpPr>
            <a:xfrm>
              <a:off x="6095880" y="1254240"/>
              <a:ext cx="2590920" cy="2616120"/>
              <a:chOff x="6095880" y="1254240"/>
              <a:chExt cx="2590920" cy="2616120"/>
            </a:xfrm>
          </p:grpSpPr>
          <p:sp>
            <p:nvSpPr>
              <p:cNvPr id="1644" name=""/>
              <p:cNvSpPr/>
              <p:nvPr/>
            </p:nvSpPr>
            <p:spPr>
              <a:xfrm>
                <a:off x="7543800" y="1828800"/>
                <a:ext cx="1143000" cy="1440"/>
              </a:xfrm>
              <a:prstGeom prst="line">
                <a:avLst/>
              </a:prstGeom>
              <a:ln w="28440">
                <a:solidFill>
                  <a:srgbClr val="8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102520" y="1254240"/>
                <a:ext cx="1800" cy="1190520"/>
              </a:xfrm>
              <a:prstGeom prst="line">
                <a:avLst/>
              </a:prstGeom>
              <a:ln w="28440">
                <a:solidFill>
                  <a:srgbClr val="8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6095880" y="1295280"/>
                <a:ext cx="1143000" cy="1190520"/>
                <a:chOff x="6095880" y="1295280"/>
                <a:chExt cx="1143000" cy="119052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6095880" y="1876320"/>
                  <a:ext cx="1143000" cy="1440"/>
                </a:xfrm>
                <a:prstGeom prst="line">
                  <a:avLst/>
                </a:prstGeom>
                <a:ln w="28440">
                  <a:solidFill>
                    <a:srgbClr val="808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629400" y="1295280"/>
                  <a:ext cx="1440" cy="1190520"/>
                </a:xfrm>
                <a:prstGeom prst="line">
                  <a:avLst/>
                </a:prstGeom>
                <a:ln w="28440">
                  <a:solidFill>
                    <a:srgbClr val="808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6095880" y="2666880"/>
                <a:ext cx="1143000" cy="1190520"/>
                <a:chOff x="6095880" y="2666880"/>
                <a:chExt cx="1143000" cy="119052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6095880" y="3247920"/>
                  <a:ext cx="1143000" cy="1440"/>
                </a:xfrm>
                <a:prstGeom prst="line">
                  <a:avLst/>
                </a:prstGeom>
                <a:ln w="28440">
                  <a:solidFill>
                    <a:srgbClr val="808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6629400" y="2666880"/>
                  <a:ext cx="1440" cy="1190520"/>
                </a:xfrm>
                <a:prstGeom prst="line">
                  <a:avLst/>
                </a:prstGeom>
                <a:ln w="28440">
                  <a:solidFill>
                    <a:srgbClr val="808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2" name=""/>
              <p:cNvSpPr/>
              <p:nvPr/>
            </p:nvSpPr>
            <p:spPr>
              <a:xfrm>
                <a:off x="7543800" y="3247920"/>
                <a:ext cx="1143000" cy="1800"/>
              </a:xfrm>
              <a:prstGeom prst="line">
                <a:avLst/>
              </a:prstGeom>
              <a:ln w="28440">
                <a:solidFill>
                  <a:srgbClr val="8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110440" y="2679840"/>
                <a:ext cx="1800" cy="1190520"/>
              </a:xfrm>
              <a:prstGeom prst="line">
                <a:avLst/>
              </a:prstGeom>
              <a:ln w="28440">
                <a:solidFill>
                  <a:srgbClr val="8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4" name=""/>
            <p:cNvSpPr/>
            <p:nvPr/>
          </p:nvSpPr>
          <p:spPr>
            <a:xfrm>
              <a:off x="457200" y="2354400"/>
              <a:ext cx="55800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peat for other lev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347F-AA26-4BA5-8A40-A0EC6113755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517760" y="3124080"/>
            <a:ext cx="3454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nalysis: Seg Types </a:t>
            </a:r>
            <a:r>
              <a:rPr b="0" lang="en-US" sz="4400" spc="-1" strike="noStrike">
                <a:solidFill>
                  <a:srgbClr val="fff033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 Level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580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lacement &amp;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751200" y="323856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683160" y="3238560"/>
            <a:ext cx="960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861360" y="3306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ex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517760" y="4906800"/>
            <a:ext cx="72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057040" y="49752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17760" y="4024440"/>
            <a:ext cx="72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865160" y="4092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916360" y="4618080"/>
            <a:ext cx="739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61960" y="468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084120" y="4878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957400" y="5265720"/>
            <a:ext cx="7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303360" y="5348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354400" y="5913360"/>
            <a:ext cx="16174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491560" y="6067440"/>
            <a:ext cx="16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29680" y="5983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540520" y="62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rot="16200000">
            <a:off x="42480" y="4234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36844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235320" y="5729400"/>
            <a:ext cx="0" cy="11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09248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23992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97188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124640" y="4616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1447560" y="4700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124640" y="352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1447560" y="3611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608120" y="4202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484280" y="4651200"/>
            <a:ext cx="69840" cy="82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656360" y="49752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460520" y="5133960"/>
            <a:ext cx="100080" cy="889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474920" y="5348160"/>
            <a:ext cx="442440" cy="462240"/>
            <a:chOff x="1474920" y="5348160"/>
            <a:chExt cx="442440" cy="462240"/>
          </a:xfrm>
        </p:grpSpPr>
        <p:sp>
          <p:nvSpPr>
            <p:cNvPr id="1689" name=""/>
            <p:cNvSpPr/>
            <p:nvPr/>
          </p:nvSpPr>
          <p:spPr>
            <a:xfrm>
              <a:off x="1587600" y="5348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663560" y="5535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474920" y="5465880"/>
              <a:ext cx="9360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474920" y="5665680"/>
              <a:ext cx="9972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93" name=""/>
          <p:cNvCxnSpPr/>
          <p:nvPr/>
        </p:nvCxnSpPr>
        <p:spPr>
          <a:xfrm>
            <a:off x="7384680" y="1388880"/>
            <a:ext cx="1080" cy="236916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cxnSp>
        <p:nvCxnSpPr>
          <p:cNvPr id="1694" name=""/>
          <p:cNvCxnSpPr/>
          <p:nvPr/>
        </p:nvCxnSpPr>
        <p:spPr>
          <a:xfrm>
            <a:off x="6200640" y="2572920"/>
            <a:ext cx="2369520" cy="108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1695" name=""/>
          <p:cNvSpPr/>
          <p:nvPr/>
        </p:nvSpPr>
        <p:spPr>
          <a:xfrm>
            <a:off x="457200" y="1593720"/>
            <a:ext cx="5580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egment types crossing level 1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6095880" y="1295280"/>
            <a:ext cx="1143000" cy="1190520"/>
            <a:chOff x="6095880" y="1295280"/>
            <a:chExt cx="1143000" cy="1190520"/>
          </a:xfrm>
        </p:grpSpPr>
        <p:sp>
          <p:nvSpPr>
            <p:cNvPr id="1697" name=""/>
            <p:cNvSpPr/>
            <p:nvPr/>
          </p:nvSpPr>
          <p:spPr>
            <a:xfrm>
              <a:off x="6095880" y="1876320"/>
              <a:ext cx="114300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629400" y="1295280"/>
              <a:ext cx="1440" cy="119052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5967360" y="1219320"/>
            <a:ext cx="1347840" cy="1295280"/>
            <a:chOff x="5967360" y="1219320"/>
            <a:chExt cx="1347840" cy="1295280"/>
          </a:xfrm>
        </p:grpSpPr>
        <p:sp>
          <p:nvSpPr>
            <p:cNvPr id="1700" name=""/>
            <p:cNvSpPr/>
            <p:nvPr/>
          </p:nvSpPr>
          <p:spPr>
            <a:xfrm>
              <a:off x="6729480" y="192888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729480" y="121932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67360" y="192888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67360" y="121932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7620120" y="1247760"/>
            <a:ext cx="1143000" cy="1190520"/>
            <a:chOff x="7620120" y="1247760"/>
            <a:chExt cx="1143000" cy="1190520"/>
          </a:xfrm>
        </p:grpSpPr>
        <p:sp>
          <p:nvSpPr>
            <p:cNvPr id="1705" name=""/>
            <p:cNvSpPr/>
            <p:nvPr/>
          </p:nvSpPr>
          <p:spPr>
            <a:xfrm>
              <a:off x="7620120" y="1828800"/>
              <a:ext cx="114300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53640" y="1247760"/>
              <a:ext cx="1440" cy="119052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7491240" y="1195560"/>
            <a:ext cx="1347840" cy="1295280"/>
            <a:chOff x="7491240" y="1195560"/>
            <a:chExt cx="1347840" cy="1295280"/>
          </a:xfrm>
        </p:grpSpPr>
        <p:sp>
          <p:nvSpPr>
            <p:cNvPr id="1708" name=""/>
            <p:cNvSpPr/>
            <p:nvPr/>
          </p:nvSpPr>
          <p:spPr>
            <a:xfrm>
              <a:off x="8253360" y="190512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253360" y="119556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491240" y="1905120"/>
              <a:ext cx="58608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491240" y="1195560"/>
              <a:ext cx="58608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7537320" y="3301920"/>
            <a:ext cx="1143000" cy="180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151840" y="2666880"/>
            <a:ext cx="1440" cy="119088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7467480" y="2666880"/>
            <a:ext cx="1347840" cy="1295640"/>
            <a:chOff x="7467480" y="2666880"/>
            <a:chExt cx="1347840" cy="1295640"/>
          </a:xfrm>
        </p:grpSpPr>
        <p:sp>
          <p:nvSpPr>
            <p:cNvPr id="1715" name=""/>
            <p:cNvSpPr/>
            <p:nvPr/>
          </p:nvSpPr>
          <p:spPr>
            <a:xfrm>
              <a:off x="8229600" y="337644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229600" y="266688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467480" y="3376440"/>
              <a:ext cx="58608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467480" y="2666880"/>
              <a:ext cx="58608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6102360" y="3311640"/>
            <a:ext cx="1143000" cy="144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2666880"/>
            <a:ext cx="1440" cy="119088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5943600" y="2666880"/>
            <a:ext cx="1347840" cy="1295640"/>
            <a:chOff x="5943600" y="2666880"/>
            <a:chExt cx="1347840" cy="1295640"/>
          </a:xfrm>
        </p:grpSpPr>
        <p:sp>
          <p:nvSpPr>
            <p:cNvPr id="1722" name=""/>
            <p:cNvSpPr/>
            <p:nvPr/>
          </p:nvSpPr>
          <p:spPr>
            <a:xfrm>
              <a:off x="6705720" y="337644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705720" y="266688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943600" y="337644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943600" y="266688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1560240" y="1219320"/>
            <a:ext cx="7278840" cy="4424400"/>
            <a:chOff x="1560240" y="1219320"/>
            <a:chExt cx="7278840" cy="4424400"/>
          </a:xfrm>
        </p:grpSpPr>
        <p:grpSp>
          <p:nvGrpSpPr>
            <p:cNvPr id="1727" name=""/>
            <p:cNvGrpSpPr/>
            <p:nvPr/>
          </p:nvGrpSpPr>
          <p:grpSpPr>
            <a:xfrm>
              <a:off x="5943600" y="1219320"/>
              <a:ext cx="2895480" cy="2743200"/>
              <a:chOff x="5943600" y="1219320"/>
              <a:chExt cx="2895480" cy="2743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5943600" y="1447920"/>
                <a:ext cx="28954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43600" y="1600200"/>
                <a:ext cx="2895480" cy="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6172200" y="1219320"/>
                <a:ext cx="0" cy="2743200"/>
              </a:xfrm>
              <a:prstGeom prst="line">
                <a:avLst/>
              </a:prstGeom>
              <a:ln w="2844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324480" y="1371600"/>
                <a:ext cx="152640" cy="152280"/>
              </a:xfrm>
              <a:prstGeom prst="ellips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010280" y="1371600"/>
                <a:ext cx="152640" cy="152280"/>
              </a:xfrm>
              <a:prstGeom prst="ellips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95880" y="1219320"/>
                <a:ext cx="152640" cy="152280"/>
              </a:xfrm>
              <a:prstGeom prst="ellips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95880" y="1981080"/>
                <a:ext cx="152640" cy="152640"/>
              </a:xfrm>
              <a:prstGeom prst="ellips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48520" y="1523880"/>
                <a:ext cx="152280" cy="152640"/>
              </a:xfrm>
              <a:prstGeom prst="ellips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781680" y="1523880"/>
                <a:ext cx="152640" cy="152640"/>
              </a:xfrm>
              <a:prstGeom prst="ellips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560240" y="5178600"/>
              <a:ext cx="857520" cy="465120"/>
              <a:chOff x="1560240" y="5178600"/>
              <a:chExt cx="857520" cy="465120"/>
            </a:xfrm>
          </p:grpSpPr>
          <p:sp>
            <p:nvSpPr>
              <p:cNvPr id="1738" name=""/>
              <p:cNvSpPr/>
              <p:nvPr/>
            </p:nvSpPr>
            <p:spPr>
              <a:xfrm>
                <a:off x="2317680" y="5554800"/>
                <a:ext cx="100080" cy="889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9" name=""/>
              <p:cNvCxnSpPr>
                <a:endCxn id="1738" idx="1"/>
              </p:cNvCxnSpPr>
              <p:nvPr/>
            </p:nvCxnSpPr>
            <p:spPr>
              <a:xfrm>
                <a:off x="1560240" y="5178600"/>
                <a:ext cx="757800" cy="421200"/>
              </a:xfrm>
              <a:prstGeom prst="straightConnector1">
                <a:avLst/>
              </a:prstGeom>
              <a:ln w="28440">
                <a:solidFill>
                  <a:srgbClr val="990099"/>
                </a:solidFill>
                <a:miter/>
              </a:ln>
            </p:spPr>
          </p:cxnSp>
        </p:grpSp>
      </p:grpSp>
      <p:sp>
        <p:nvSpPr>
          <p:cNvPr id="1740" name=""/>
          <p:cNvSpPr/>
          <p:nvPr/>
        </p:nvSpPr>
        <p:spPr>
          <a:xfrm>
            <a:off x="457200" y="2354400"/>
            <a:ext cx="5580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oth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7A3D-4435-4402-A615-718E93746DB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1517760" y="3124080"/>
            <a:ext cx="3454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nalysis: Seg Types </a:t>
            </a:r>
            <a:r>
              <a:rPr b="0" lang="en-US" sz="4400" spc="-1" strike="noStrike">
                <a:solidFill>
                  <a:srgbClr val="fff033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 Level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580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lacement &amp;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751200" y="323856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683160" y="3238560"/>
            <a:ext cx="960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861360" y="3306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ex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517760" y="4906800"/>
            <a:ext cx="72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057040" y="49752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517760" y="4024440"/>
            <a:ext cx="72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65160" y="4092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916360" y="4618080"/>
            <a:ext cx="739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261960" y="468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084120" y="4878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957400" y="5265720"/>
            <a:ext cx="7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303360" y="5348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354400" y="5913360"/>
            <a:ext cx="16174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491560" y="6067440"/>
            <a:ext cx="16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829680" y="5983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540520" y="62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16200000">
            <a:off x="42480" y="4234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36844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235320" y="5729400"/>
            <a:ext cx="0" cy="11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09248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23992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97188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124640" y="4616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1447560" y="4700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124640" y="352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1447560" y="3611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608120" y="4202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484280" y="4651200"/>
            <a:ext cx="69840" cy="82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56360" y="49752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460520" y="5133960"/>
            <a:ext cx="100080" cy="889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474920" y="5348160"/>
            <a:ext cx="442440" cy="462240"/>
            <a:chOff x="1474920" y="5348160"/>
            <a:chExt cx="442440" cy="462240"/>
          </a:xfrm>
        </p:grpSpPr>
        <p:sp>
          <p:nvSpPr>
            <p:cNvPr id="1775" name=""/>
            <p:cNvSpPr/>
            <p:nvPr/>
          </p:nvSpPr>
          <p:spPr>
            <a:xfrm>
              <a:off x="1587600" y="5348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63560" y="5535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474920" y="5465880"/>
              <a:ext cx="9360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74920" y="5665680"/>
              <a:ext cx="9972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79" name=""/>
          <p:cNvCxnSpPr/>
          <p:nvPr/>
        </p:nvCxnSpPr>
        <p:spPr>
          <a:xfrm>
            <a:off x="7384680" y="1388880"/>
            <a:ext cx="1080" cy="236916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cxnSp>
        <p:nvCxnSpPr>
          <p:cNvPr id="1780" name=""/>
          <p:cNvCxnSpPr/>
          <p:nvPr/>
        </p:nvCxnSpPr>
        <p:spPr>
          <a:xfrm>
            <a:off x="6200640" y="2572920"/>
            <a:ext cx="2369520" cy="108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1781" name=""/>
          <p:cNvSpPr/>
          <p:nvPr/>
        </p:nvSpPr>
        <p:spPr>
          <a:xfrm>
            <a:off x="457200" y="1593720"/>
            <a:ext cx="5580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egment types crossing level 1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6095880" y="1295280"/>
            <a:ext cx="1143000" cy="1190520"/>
            <a:chOff x="6095880" y="1295280"/>
            <a:chExt cx="1143000" cy="1190520"/>
          </a:xfrm>
        </p:grpSpPr>
        <p:sp>
          <p:nvSpPr>
            <p:cNvPr id="1783" name=""/>
            <p:cNvSpPr/>
            <p:nvPr/>
          </p:nvSpPr>
          <p:spPr>
            <a:xfrm>
              <a:off x="6095880" y="1876320"/>
              <a:ext cx="114300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29400" y="1295280"/>
              <a:ext cx="1440" cy="119052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5967360" y="1219320"/>
            <a:ext cx="1347840" cy="1295280"/>
            <a:chOff x="5967360" y="1219320"/>
            <a:chExt cx="1347840" cy="1295280"/>
          </a:xfrm>
        </p:grpSpPr>
        <p:sp>
          <p:nvSpPr>
            <p:cNvPr id="1786" name=""/>
            <p:cNvSpPr/>
            <p:nvPr/>
          </p:nvSpPr>
          <p:spPr>
            <a:xfrm>
              <a:off x="6729480" y="192888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29480" y="121932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967360" y="192888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967360" y="121932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7620120" y="1247760"/>
            <a:ext cx="1143000" cy="1190520"/>
            <a:chOff x="7620120" y="1247760"/>
            <a:chExt cx="1143000" cy="1190520"/>
          </a:xfrm>
        </p:grpSpPr>
        <p:sp>
          <p:nvSpPr>
            <p:cNvPr id="1791" name=""/>
            <p:cNvSpPr/>
            <p:nvPr/>
          </p:nvSpPr>
          <p:spPr>
            <a:xfrm>
              <a:off x="7620120" y="1828800"/>
              <a:ext cx="114300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153640" y="1247760"/>
              <a:ext cx="1440" cy="119052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7491240" y="1195560"/>
            <a:ext cx="1347840" cy="1295280"/>
            <a:chOff x="7491240" y="1195560"/>
            <a:chExt cx="1347840" cy="1295280"/>
          </a:xfrm>
        </p:grpSpPr>
        <p:sp>
          <p:nvSpPr>
            <p:cNvPr id="1794" name=""/>
            <p:cNvSpPr/>
            <p:nvPr/>
          </p:nvSpPr>
          <p:spPr>
            <a:xfrm>
              <a:off x="8253360" y="190512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253360" y="1195560"/>
              <a:ext cx="58572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491240" y="1905120"/>
              <a:ext cx="58608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491240" y="1195560"/>
              <a:ext cx="586080" cy="58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7537320" y="3301920"/>
            <a:ext cx="1143000" cy="180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8151840" y="2666880"/>
            <a:ext cx="1440" cy="119088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7467480" y="2666880"/>
            <a:ext cx="1347840" cy="1295640"/>
            <a:chOff x="7467480" y="2666880"/>
            <a:chExt cx="1347840" cy="1295640"/>
          </a:xfrm>
        </p:grpSpPr>
        <p:sp>
          <p:nvSpPr>
            <p:cNvPr id="1801" name=""/>
            <p:cNvSpPr/>
            <p:nvPr/>
          </p:nvSpPr>
          <p:spPr>
            <a:xfrm>
              <a:off x="8229600" y="337644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29600" y="266688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467480" y="3376440"/>
              <a:ext cx="58608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467480" y="2666880"/>
              <a:ext cx="58608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6102360" y="3311640"/>
            <a:ext cx="1143000" cy="144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629400" y="2666880"/>
            <a:ext cx="1440" cy="119088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943600" y="2666880"/>
            <a:ext cx="1347840" cy="1295640"/>
            <a:chOff x="5943600" y="2666880"/>
            <a:chExt cx="1347840" cy="1295640"/>
          </a:xfrm>
        </p:grpSpPr>
        <p:sp>
          <p:nvSpPr>
            <p:cNvPr id="1808" name=""/>
            <p:cNvSpPr/>
            <p:nvPr/>
          </p:nvSpPr>
          <p:spPr>
            <a:xfrm>
              <a:off x="6705720" y="337644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705720" y="266688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43600" y="337644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43600" y="2666880"/>
              <a:ext cx="585720" cy="58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560240" y="5178600"/>
            <a:ext cx="857520" cy="465120"/>
            <a:chOff x="1560240" y="5178600"/>
            <a:chExt cx="857520" cy="465120"/>
          </a:xfrm>
        </p:grpSpPr>
        <p:sp>
          <p:nvSpPr>
            <p:cNvPr id="1813" name=""/>
            <p:cNvSpPr/>
            <p:nvPr/>
          </p:nvSpPr>
          <p:spPr>
            <a:xfrm>
              <a:off x="2317680" y="5554800"/>
              <a:ext cx="100080" cy="889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4" name=""/>
            <p:cNvCxnSpPr>
              <a:endCxn id="1813" idx="1"/>
            </p:cNvCxnSpPr>
            <p:nvPr/>
          </p:nvCxnSpPr>
          <p:spPr>
            <a:xfrm>
              <a:off x="1560240" y="5178600"/>
              <a:ext cx="757800" cy="421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</a:ln>
          </p:spPr>
        </p:cxnSp>
      </p:grpSp>
      <p:grpSp>
        <p:nvGrpSpPr>
          <p:cNvPr id="1815" name=""/>
          <p:cNvGrpSpPr/>
          <p:nvPr/>
        </p:nvGrpSpPr>
        <p:grpSpPr>
          <a:xfrm>
            <a:off x="1544760" y="4024440"/>
            <a:ext cx="861840" cy="1709640"/>
            <a:chOff x="1544760" y="4024440"/>
            <a:chExt cx="861840" cy="1709640"/>
          </a:xfrm>
        </p:grpSpPr>
        <p:sp>
          <p:nvSpPr>
            <p:cNvPr id="1816" name=""/>
            <p:cNvSpPr/>
            <p:nvPr/>
          </p:nvSpPr>
          <p:spPr>
            <a:xfrm>
              <a:off x="2319480" y="4024440"/>
              <a:ext cx="69840" cy="82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306520" y="5265720"/>
              <a:ext cx="9396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306520" y="5627520"/>
              <a:ext cx="10008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9" name=""/>
            <p:cNvCxnSpPr>
              <a:endCxn id="1818" idx="1"/>
            </p:cNvCxnSpPr>
            <p:nvPr/>
          </p:nvCxnSpPr>
          <p:spPr>
            <a:xfrm flipV="1">
              <a:off x="1574280" y="5681160"/>
              <a:ext cx="732600" cy="38880"/>
            </a:xfrm>
            <a:prstGeom prst="straightConnector1">
              <a:avLst/>
            </a:prstGeom>
            <a:ln w="28440">
              <a:solidFill>
                <a:srgbClr val="0066ff"/>
              </a:solidFill>
              <a:miter/>
            </a:ln>
          </p:spPr>
        </p:cxnSp>
        <p:cxnSp>
          <p:nvCxnSpPr>
            <p:cNvPr id="1820" name=""/>
            <p:cNvCxnSpPr>
              <a:endCxn id="1817" idx="1"/>
            </p:cNvCxnSpPr>
            <p:nvPr/>
          </p:nvCxnSpPr>
          <p:spPr>
            <a:xfrm flipV="1">
              <a:off x="1544760" y="5309640"/>
              <a:ext cx="786240" cy="200520"/>
            </a:xfrm>
            <a:prstGeom prst="straightConnector1">
              <a:avLst/>
            </a:prstGeom>
            <a:ln w="28440">
              <a:solidFill>
                <a:srgbClr val="33cc33"/>
              </a:solidFill>
              <a:miter/>
            </a:ln>
          </p:spPr>
        </p:cxnSp>
        <p:cxnSp>
          <p:nvCxnSpPr>
            <p:cNvPr id="1821" name=""/>
            <p:cNvCxnSpPr>
              <a:endCxn id="1816" idx="2"/>
            </p:cNvCxnSpPr>
            <p:nvPr/>
          </p:nvCxnSpPr>
          <p:spPr>
            <a:xfrm flipV="1">
              <a:off x="1544760" y="4064760"/>
              <a:ext cx="761040" cy="58500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</a:ln>
          </p:spPr>
        </p:cxnSp>
      </p:grpSp>
      <p:sp>
        <p:nvSpPr>
          <p:cNvPr id="1822" name=""/>
          <p:cNvSpPr/>
          <p:nvPr/>
        </p:nvSpPr>
        <p:spPr>
          <a:xfrm>
            <a:off x="457200" y="2354400"/>
            <a:ext cx="5580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oth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096B-A0D2-4ED4-8465-03314DA21FF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1517760" y="3124080"/>
            <a:ext cx="3454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nalysis: Seg Types </a:t>
            </a:r>
            <a:r>
              <a:rPr b="0" lang="en-US" sz="4400" spc="-1" strike="noStrike">
                <a:solidFill>
                  <a:srgbClr val="fff033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 Level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580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lacement &amp;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751200" y="323856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683160" y="3238560"/>
            <a:ext cx="960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861360" y="3306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ex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517760" y="4906800"/>
            <a:ext cx="726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057040" y="49752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517760" y="4024440"/>
            <a:ext cx="72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865160" y="4092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916360" y="4618080"/>
            <a:ext cx="739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261960" y="4686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084120" y="4878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957400" y="5265720"/>
            <a:ext cx="7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303360" y="5348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354400" y="5913360"/>
            <a:ext cx="16174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491560" y="6067440"/>
            <a:ext cx="16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829680" y="5983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540520" y="62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42480" y="4234320"/>
            <a:ext cx="171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36844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235320" y="5729400"/>
            <a:ext cx="0" cy="11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092480" y="57340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23992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971880" y="582300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124640" y="4616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1447560" y="4700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124640" y="35272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1447560" y="361152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608120" y="4202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484280" y="4651200"/>
            <a:ext cx="69840" cy="82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656360" y="49752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460520" y="5133960"/>
            <a:ext cx="100080" cy="889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1474920" y="5348160"/>
            <a:ext cx="442440" cy="462240"/>
            <a:chOff x="1474920" y="5348160"/>
            <a:chExt cx="442440" cy="462240"/>
          </a:xfrm>
        </p:grpSpPr>
        <p:sp>
          <p:nvSpPr>
            <p:cNvPr id="1857" name=""/>
            <p:cNvSpPr/>
            <p:nvPr/>
          </p:nvSpPr>
          <p:spPr>
            <a:xfrm>
              <a:off x="1587600" y="5348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663560" y="5535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474920" y="5465880"/>
              <a:ext cx="9360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474920" y="5665680"/>
              <a:ext cx="9972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1" name=""/>
          <p:cNvCxnSpPr/>
          <p:nvPr/>
        </p:nvCxnSpPr>
        <p:spPr>
          <a:xfrm>
            <a:off x="7384680" y="1388880"/>
            <a:ext cx="1080" cy="236916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cxnSp>
        <p:nvCxnSpPr>
          <p:cNvPr id="1862" name=""/>
          <p:cNvCxnSpPr/>
          <p:nvPr/>
        </p:nvCxnSpPr>
        <p:spPr>
          <a:xfrm>
            <a:off x="6200640" y="2572920"/>
            <a:ext cx="2369520" cy="1080"/>
          </a:xfrm>
          <a:prstGeom prst="straightConnector1">
            <a:avLst/>
          </a:prstGeom>
          <a:ln w="57240">
            <a:solidFill>
              <a:srgbClr val="808000"/>
            </a:solidFill>
            <a:prstDash val="sysDot"/>
            <a:miter/>
          </a:ln>
        </p:spPr>
      </p:cxnSp>
      <p:sp>
        <p:nvSpPr>
          <p:cNvPr id="1863" name=""/>
          <p:cNvSpPr/>
          <p:nvPr/>
        </p:nvSpPr>
        <p:spPr>
          <a:xfrm>
            <a:off x="457200" y="1593720"/>
            <a:ext cx="5580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segment types crossing level 1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6095880" y="1295280"/>
            <a:ext cx="1143000" cy="1190520"/>
            <a:chOff x="6095880" y="1295280"/>
            <a:chExt cx="1143000" cy="1190520"/>
          </a:xfrm>
        </p:grpSpPr>
        <p:sp>
          <p:nvSpPr>
            <p:cNvPr id="1865" name=""/>
            <p:cNvSpPr/>
            <p:nvPr/>
          </p:nvSpPr>
          <p:spPr>
            <a:xfrm>
              <a:off x="6095880" y="1876320"/>
              <a:ext cx="114300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629400" y="1295280"/>
              <a:ext cx="1440" cy="119052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6729480" y="1928880"/>
            <a:ext cx="58572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729480" y="1219320"/>
            <a:ext cx="58572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967360" y="1928880"/>
            <a:ext cx="58572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967360" y="1219320"/>
            <a:ext cx="58572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7620120" y="1247760"/>
            <a:ext cx="1143000" cy="1190520"/>
            <a:chOff x="7620120" y="1247760"/>
            <a:chExt cx="1143000" cy="1190520"/>
          </a:xfrm>
        </p:grpSpPr>
        <p:sp>
          <p:nvSpPr>
            <p:cNvPr id="1872" name=""/>
            <p:cNvSpPr/>
            <p:nvPr/>
          </p:nvSpPr>
          <p:spPr>
            <a:xfrm>
              <a:off x="7620120" y="1828800"/>
              <a:ext cx="114300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153640" y="1247760"/>
              <a:ext cx="1440" cy="1190520"/>
            </a:xfrm>
            <a:prstGeom prst="line">
              <a:avLst/>
            </a:prstGeom>
            <a:ln w="2844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8253360" y="1905120"/>
            <a:ext cx="58572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8253360" y="1195560"/>
            <a:ext cx="58572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91240" y="1905120"/>
            <a:ext cx="58608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491240" y="1195560"/>
            <a:ext cx="586080" cy="58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7537320" y="3301920"/>
            <a:ext cx="1143000" cy="180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151840" y="2666880"/>
            <a:ext cx="1440" cy="119088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8229600" y="3376440"/>
            <a:ext cx="58572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8229600" y="2666880"/>
            <a:ext cx="58572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7467480" y="3376440"/>
            <a:ext cx="58608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7467480" y="2666880"/>
            <a:ext cx="58608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102360" y="3311640"/>
            <a:ext cx="1143000" cy="144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6629400" y="2666880"/>
            <a:ext cx="1440" cy="1190880"/>
          </a:xfrm>
          <a:prstGeom prst="line">
            <a:avLst/>
          </a:prstGeom>
          <a:ln w="284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3376440"/>
            <a:ext cx="58572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666880"/>
            <a:ext cx="58572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43600" y="3376440"/>
            <a:ext cx="58572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943600" y="2666880"/>
            <a:ext cx="585720" cy="586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317680" y="5554800"/>
            <a:ext cx="100080" cy="8892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endCxn id="1890" idx="1"/>
          </p:cNvCxnSpPr>
          <p:nvPr/>
        </p:nvCxnSpPr>
        <p:spPr>
          <a:xfrm>
            <a:off x="1560240" y="5178600"/>
            <a:ext cx="757800" cy="421200"/>
          </a:xfrm>
          <a:prstGeom prst="straightConnector1">
            <a:avLst/>
          </a:prstGeom>
          <a:ln w="28440">
            <a:solidFill>
              <a:srgbClr val="990099"/>
            </a:solidFill>
            <a:miter/>
          </a:ln>
        </p:spPr>
      </p:cxnSp>
      <p:sp>
        <p:nvSpPr>
          <p:cNvPr id="1892" name=""/>
          <p:cNvSpPr/>
          <p:nvPr/>
        </p:nvSpPr>
        <p:spPr>
          <a:xfrm>
            <a:off x="2319480" y="4024440"/>
            <a:ext cx="69840" cy="8244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306520" y="5265720"/>
            <a:ext cx="93960" cy="889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306520" y="5627520"/>
            <a:ext cx="100080" cy="106560"/>
          </a:xfrm>
          <a:prstGeom prst="plus">
            <a:avLst>
              <a:gd name="adj" fmla="val 2500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5" name=""/>
          <p:cNvCxnSpPr>
            <a:endCxn id="1894" idx="1"/>
          </p:cNvCxnSpPr>
          <p:nvPr/>
        </p:nvCxnSpPr>
        <p:spPr>
          <a:xfrm flipV="1">
            <a:off x="1574280" y="5681160"/>
            <a:ext cx="732600" cy="38880"/>
          </a:xfrm>
          <a:prstGeom prst="straightConnector1">
            <a:avLst/>
          </a:prstGeom>
          <a:ln w="28440">
            <a:solidFill>
              <a:srgbClr val="0066ff"/>
            </a:solidFill>
            <a:miter/>
          </a:ln>
        </p:spPr>
      </p:cxnSp>
      <p:cxnSp>
        <p:nvCxnSpPr>
          <p:cNvPr id="1896" name=""/>
          <p:cNvCxnSpPr>
            <a:endCxn id="1893" idx="1"/>
          </p:cNvCxnSpPr>
          <p:nvPr/>
        </p:nvCxnSpPr>
        <p:spPr>
          <a:xfrm flipV="1">
            <a:off x="1544760" y="5309640"/>
            <a:ext cx="786240" cy="200520"/>
          </a:xfrm>
          <a:prstGeom prst="straightConnector1">
            <a:avLst/>
          </a:prstGeom>
          <a:ln w="28440">
            <a:solidFill>
              <a:srgbClr val="33cc33"/>
            </a:solidFill>
            <a:miter/>
          </a:ln>
        </p:spPr>
      </p:cxnSp>
      <p:cxnSp>
        <p:nvCxnSpPr>
          <p:cNvPr id="1897" name=""/>
          <p:cNvCxnSpPr>
            <a:endCxn id="1892" idx="2"/>
          </p:cNvCxnSpPr>
          <p:nvPr/>
        </p:nvCxnSpPr>
        <p:spPr>
          <a:xfrm flipV="1">
            <a:off x="1544760" y="4064760"/>
            <a:ext cx="761040" cy="585000"/>
          </a:xfrm>
          <a:prstGeom prst="straightConnector1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457200" y="2354400"/>
            <a:ext cx="5580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oth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376000" y="3486240"/>
            <a:ext cx="908640" cy="2286000"/>
            <a:chOff x="2376000" y="3486240"/>
            <a:chExt cx="908640" cy="2286000"/>
          </a:xfrm>
        </p:grpSpPr>
        <p:sp>
          <p:nvSpPr>
            <p:cNvPr id="1900" name=""/>
            <p:cNvSpPr/>
            <p:nvPr/>
          </p:nvSpPr>
          <p:spPr>
            <a:xfrm>
              <a:off x="3195720" y="3486240"/>
              <a:ext cx="69840" cy="82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184560" y="5683320"/>
              <a:ext cx="100080" cy="889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91040" y="5005440"/>
              <a:ext cx="9360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184560" y="5568840"/>
              <a:ext cx="10008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4" name=""/>
            <p:cNvCxnSpPr>
              <a:endCxn id="1903" idx="1"/>
            </p:cNvCxnSpPr>
            <p:nvPr/>
          </p:nvCxnSpPr>
          <p:spPr>
            <a:xfrm flipV="1">
              <a:off x="2406240" y="5622120"/>
              <a:ext cx="778680" cy="59400"/>
            </a:xfrm>
            <a:prstGeom prst="straightConnector1">
              <a:avLst/>
            </a:prstGeom>
            <a:ln w="28440">
              <a:solidFill>
                <a:srgbClr val="0066ff"/>
              </a:solidFill>
              <a:miter/>
            </a:ln>
          </p:spPr>
        </p:cxnSp>
        <p:cxnSp>
          <p:nvCxnSpPr>
            <p:cNvPr id="1905" name=""/>
            <p:cNvCxnSpPr>
              <a:endCxn id="1902" idx="1"/>
            </p:cNvCxnSpPr>
            <p:nvPr/>
          </p:nvCxnSpPr>
          <p:spPr>
            <a:xfrm flipV="1">
              <a:off x="2376000" y="5049360"/>
              <a:ext cx="839160" cy="261360"/>
            </a:xfrm>
            <a:prstGeom prst="straightConnector1">
              <a:avLst/>
            </a:prstGeom>
            <a:ln w="28440">
              <a:solidFill>
                <a:srgbClr val="33cc33"/>
              </a:solidFill>
              <a:miter/>
            </a:ln>
          </p:spPr>
        </p:cxnSp>
        <p:cxnSp>
          <p:nvCxnSpPr>
            <p:cNvPr id="1906" name=""/>
            <p:cNvCxnSpPr>
              <a:endCxn id="1901" idx="1"/>
            </p:cNvCxnSpPr>
            <p:nvPr/>
          </p:nvCxnSpPr>
          <p:spPr>
            <a:xfrm>
              <a:off x="2417760" y="5598720"/>
              <a:ext cx="767520" cy="12924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</a:ln>
          </p:spPr>
        </p:cxnSp>
        <p:cxnSp>
          <p:nvCxnSpPr>
            <p:cNvPr id="1907" name=""/>
            <p:cNvCxnSpPr>
              <a:endCxn id="1900" idx="2"/>
            </p:cNvCxnSpPr>
            <p:nvPr/>
          </p:nvCxnSpPr>
          <p:spPr>
            <a:xfrm flipV="1">
              <a:off x="2379240" y="3526920"/>
              <a:ext cx="802440" cy="49608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</a:ln>
          </p:spPr>
        </p:cxnSp>
      </p:grpSp>
      <p:grpSp>
        <p:nvGrpSpPr>
          <p:cNvPr id="1908" name=""/>
          <p:cNvGrpSpPr/>
          <p:nvPr/>
        </p:nvGrpSpPr>
        <p:grpSpPr>
          <a:xfrm>
            <a:off x="3255480" y="3570120"/>
            <a:ext cx="884880" cy="2221200"/>
            <a:chOff x="3255480" y="3570120"/>
            <a:chExt cx="884880" cy="2221200"/>
          </a:xfrm>
        </p:grpSpPr>
        <p:sp>
          <p:nvSpPr>
            <p:cNvPr id="1909" name=""/>
            <p:cNvSpPr/>
            <p:nvPr/>
          </p:nvSpPr>
          <p:spPr>
            <a:xfrm>
              <a:off x="4046400" y="5049720"/>
              <a:ext cx="69840" cy="828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040280" y="5702400"/>
              <a:ext cx="100080" cy="889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46400" y="4606920"/>
              <a:ext cx="9396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40280" y="5521320"/>
              <a:ext cx="100080" cy="10620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3" name=""/>
            <p:cNvCxnSpPr>
              <a:stCxn id="1903" idx="3"/>
              <a:endCxn id="1912" idx="1"/>
            </p:cNvCxnSpPr>
            <p:nvPr/>
          </p:nvCxnSpPr>
          <p:spPr>
            <a:xfrm flipV="1">
              <a:off x="3284280" y="5574960"/>
              <a:ext cx="756360" cy="48240"/>
            </a:xfrm>
            <a:prstGeom prst="straightConnector1">
              <a:avLst/>
            </a:prstGeom>
            <a:ln w="28440">
              <a:solidFill>
                <a:srgbClr val="0066ff"/>
              </a:solidFill>
              <a:miter/>
            </a:ln>
          </p:spPr>
        </p:cxnSp>
        <p:cxnSp>
          <p:nvCxnSpPr>
            <p:cNvPr id="1914" name=""/>
            <p:cNvCxnSpPr>
              <a:stCxn id="1902" idx="5"/>
              <a:endCxn id="1911" idx="1"/>
            </p:cNvCxnSpPr>
            <p:nvPr/>
          </p:nvCxnSpPr>
          <p:spPr>
            <a:xfrm flipV="1">
              <a:off x="3260520" y="4650480"/>
              <a:ext cx="810360" cy="399240"/>
            </a:xfrm>
            <a:prstGeom prst="straightConnector1">
              <a:avLst/>
            </a:prstGeom>
            <a:ln w="28440">
              <a:solidFill>
                <a:srgbClr val="33cc33"/>
              </a:solidFill>
              <a:miter/>
            </a:ln>
          </p:spPr>
        </p:cxnSp>
        <p:cxnSp>
          <p:nvCxnSpPr>
            <p:cNvPr id="1915" name=""/>
            <p:cNvCxnSpPr>
              <a:stCxn id="1901" idx="3"/>
              <a:endCxn id="1910" idx="1"/>
            </p:cNvCxnSpPr>
            <p:nvPr/>
          </p:nvCxnSpPr>
          <p:spPr>
            <a:xfrm>
              <a:off x="3284280" y="5727240"/>
              <a:ext cx="756360" cy="198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</a:ln>
          </p:spPr>
        </p:cxnSp>
        <p:cxnSp>
          <p:nvCxnSpPr>
            <p:cNvPr id="1916" name=""/>
            <p:cNvCxnSpPr/>
            <p:nvPr/>
          </p:nvCxnSpPr>
          <p:spPr>
            <a:xfrm>
              <a:off x="3255480" y="3570120"/>
              <a:ext cx="801000" cy="147888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</a:ln>
          </p:spPr>
        </p:cxnSp>
      </p:grpSp>
      <p:grpSp>
        <p:nvGrpSpPr>
          <p:cNvPr id="1917" name=""/>
          <p:cNvGrpSpPr/>
          <p:nvPr/>
        </p:nvGrpSpPr>
        <p:grpSpPr>
          <a:xfrm>
            <a:off x="4116240" y="4254480"/>
            <a:ext cx="873360" cy="1550880"/>
            <a:chOff x="4116240" y="4254480"/>
            <a:chExt cx="873360" cy="1550880"/>
          </a:xfrm>
        </p:grpSpPr>
        <p:sp>
          <p:nvSpPr>
            <p:cNvPr id="1918" name=""/>
            <p:cNvSpPr/>
            <p:nvPr/>
          </p:nvSpPr>
          <p:spPr>
            <a:xfrm>
              <a:off x="4889520" y="5675400"/>
              <a:ext cx="69840" cy="82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89520" y="5716440"/>
              <a:ext cx="100080" cy="889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96000" y="4254480"/>
              <a:ext cx="93600" cy="88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889520" y="5549760"/>
              <a:ext cx="100080" cy="106560"/>
            </a:xfrm>
            <a:prstGeom prst="plus">
              <a:avLst>
                <a:gd name="adj" fmla="val 2500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2" name=""/>
            <p:cNvCxnSpPr>
              <a:stCxn id="1912" idx="3"/>
              <a:endCxn id="1921" idx="1"/>
            </p:cNvCxnSpPr>
            <p:nvPr/>
          </p:nvCxnSpPr>
          <p:spPr>
            <a:xfrm>
              <a:off x="4140000" y="5574960"/>
              <a:ext cx="749880" cy="29160"/>
            </a:xfrm>
            <a:prstGeom prst="straightConnector1">
              <a:avLst/>
            </a:prstGeom>
            <a:ln w="28440">
              <a:solidFill>
                <a:srgbClr val="0066ff"/>
              </a:solidFill>
              <a:miter/>
            </a:ln>
          </p:spPr>
        </p:cxnSp>
        <p:cxnSp>
          <p:nvCxnSpPr>
            <p:cNvPr id="1923" name=""/>
            <p:cNvCxnSpPr>
              <a:stCxn id="1911" idx="5"/>
              <a:endCxn id="1920" idx="1"/>
            </p:cNvCxnSpPr>
            <p:nvPr/>
          </p:nvCxnSpPr>
          <p:spPr>
            <a:xfrm flipV="1">
              <a:off x="4116240" y="4298760"/>
              <a:ext cx="804240" cy="352800"/>
            </a:xfrm>
            <a:prstGeom prst="straightConnector1">
              <a:avLst/>
            </a:prstGeom>
            <a:ln w="28440">
              <a:solidFill>
                <a:srgbClr val="33cc33"/>
              </a:solidFill>
              <a:miter/>
            </a:ln>
          </p:spPr>
        </p:cxnSp>
        <p:cxnSp>
          <p:nvCxnSpPr>
            <p:cNvPr id="1924" name=""/>
            <p:cNvCxnSpPr>
              <a:stCxn id="1910" idx="3"/>
              <a:endCxn id="1919" idx="1"/>
            </p:cNvCxnSpPr>
            <p:nvPr/>
          </p:nvCxnSpPr>
          <p:spPr>
            <a:xfrm>
              <a:off x="4140000" y="5746680"/>
              <a:ext cx="749880" cy="1512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</a:ln>
          </p:spPr>
        </p:cxnSp>
        <p:cxnSp>
          <p:nvCxnSpPr>
            <p:cNvPr id="1925" name=""/>
            <p:cNvCxnSpPr>
              <a:stCxn id="1909" idx="6"/>
              <a:endCxn id="1918" idx="2"/>
            </p:cNvCxnSpPr>
            <p:nvPr/>
          </p:nvCxnSpPr>
          <p:spPr>
            <a:xfrm>
              <a:off x="4130640" y="5090760"/>
              <a:ext cx="745200" cy="62604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7D7F-67F2-4770-AB4B-28D58BC34E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Slack, Distance, Delay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2438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hows delay as a function of net criticality and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is net delay after VPR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oint the average over all nets falling in the (dist, crit)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4"/>
          <a:srcRect l="7907" t="5826" r="5645" b="2810"/>
          <a:stretch/>
        </p:blipFill>
        <p:spPr>
          <a:xfrm>
            <a:off x="2666880" y="1219320"/>
            <a:ext cx="62485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E79-CA8B-4282-AD85-B954F0340CCF}" type="slidenum">
              <a:t>26</a:t>
            </a:fld>
          </a:p>
        </p:txBody>
      </p:sp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9" name=""/>
          <p:cNvGrpSpPr/>
          <p:nvPr/>
        </p:nvGrpSpPr>
        <p:grpSpPr>
          <a:xfrm>
            <a:off x="457200" y="1836720"/>
            <a:ext cx="7529040" cy="2046240"/>
            <a:chOff x="457200" y="1836720"/>
            <a:chExt cx="7529040" cy="2046240"/>
          </a:xfrm>
        </p:grpSpPr>
        <p:sp>
          <p:nvSpPr>
            <p:cNvPr id="1930" name=""/>
            <p:cNvSpPr/>
            <p:nvPr/>
          </p:nvSpPr>
          <p:spPr>
            <a:xfrm>
              <a:off x="457200" y="2955960"/>
              <a:ext cx="48006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spcBef>
                  <a:spcPts val="700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13160" indent="-274320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Blue terminals: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5818320" y="1836720"/>
              <a:ext cx="2167920" cy="484200"/>
              <a:chOff x="5818320" y="1836720"/>
              <a:chExt cx="2167920" cy="4842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7551720" y="1882800"/>
                <a:ext cx="434520" cy="431280"/>
                <a:chOff x="7551720" y="1882800"/>
                <a:chExt cx="434520" cy="431280"/>
              </a:xfrm>
            </p:grpSpPr>
            <p:sp>
              <p:nvSpPr>
                <p:cNvPr id="1933" name=""/>
                <p:cNvSpPr/>
                <p:nvPr/>
              </p:nvSpPr>
              <p:spPr>
                <a:xfrm>
                  <a:off x="7551720" y="1882800"/>
                  <a:ext cx="409320" cy="4060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551720" y="1882800"/>
                  <a:ext cx="434520" cy="43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>
                <a:off x="5818320" y="1836720"/>
                <a:ext cx="450720" cy="484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49880" y="1987560"/>
                <a:ext cx="168480" cy="14292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472520" y="1987560"/>
                <a:ext cx="166680" cy="14292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38" name=""/>
              <p:cNvCxnSpPr>
                <a:stCxn id="1936" idx="6"/>
                <a:endCxn id="1937" idx="2"/>
              </p:cNvCxnSpPr>
              <p:nvPr/>
            </p:nvCxnSpPr>
            <p:spPr>
              <a:xfrm>
                <a:off x="6326280" y="2058480"/>
                <a:ext cx="1139040" cy="1080"/>
              </a:xfrm>
              <a:prstGeom prst="straightConnector1">
                <a:avLst/>
              </a:prstGeom>
              <a:ln w="38160">
                <a:solidFill>
                  <a:srgbClr val="008000"/>
                </a:solidFill>
                <a:miter/>
              </a:ln>
            </p:spPr>
          </p:cxnSp>
        </p:grpSp>
      </p:grp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Delay Estimation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8006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ize of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, 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045120" y="3664080"/>
            <a:ext cx="603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396040" y="1460520"/>
            <a:ext cx="3468600" cy="333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5418000" y="1460520"/>
            <a:ext cx="3421080" cy="3306600"/>
            <a:chOff x="5418000" y="1460520"/>
            <a:chExt cx="3421080" cy="3306600"/>
          </a:xfrm>
        </p:grpSpPr>
        <p:sp>
          <p:nvSpPr>
            <p:cNvPr id="1945" name=""/>
            <p:cNvSpPr/>
            <p:nvPr/>
          </p:nvSpPr>
          <p:spPr>
            <a:xfrm>
              <a:off x="5418000" y="2319480"/>
              <a:ext cx="3421080" cy="144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64360" y="1460520"/>
              <a:ext cx="3240" cy="325764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18000" y="3957480"/>
              <a:ext cx="3421080" cy="324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975440" y="1508040"/>
              <a:ext cx="3240" cy="3259080"/>
            </a:xfrm>
            <a:prstGeom prst="line">
              <a:avLst/>
            </a:prstGeom>
            <a:ln w="38160">
              <a:solidFill>
                <a:srgbClr val="8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418000" y="1447920"/>
            <a:ext cx="3421080" cy="3319200"/>
            <a:chOff x="5418000" y="1447920"/>
            <a:chExt cx="3421080" cy="3319200"/>
          </a:xfrm>
        </p:grpSpPr>
        <p:sp>
          <p:nvSpPr>
            <p:cNvPr id="1950" name=""/>
            <p:cNvSpPr/>
            <p:nvPr/>
          </p:nvSpPr>
          <p:spPr>
            <a:xfrm>
              <a:off x="5443560" y="1844640"/>
              <a:ext cx="3395520" cy="180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18000" y="2717640"/>
              <a:ext cx="3421080" cy="324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3560" y="3543480"/>
              <a:ext cx="3395520" cy="288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43560" y="4365720"/>
              <a:ext cx="3395520" cy="144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824440" y="1455840"/>
              <a:ext cx="3240" cy="325728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691320" y="1486080"/>
              <a:ext cx="1440" cy="325728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550280" y="1486080"/>
              <a:ext cx="1440" cy="325728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8418600" y="1447920"/>
              <a:ext cx="0" cy="3319200"/>
            </a:xfrm>
            <a:prstGeom prst="line">
              <a:avLst/>
            </a:prstGeom>
            <a:ln w="28440">
              <a:solidFill>
                <a:srgbClr val="8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5382720" y="1447560"/>
            <a:ext cx="3494160" cy="3355920"/>
            <a:chOff x="5382720" y="1447560"/>
            <a:chExt cx="3494160" cy="3355920"/>
          </a:xfrm>
        </p:grpSpPr>
        <p:cxnSp>
          <p:nvCxnSpPr>
            <p:cNvPr id="1959" name=""/>
            <p:cNvCxnSpPr>
              <a:stCxn id="1943" idx="0"/>
              <a:endCxn id="1943" idx="2"/>
            </p:cNvCxnSpPr>
            <p:nvPr/>
          </p:nvCxnSpPr>
          <p:spPr>
            <a:xfrm>
              <a:off x="7129440" y="1447560"/>
              <a:ext cx="1080" cy="3356280"/>
            </a:xfrm>
            <a:prstGeom prst="straightConnector1">
              <a:avLst/>
            </a:prstGeom>
            <a:ln w="57240">
              <a:solidFill>
                <a:srgbClr val="808000"/>
              </a:solidFill>
              <a:prstDash val="sysDot"/>
              <a:miter/>
            </a:ln>
          </p:spPr>
        </p:cxnSp>
        <p:cxnSp>
          <p:nvCxnSpPr>
            <p:cNvPr id="1960" name=""/>
            <p:cNvCxnSpPr>
              <a:stCxn id="1943" idx="1"/>
              <a:endCxn id="1943" idx="3"/>
            </p:cNvCxnSpPr>
            <p:nvPr/>
          </p:nvCxnSpPr>
          <p:spPr>
            <a:xfrm>
              <a:off x="5382720" y="3126960"/>
              <a:ext cx="3494520" cy="1080"/>
            </a:xfrm>
            <a:prstGeom prst="straightConnector1">
              <a:avLst/>
            </a:prstGeom>
            <a:ln w="57240">
              <a:solidFill>
                <a:srgbClr val="808000"/>
              </a:solidFill>
              <a:prstDash val="sysDot"/>
              <a:miter/>
            </a:ln>
          </p:spPr>
        </p:cxnSp>
      </p:grpSp>
      <p:sp>
        <p:nvSpPr>
          <p:cNvPr id="1961" name=""/>
          <p:cNvSpPr/>
          <p:nvPr/>
        </p:nvSpPr>
        <p:spPr>
          <a:xfrm>
            <a:off x="5948280" y="4987800"/>
            <a:ext cx="20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4941720"/>
            <a:ext cx="436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57200" y="4383000"/>
            <a:ext cx="480060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+ # of b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457200" y="3067200"/>
            <a:ext cx="7578720" cy="1347480"/>
            <a:chOff x="457200" y="3067200"/>
            <a:chExt cx="7578720" cy="1347480"/>
          </a:xfrm>
        </p:grpSpPr>
        <p:grpSp>
          <p:nvGrpSpPr>
            <p:cNvPr id="1965" name=""/>
            <p:cNvGrpSpPr/>
            <p:nvPr/>
          </p:nvGrpSpPr>
          <p:grpSpPr>
            <a:xfrm>
              <a:off x="5746680" y="3067200"/>
              <a:ext cx="2289240" cy="533160"/>
              <a:chOff x="5746680" y="3067200"/>
              <a:chExt cx="2289240" cy="533160"/>
            </a:xfrm>
          </p:grpSpPr>
          <p:grpSp>
            <p:nvGrpSpPr>
              <p:cNvPr id="1966" name=""/>
              <p:cNvGrpSpPr/>
              <p:nvPr/>
            </p:nvGrpSpPr>
            <p:grpSpPr>
              <a:xfrm>
                <a:off x="7559640" y="3130560"/>
                <a:ext cx="433080" cy="429840"/>
                <a:chOff x="7559640" y="3130560"/>
                <a:chExt cx="433080" cy="42984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7559640" y="3130560"/>
                  <a:ext cx="408240" cy="40500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559640" y="3130560"/>
                  <a:ext cx="433080" cy="42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9" name=""/>
              <p:cNvSpPr/>
              <p:nvPr/>
            </p:nvSpPr>
            <p:spPr>
              <a:xfrm>
                <a:off x="5829480" y="3124080"/>
                <a:ext cx="448920" cy="4096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746680" y="3457440"/>
                <a:ext cx="168480" cy="142920"/>
              </a:xfrm>
              <a:prstGeom prst="ellipse">
                <a:avLst/>
              </a:prstGeom>
              <a:solidFill>
                <a:srgbClr val="ff0000"/>
              </a:solidFill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867800" y="3067200"/>
                <a:ext cx="168120" cy="142560"/>
              </a:xfrm>
              <a:prstGeom prst="ellipse">
                <a:avLst/>
              </a:prstGeom>
              <a:solidFill>
                <a:srgbClr val="ff0000"/>
              </a:solidFill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5832360" y="3137040"/>
                <a:ext cx="20354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832360" y="3130560"/>
                <a:ext cx="0" cy="32688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264360" y="3137040"/>
                <a:ext cx="12859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>
              <a:off x="457200" y="3438360"/>
              <a:ext cx="48006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601"/>
                </a:spcBef>
                <a:buSzPct val="102884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ed terminals: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B272-AD6F-415C-AAE3-EBAA7438F986}" type="slidenum">
              <a:t>27</a:t>
            </a:fld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termin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finemen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5135400" y="1828800"/>
            <a:ext cx="3703320" cy="3809160"/>
            <a:chOff x="5135400" y="1828800"/>
            <a:chExt cx="3703320" cy="3809160"/>
          </a:xfrm>
        </p:grpSpPr>
        <p:sp>
          <p:nvSpPr>
            <p:cNvPr id="1979" name=""/>
            <p:cNvSpPr/>
            <p:nvPr/>
          </p:nvSpPr>
          <p:spPr>
            <a:xfrm>
              <a:off x="7679520" y="2119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023520" y="2040120"/>
              <a:ext cx="1974960" cy="226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d5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uting Profi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"/>
            <p:cNvGrpSpPr/>
            <p:nvPr/>
          </p:nvGrpSpPr>
          <p:grpSpPr>
            <a:xfrm>
              <a:off x="5241240" y="2437200"/>
              <a:ext cx="3539880" cy="1696680"/>
              <a:chOff x="5241240" y="2437200"/>
              <a:chExt cx="3539880" cy="1696680"/>
            </a:xfrm>
          </p:grpSpPr>
          <p:sp>
            <p:nvSpPr>
              <p:cNvPr id="1982" name=""/>
              <p:cNvSpPr/>
              <p:nvPr/>
            </p:nvSpPr>
            <p:spPr>
              <a:xfrm>
                <a:off x="5288040" y="2485440"/>
                <a:ext cx="3493080" cy="1648440"/>
              </a:xfrm>
              <a:prstGeom prst="rect">
                <a:avLst/>
              </a:prstGeom>
              <a:solidFill>
                <a:srgbClr val="808080"/>
              </a:solidFill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3" name=""/>
              <p:cNvGrpSpPr/>
              <p:nvPr/>
            </p:nvGrpSpPr>
            <p:grpSpPr>
              <a:xfrm>
                <a:off x="5241240" y="2437200"/>
                <a:ext cx="3481200" cy="1636560"/>
                <a:chOff x="5241240" y="2437200"/>
                <a:chExt cx="3481200" cy="163656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5241240" y="2437200"/>
                  <a:ext cx="35280" cy="1636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5276520" y="2437200"/>
                  <a:ext cx="35280" cy="1636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312160" y="2437200"/>
                  <a:ext cx="23400" cy="1636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5335560" y="2437200"/>
                  <a:ext cx="35280" cy="16365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370840" y="2437200"/>
                  <a:ext cx="36360" cy="16365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5407560" y="2437200"/>
                  <a:ext cx="35280" cy="1636560"/>
                </a:xfrm>
                <a:prstGeom prst="rect">
                  <a:avLst/>
                </a:prstGeom>
                <a:solidFill>
                  <a:srgbClr val="c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5442840" y="2437200"/>
                  <a:ext cx="35280" cy="1636560"/>
                </a:xfrm>
                <a:prstGeom prst="rect">
                  <a:avLst/>
                </a:prstGeom>
                <a:solidFill>
                  <a:srgbClr val="c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5478480" y="2437200"/>
                  <a:ext cx="35280" cy="1636560"/>
                </a:xfrm>
                <a:prstGeom prst="rect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513760" y="2437200"/>
                  <a:ext cx="23400" cy="1636560"/>
                </a:xfrm>
                <a:prstGeom prst="rect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537520" y="2437200"/>
                  <a:ext cx="35280" cy="1636560"/>
                </a:xfrm>
                <a:prstGeom prst="rect">
                  <a:avLst/>
                </a:prstGeom>
                <a:solidFill>
                  <a:srgbClr val="d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5572800" y="2437200"/>
                  <a:ext cx="35280" cy="1636560"/>
                </a:xfrm>
                <a:prstGeom prst="rect">
                  <a:avLst/>
                </a:prstGeom>
                <a:solidFill>
                  <a:srgbClr val="d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5608080" y="2437200"/>
                  <a:ext cx="35280" cy="1636560"/>
                </a:xfrm>
                <a:prstGeom prst="rect">
                  <a:avLst/>
                </a:prstGeom>
                <a:solidFill>
                  <a:srgbClr val="d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5643720" y="2437200"/>
                  <a:ext cx="35280" cy="1636560"/>
                </a:xfrm>
                <a:prstGeom prst="rect">
                  <a:avLst/>
                </a:prstGeom>
                <a:solidFill>
                  <a:srgbClr val="d3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5679000" y="2437200"/>
                  <a:ext cx="35280" cy="1636560"/>
                </a:xfrm>
                <a:prstGeom prst="rect">
                  <a:avLst/>
                </a:prstGeom>
                <a:solidFill>
                  <a:srgbClr val="d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5714640" y="2437200"/>
                  <a:ext cx="23760" cy="1636560"/>
                </a:xfrm>
                <a:prstGeom prst="rect">
                  <a:avLst/>
                </a:prstGeom>
                <a:solidFill>
                  <a:srgbClr val="d5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738400" y="2437200"/>
                  <a:ext cx="35280" cy="1636560"/>
                </a:xfrm>
                <a:prstGeom prst="rect">
                  <a:avLst/>
                </a:prstGeom>
                <a:solidFill>
                  <a:srgbClr val="d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773680" y="2437200"/>
                  <a:ext cx="35280" cy="1636560"/>
                </a:xfrm>
                <a:prstGeom prst="rect">
                  <a:avLst/>
                </a:prstGeom>
                <a:solidFill>
                  <a:srgbClr val="d8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808960" y="2437200"/>
                  <a:ext cx="35280" cy="1636560"/>
                </a:xfrm>
                <a:prstGeom prst="rect">
                  <a:avLst/>
                </a:prstGeom>
                <a:solidFill>
                  <a:srgbClr val="d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844240" y="2437200"/>
                  <a:ext cx="36360" cy="1636560"/>
                </a:xfrm>
                <a:prstGeom prst="rect">
                  <a:avLst/>
                </a:prstGeom>
                <a:solidFill>
                  <a:srgbClr val="d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880960" y="2437200"/>
                  <a:ext cx="35280" cy="1636560"/>
                </a:xfrm>
                <a:prstGeom prst="rect">
                  <a:avLst/>
                </a:prstGeom>
                <a:solidFill>
                  <a:srgbClr val="d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916600" y="2437200"/>
                  <a:ext cx="23760" cy="1636560"/>
                </a:xfrm>
                <a:prstGeom prst="rect">
                  <a:avLst/>
                </a:prstGeom>
                <a:solidFill>
                  <a:srgbClr val="d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940360" y="2437200"/>
                  <a:ext cx="35280" cy="1636560"/>
                </a:xfrm>
                <a:prstGeom prst="rect">
                  <a:avLst/>
                </a:prstGeom>
                <a:solidFill>
                  <a:srgbClr val="d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975640" y="2437200"/>
                  <a:ext cx="35280" cy="1636560"/>
                </a:xfrm>
                <a:prstGeom prst="rect">
                  <a:avLst/>
                </a:prstGeom>
                <a:solidFill>
                  <a:srgbClr val="e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010920" y="2437200"/>
                  <a:ext cx="35280" cy="1636560"/>
                </a:xfrm>
                <a:prstGeom prst="rect">
                  <a:avLst/>
                </a:prstGeom>
                <a:solidFill>
                  <a:srgbClr val="e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046200" y="2437200"/>
                  <a:ext cx="35280" cy="1636560"/>
                </a:xfrm>
                <a:prstGeom prst="rect">
                  <a:avLst/>
                </a:prstGeom>
                <a:solidFill>
                  <a:srgbClr val="e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081840" y="2437200"/>
                  <a:ext cx="35280" cy="1636560"/>
                </a:xfrm>
                <a:prstGeom prst="rect">
                  <a:avLst/>
                </a:prstGeom>
                <a:solidFill>
                  <a:srgbClr val="e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117120" y="2437200"/>
                  <a:ext cx="23400" cy="1636560"/>
                </a:xfrm>
                <a:prstGeom prst="rect">
                  <a:avLst/>
                </a:prstGeom>
                <a:solidFill>
                  <a:srgbClr val="e7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140880" y="2437200"/>
                  <a:ext cx="35280" cy="1636560"/>
                </a:xfrm>
                <a:prstGeom prst="rect">
                  <a:avLst/>
                </a:prstGeom>
                <a:solidFill>
                  <a:srgbClr val="e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176520" y="2437200"/>
                  <a:ext cx="35280" cy="1636560"/>
                </a:xfrm>
                <a:prstGeom prst="rect">
                  <a:avLst/>
                </a:prstGeom>
                <a:solidFill>
                  <a:srgbClr val="e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211800" y="2437200"/>
                  <a:ext cx="35280" cy="1636560"/>
                </a:xfrm>
                <a:prstGeom prst="rect">
                  <a:avLst/>
                </a:prstGeom>
                <a:solidFill>
                  <a:srgbClr val="e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47080" y="2437200"/>
                  <a:ext cx="35280" cy="1636560"/>
                </a:xfrm>
                <a:prstGeom prst="rect">
                  <a:avLst/>
                </a:prstGeom>
                <a:solidFill>
                  <a:srgbClr val="e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282360" y="2437200"/>
                  <a:ext cx="24840" cy="1636560"/>
                </a:xfrm>
                <a:prstGeom prst="rect">
                  <a:avLst/>
                </a:prstGeom>
                <a:solidFill>
                  <a:srgbClr val="e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307560" y="2437200"/>
                  <a:ext cx="35280" cy="1636560"/>
                </a:xfrm>
                <a:prstGeom prst="rect">
                  <a:avLst/>
                </a:prstGeom>
                <a:solidFill>
                  <a:srgbClr val="f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342840" y="2437200"/>
                  <a:ext cx="35280" cy="1636560"/>
                </a:xfrm>
                <a:prstGeom prst="rect">
                  <a:avLst/>
                </a:prstGeom>
                <a:solidFill>
                  <a:srgbClr val="f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378480" y="2437200"/>
                  <a:ext cx="35280" cy="1636560"/>
                </a:xfrm>
                <a:prstGeom prst="rect">
                  <a:avLst/>
                </a:prstGeom>
                <a:solidFill>
                  <a:srgbClr val="f3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413760" y="2437200"/>
                  <a:ext cx="35280" cy="1636560"/>
                </a:xfrm>
                <a:prstGeom prst="rect">
                  <a:avLst/>
                </a:prstGeom>
                <a:solidFill>
                  <a:srgbClr val="f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449040" y="2437200"/>
                  <a:ext cx="35280" cy="1636560"/>
                </a:xfrm>
                <a:prstGeom prst="rect">
                  <a:avLst/>
                </a:prstGeom>
                <a:solidFill>
                  <a:srgbClr val="f5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6484320" y="2437200"/>
                  <a:ext cx="23760" cy="1636560"/>
                </a:xfrm>
                <a:prstGeom prst="rect">
                  <a:avLst/>
                </a:prstGeom>
                <a:solidFill>
                  <a:srgbClr val="f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6508080" y="2437200"/>
                  <a:ext cx="35280" cy="1636560"/>
                </a:xfrm>
                <a:prstGeom prst="rect">
                  <a:avLst/>
                </a:prstGeom>
                <a:solidFill>
                  <a:srgbClr val="f7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543720" y="2437200"/>
                  <a:ext cx="35280" cy="1636560"/>
                </a:xfrm>
                <a:prstGeom prst="rect">
                  <a:avLst/>
                </a:prstGeom>
                <a:solidFill>
                  <a:srgbClr val="f8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579000" y="2437200"/>
                  <a:ext cx="35280" cy="1636560"/>
                </a:xfrm>
                <a:prstGeom prst="rect">
                  <a:avLst/>
                </a:prstGeom>
                <a:solidFill>
                  <a:srgbClr val="f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614640" y="2437200"/>
                  <a:ext cx="35280" cy="1636560"/>
                </a:xfrm>
                <a:prstGeom prst="rect">
                  <a:avLst/>
                </a:prstGeom>
                <a:solidFill>
                  <a:srgbClr val="fa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649920" y="2437200"/>
                  <a:ext cx="35280" cy="1636560"/>
                </a:xfrm>
                <a:prstGeom prst="rect">
                  <a:avLst/>
                </a:prstGeom>
                <a:solidFill>
                  <a:srgbClr val="f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685200" y="2437200"/>
                  <a:ext cx="23400" cy="1636560"/>
                </a:xfrm>
                <a:prstGeom prst="rect">
                  <a:avLst/>
                </a:prstGeom>
                <a:solidFill>
                  <a:srgbClr val="f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708960" y="2437200"/>
                  <a:ext cx="35280" cy="1636560"/>
                </a:xfrm>
                <a:prstGeom prst="rect">
                  <a:avLst/>
                </a:prstGeom>
                <a:solidFill>
                  <a:srgbClr val="f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744600" y="2437200"/>
                  <a:ext cx="36360" cy="1636560"/>
                </a:xfrm>
                <a:prstGeom prst="rect">
                  <a:avLst/>
                </a:prstGeom>
                <a:solidFill>
                  <a:srgbClr val="f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780960" y="2437200"/>
                  <a:ext cx="35280" cy="1636560"/>
                </a:xfrm>
                <a:prstGeom prst="rect">
                  <a:avLst/>
                </a:prstGeom>
                <a:solidFill>
                  <a:srgbClr val="f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816600" y="2437200"/>
                  <a:ext cx="35280" cy="1636560"/>
                </a:xfrm>
                <a:prstGeom prst="rect">
                  <a:avLst/>
                </a:prstGeom>
                <a:solidFill>
                  <a:srgbClr val="f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851880" y="2437200"/>
                  <a:ext cx="35280" cy="1636560"/>
                </a:xfrm>
                <a:prstGeom prst="rect">
                  <a:avLst/>
                </a:pr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887160" y="2437200"/>
                  <a:ext cx="23400" cy="1636560"/>
                </a:xfrm>
                <a:prstGeom prst="rect">
                  <a:avLst/>
                </a:pr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910920" y="2437200"/>
                  <a:ext cx="35280" cy="1636560"/>
                </a:xfrm>
                <a:prstGeom prst="rect">
                  <a:avLst/>
                </a:pr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946200" y="2437200"/>
                  <a:ext cx="35280" cy="163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981840" y="2437200"/>
                  <a:ext cx="35280" cy="163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017120" y="2437200"/>
                  <a:ext cx="35280" cy="1636560"/>
                </a:xfrm>
                <a:prstGeom prst="rect">
                  <a:avLst/>
                </a:pr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7052760" y="2437200"/>
                  <a:ext cx="23400" cy="1636560"/>
                </a:xfrm>
                <a:prstGeom prst="rect">
                  <a:avLst/>
                </a:pr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7076160" y="2437200"/>
                  <a:ext cx="35280" cy="1636560"/>
                </a:xfrm>
                <a:prstGeom prst="rect">
                  <a:avLst/>
                </a:prstGeom>
                <a:solidFill>
                  <a:srgbClr val="f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111440" y="2437200"/>
                  <a:ext cx="35280" cy="1636560"/>
                </a:xfrm>
                <a:prstGeom prst="rect">
                  <a:avLst/>
                </a:prstGeom>
                <a:solidFill>
                  <a:srgbClr val="f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7147080" y="2437200"/>
                  <a:ext cx="35280" cy="1636560"/>
                </a:xfrm>
                <a:prstGeom prst="rect">
                  <a:avLst/>
                </a:prstGeom>
                <a:solidFill>
                  <a:srgbClr val="f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82720" y="2437200"/>
                  <a:ext cx="36360" cy="1636560"/>
                </a:xfrm>
                <a:prstGeom prst="rect">
                  <a:avLst/>
                </a:prstGeom>
                <a:solidFill>
                  <a:srgbClr val="f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7219080" y="2437200"/>
                  <a:ext cx="35280" cy="1636560"/>
                </a:xfrm>
                <a:prstGeom prst="rect">
                  <a:avLst/>
                </a:prstGeom>
                <a:solidFill>
                  <a:srgbClr val="f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7254720" y="2437200"/>
                  <a:ext cx="23400" cy="1636560"/>
                </a:xfrm>
                <a:prstGeom prst="rect">
                  <a:avLst/>
                </a:prstGeom>
                <a:solidFill>
                  <a:srgbClr val="f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7278120" y="2437200"/>
                  <a:ext cx="35280" cy="1636560"/>
                </a:xfrm>
                <a:prstGeom prst="rect">
                  <a:avLst/>
                </a:prstGeom>
                <a:solidFill>
                  <a:srgbClr val="f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7313400" y="2437200"/>
                  <a:ext cx="35280" cy="1636560"/>
                </a:xfrm>
                <a:prstGeom prst="rect">
                  <a:avLst/>
                </a:prstGeom>
                <a:solidFill>
                  <a:srgbClr val="fa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7348680" y="2437200"/>
                  <a:ext cx="35280" cy="1636560"/>
                </a:xfrm>
                <a:prstGeom prst="rect">
                  <a:avLst/>
                </a:prstGeom>
                <a:solidFill>
                  <a:srgbClr val="f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7384320" y="2437200"/>
                  <a:ext cx="35280" cy="1636560"/>
                </a:xfrm>
                <a:prstGeom prst="rect">
                  <a:avLst/>
                </a:prstGeom>
                <a:solidFill>
                  <a:srgbClr val="f8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7419960" y="2437200"/>
                  <a:ext cx="35280" cy="1636560"/>
                </a:xfrm>
                <a:prstGeom prst="rect">
                  <a:avLst/>
                </a:prstGeom>
                <a:solidFill>
                  <a:srgbClr val="f7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7455240" y="2437200"/>
                  <a:ext cx="23400" cy="1636560"/>
                </a:xfrm>
                <a:prstGeom prst="rect">
                  <a:avLst/>
                </a:prstGeom>
                <a:solidFill>
                  <a:srgbClr val="f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478640" y="2437200"/>
                  <a:ext cx="35280" cy="1636560"/>
                </a:xfrm>
                <a:prstGeom prst="rect">
                  <a:avLst/>
                </a:prstGeom>
                <a:solidFill>
                  <a:srgbClr val="f5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7514280" y="2437200"/>
                  <a:ext cx="35280" cy="1636560"/>
                </a:xfrm>
                <a:prstGeom prst="rect">
                  <a:avLst/>
                </a:prstGeom>
                <a:solidFill>
                  <a:srgbClr val="f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549560" y="2437200"/>
                  <a:ext cx="35280" cy="1636560"/>
                </a:xfrm>
                <a:prstGeom prst="rect">
                  <a:avLst/>
                </a:prstGeom>
                <a:solidFill>
                  <a:srgbClr val="f3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7585200" y="2437200"/>
                  <a:ext cx="35280" cy="1636560"/>
                </a:xfrm>
                <a:prstGeom prst="rect">
                  <a:avLst/>
                </a:prstGeom>
                <a:solidFill>
                  <a:srgbClr val="f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7620480" y="2437200"/>
                  <a:ext cx="35280" cy="1636560"/>
                </a:xfrm>
                <a:prstGeom prst="rect">
                  <a:avLst/>
                </a:prstGeom>
                <a:solidFill>
                  <a:srgbClr val="f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7656120" y="2437200"/>
                  <a:ext cx="24840" cy="1636560"/>
                </a:xfrm>
                <a:prstGeom prst="rect">
                  <a:avLst/>
                </a:prstGeom>
                <a:solidFill>
                  <a:srgbClr val="e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7680960" y="2437200"/>
                  <a:ext cx="35280" cy="1636560"/>
                </a:xfrm>
                <a:prstGeom prst="rect">
                  <a:avLst/>
                </a:prstGeom>
                <a:solidFill>
                  <a:srgbClr val="e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7716240" y="2437200"/>
                  <a:ext cx="35280" cy="1636560"/>
                </a:xfrm>
                <a:prstGeom prst="rect">
                  <a:avLst/>
                </a:prstGeom>
                <a:solidFill>
                  <a:srgbClr val="e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7751520" y="2437200"/>
                  <a:ext cx="35280" cy="1636560"/>
                </a:xfrm>
                <a:prstGeom prst="rect">
                  <a:avLst/>
                </a:prstGeom>
                <a:solidFill>
                  <a:srgbClr val="e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7786800" y="2437200"/>
                  <a:ext cx="35280" cy="1636560"/>
                </a:xfrm>
                <a:prstGeom prst="rect">
                  <a:avLst/>
                </a:prstGeom>
                <a:solidFill>
                  <a:srgbClr val="e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7822440" y="2437200"/>
                  <a:ext cx="35280" cy="1636560"/>
                </a:xfrm>
                <a:prstGeom prst="rect">
                  <a:avLst/>
                </a:prstGeom>
                <a:solidFill>
                  <a:srgbClr val="e7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7858080" y="2437200"/>
                  <a:ext cx="23400" cy="1636560"/>
                </a:xfrm>
                <a:prstGeom prst="rect">
                  <a:avLst/>
                </a:prstGeom>
                <a:solidFill>
                  <a:srgbClr val="e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881480" y="2437200"/>
                  <a:ext cx="35280" cy="1636560"/>
                </a:xfrm>
                <a:prstGeom prst="rect">
                  <a:avLst/>
                </a:prstGeom>
                <a:solidFill>
                  <a:srgbClr val="e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916760" y="2437200"/>
                  <a:ext cx="35280" cy="1636560"/>
                </a:xfrm>
                <a:prstGeom prst="rect">
                  <a:avLst/>
                </a:prstGeom>
                <a:solidFill>
                  <a:srgbClr val="e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952400" y="2437200"/>
                  <a:ext cx="35280" cy="1636560"/>
                </a:xfrm>
                <a:prstGeom prst="rect">
                  <a:avLst/>
                </a:prstGeom>
                <a:solidFill>
                  <a:srgbClr val="e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7987680" y="2437200"/>
                  <a:ext cx="35280" cy="1636560"/>
                </a:xfrm>
                <a:prstGeom prst="rect">
                  <a:avLst/>
                </a:prstGeom>
                <a:solidFill>
                  <a:srgbClr val="d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8023320" y="2437200"/>
                  <a:ext cx="23760" cy="1636560"/>
                </a:xfrm>
                <a:prstGeom prst="rect">
                  <a:avLst/>
                </a:prstGeom>
                <a:solidFill>
                  <a:srgbClr val="d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8047080" y="2437200"/>
                  <a:ext cx="35280" cy="1636560"/>
                </a:xfrm>
                <a:prstGeom prst="rect">
                  <a:avLst/>
                </a:prstGeom>
                <a:solidFill>
                  <a:srgbClr val="d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8082360" y="2437200"/>
                  <a:ext cx="35280" cy="1636560"/>
                </a:xfrm>
                <a:prstGeom prst="rect">
                  <a:avLst/>
                </a:prstGeom>
                <a:solidFill>
                  <a:srgbClr val="db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8117640" y="2437200"/>
                  <a:ext cx="36360" cy="1636560"/>
                </a:xfrm>
                <a:prstGeom prst="rect">
                  <a:avLst/>
                </a:prstGeom>
                <a:solidFill>
                  <a:srgbClr val="d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8154360" y="2437200"/>
                  <a:ext cx="35280" cy="1636560"/>
                </a:xfrm>
                <a:prstGeom prst="rect">
                  <a:avLst/>
                </a:prstGeom>
                <a:solidFill>
                  <a:srgbClr val="d8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8189640" y="2437200"/>
                  <a:ext cx="35280" cy="1636560"/>
                </a:xfrm>
                <a:prstGeom prst="rect">
                  <a:avLst/>
                </a:prstGeom>
                <a:solidFill>
                  <a:srgbClr val="d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8224920" y="2437200"/>
                  <a:ext cx="23760" cy="1636560"/>
                </a:xfrm>
                <a:prstGeom prst="rect">
                  <a:avLst/>
                </a:prstGeom>
                <a:solidFill>
                  <a:srgbClr val="d5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8249040" y="2437200"/>
                  <a:ext cx="35280" cy="1636560"/>
                </a:xfrm>
                <a:prstGeom prst="rect">
                  <a:avLst/>
                </a:prstGeom>
                <a:solidFill>
                  <a:srgbClr val="d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8284320" y="2437200"/>
                  <a:ext cx="35280" cy="1636560"/>
                </a:xfrm>
                <a:prstGeom prst="rect">
                  <a:avLst/>
                </a:prstGeom>
                <a:solidFill>
                  <a:srgbClr val="d3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8319600" y="2437200"/>
                  <a:ext cx="35280" cy="1636560"/>
                </a:xfrm>
                <a:prstGeom prst="rect">
                  <a:avLst/>
                </a:prstGeom>
                <a:solidFill>
                  <a:srgbClr val="d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8354880" y="2437200"/>
                  <a:ext cx="35280" cy="1636560"/>
                </a:xfrm>
                <a:prstGeom prst="rect">
                  <a:avLst/>
                </a:prstGeom>
                <a:solidFill>
                  <a:srgbClr val="d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8390520" y="2437200"/>
                  <a:ext cx="35280" cy="1636560"/>
                </a:xfrm>
                <a:prstGeom prst="rect">
                  <a:avLst/>
                </a:prstGeom>
                <a:solidFill>
                  <a:srgbClr val="d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8425800" y="2437200"/>
                  <a:ext cx="23400" cy="1636560"/>
                </a:xfrm>
                <a:prstGeom prst="rect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8449560" y="2437200"/>
                  <a:ext cx="35280" cy="1636560"/>
                </a:xfrm>
                <a:prstGeom prst="rect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8485200" y="2437200"/>
                  <a:ext cx="35280" cy="1636560"/>
                </a:xfrm>
                <a:prstGeom prst="rect">
                  <a:avLst/>
                </a:prstGeom>
                <a:solidFill>
                  <a:srgbClr val="c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8520480" y="2437200"/>
                  <a:ext cx="35280" cy="1636560"/>
                </a:xfrm>
                <a:prstGeom prst="rect">
                  <a:avLst/>
                </a:prstGeom>
                <a:solidFill>
                  <a:srgbClr val="c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8555760" y="2437200"/>
                  <a:ext cx="36360" cy="16365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8592480" y="2437200"/>
                  <a:ext cx="35280" cy="16365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8627760" y="2437200"/>
                  <a:ext cx="23400" cy="1636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8651520" y="2437200"/>
                  <a:ext cx="35280" cy="1636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8687160" y="2437200"/>
                  <a:ext cx="35280" cy="1636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8" name=""/>
              <p:cNvSpPr/>
              <p:nvPr/>
            </p:nvSpPr>
            <p:spPr>
              <a:xfrm>
                <a:off x="5241240" y="2437200"/>
                <a:ext cx="3493080" cy="1648440"/>
              </a:xfrm>
              <a:prstGeom prst="rect">
                <a:avLst/>
              </a:prstGeom>
              <a:noFill/>
              <a:ln w="31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9" name=""/>
            <p:cNvSpPr/>
            <p:nvPr/>
          </p:nvSpPr>
          <p:spPr>
            <a:xfrm>
              <a:off x="5525640" y="2837880"/>
              <a:ext cx="969840" cy="989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490000" y="2802960"/>
              <a:ext cx="969840" cy="989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1" name=""/>
            <p:cNvGrpSpPr/>
            <p:nvPr/>
          </p:nvGrpSpPr>
          <p:grpSpPr>
            <a:xfrm>
              <a:off x="5964120" y="2802960"/>
              <a:ext cx="24480" cy="918720"/>
              <a:chOff x="5964120" y="2802960"/>
              <a:chExt cx="24480" cy="918720"/>
            </a:xfrm>
          </p:grpSpPr>
          <p:sp>
            <p:nvSpPr>
              <p:cNvPr id="2092" name=""/>
              <p:cNvSpPr/>
              <p:nvPr/>
            </p:nvSpPr>
            <p:spPr>
              <a:xfrm>
                <a:off x="5964120" y="2802960"/>
                <a:ext cx="24480" cy="93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964120" y="2967840"/>
                <a:ext cx="24480" cy="943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964120" y="3133080"/>
                <a:ext cx="24480" cy="943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964120" y="3298320"/>
                <a:ext cx="24480" cy="93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964120" y="3463560"/>
                <a:ext cx="24480" cy="943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964120" y="3627360"/>
                <a:ext cx="24480" cy="943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5501160" y="3263400"/>
              <a:ext cx="923400" cy="21960"/>
              <a:chOff x="5501160" y="3263400"/>
              <a:chExt cx="923400" cy="21960"/>
            </a:xfrm>
          </p:grpSpPr>
          <p:sp>
            <p:nvSpPr>
              <p:cNvPr id="2099" name=""/>
              <p:cNvSpPr/>
              <p:nvPr/>
            </p:nvSpPr>
            <p:spPr>
              <a:xfrm>
                <a:off x="5501160" y="3263400"/>
                <a:ext cx="93960" cy="21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66400" y="3263400"/>
                <a:ext cx="94320" cy="21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31640" y="3263400"/>
                <a:ext cx="95400" cy="21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998320" y="3263400"/>
                <a:ext cx="94320" cy="21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163560" y="3263400"/>
                <a:ext cx="94320" cy="21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330240" y="3263400"/>
                <a:ext cx="94320" cy="219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5" name=""/>
            <p:cNvSpPr/>
            <p:nvPr/>
          </p:nvSpPr>
          <p:spPr>
            <a:xfrm>
              <a:off x="5726160" y="2802960"/>
              <a:ext cx="1800" cy="978840"/>
            </a:xfrm>
            <a:prstGeom prst="line">
              <a:avLst/>
            </a:prstGeom>
            <a:ln w="158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211080" y="2814120"/>
              <a:ext cx="1800" cy="967680"/>
            </a:xfrm>
            <a:prstGeom prst="line">
              <a:avLst/>
            </a:prstGeom>
            <a:ln w="158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501160" y="3534840"/>
              <a:ext cx="958680" cy="0"/>
            </a:xfrm>
            <a:prstGeom prst="line">
              <a:avLst/>
            </a:prstGeom>
            <a:ln w="158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514120" y="3049920"/>
              <a:ext cx="945720" cy="1800"/>
            </a:xfrm>
            <a:prstGeom prst="line">
              <a:avLst/>
            </a:prstGeom>
            <a:ln w="158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655600" y="2789640"/>
              <a:ext cx="62568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74760" y="28490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v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773680" y="2990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844600" y="2990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175440" y="3061080"/>
              <a:ext cx="308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93520" y="3120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367680" y="3120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465520" y="3061080"/>
              <a:ext cx="343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583600" y="313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55240" y="3133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501160" y="2802960"/>
              <a:ext cx="35676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619960" y="286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690520" y="2860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525640" y="3499560"/>
              <a:ext cx="367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644440" y="356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14640" y="3567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29720" y="2789640"/>
              <a:ext cx="3657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46360" y="284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319080" y="2849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129720" y="3510360"/>
              <a:ext cx="3898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46360" y="356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19080" y="3567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647400" y="2840400"/>
              <a:ext cx="1974960" cy="398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d5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rminal alig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39120" y="2437200"/>
              <a:ext cx="2273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920560" y="2494080"/>
              <a:ext cx="213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titioning-based plac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489800" y="3768480"/>
              <a:ext cx="23760" cy="1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360040" y="3898440"/>
              <a:ext cx="2142720" cy="2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346720" y="2637720"/>
              <a:ext cx="24480" cy="126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360040" y="2624400"/>
              <a:ext cx="354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8" name=""/>
            <p:cNvGrpSpPr/>
            <p:nvPr/>
          </p:nvGrpSpPr>
          <p:grpSpPr>
            <a:xfrm>
              <a:off x="5644800" y="2637720"/>
              <a:ext cx="151920" cy="151560"/>
              <a:chOff x="5644800" y="2637720"/>
              <a:chExt cx="151920" cy="151560"/>
            </a:xfrm>
          </p:grpSpPr>
          <p:sp>
            <p:nvSpPr>
              <p:cNvPr id="2139" name=""/>
              <p:cNvSpPr/>
              <p:nvPr/>
            </p:nvSpPr>
            <p:spPr>
              <a:xfrm>
                <a:off x="5703120" y="2637720"/>
                <a:ext cx="23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644800" y="2649240"/>
                <a:ext cx="151920" cy="140040"/>
              </a:xfrm>
              <a:custGeom>
                <a:avLst/>
                <a:gdLst/>
                <a:ahLst/>
                <a:rect l="l" t="t" r="r" b="b"/>
                <a:pathLst>
                  <a:path w="130" h="120">
                    <a:moveTo>
                      <a:pt x="0" y="0"/>
                    </a:moveTo>
                    <a:lnTo>
                      <a:pt x="60" y="120"/>
                    </a:lnTo>
                    <a:lnTo>
                      <a:pt x="1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5631120" y="3863520"/>
              <a:ext cx="15274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091200" y="392292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xt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19400" y="392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647400" y="3358440"/>
              <a:ext cx="1974960" cy="398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d5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 Assig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5" name=""/>
            <p:cNvCxnSpPr>
              <a:stCxn id="1980" idx="2"/>
              <a:endCxn id="2036" idx="0"/>
            </p:cNvCxnSpPr>
            <p:nvPr/>
          </p:nvCxnSpPr>
          <p:spPr>
            <a:xfrm flipH="1">
              <a:off x="7000200" y="2266920"/>
              <a:ext cx="1152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6" name=""/>
            <p:cNvSpPr/>
            <p:nvPr/>
          </p:nvSpPr>
          <p:spPr>
            <a:xfrm>
              <a:off x="5651280" y="4361400"/>
              <a:ext cx="2720160" cy="2271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d5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verlap Remo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51280" y="4743000"/>
              <a:ext cx="2720160" cy="2271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d5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PR Low-temp annea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51280" y="5130720"/>
              <a:ext cx="2720160" cy="2271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d5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PR Rou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9" name=""/>
            <p:cNvCxnSpPr>
              <a:stCxn id="2088" idx="2"/>
              <a:endCxn id="2146" idx="0"/>
            </p:cNvCxnSpPr>
            <p:nvPr/>
          </p:nvCxnSpPr>
          <p:spPr>
            <a:xfrm>
              <a:off x="6989040" y="4107960"/>
              <a:ext cx="22680" cy="25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0" name=""/>
            <p:cNvCxnSpPr>
              <a:stCxn id="2146" idx="2"/>
              <a:endCxn id="2147" idx="0"/>
            </p:cNvCxnSpPr>
            <p:nvPr/>
          </p:nvCxnSpPr>
          <p:spPr>
            <a:xfrm>
              <a:off x="7013160" y="4588560"/>
              <a:ext cx="1080" cy="154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1" name=""/>
            <p:cNvCxnSpPr>
              <a:stCxn id="2147" idx="2"/>
              <a:endCxn id="2148" idx="0"/>
            </p:cNvCxnSpPr>
            <p:nvPr/>
          </p:nvCxnSpPr>
          <p:spPr>
            <a:xfrm>
              <a:off x="7013160" y="4970160"/>
              <a:ext cx="1080" cy="16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2" name=""/>
            <p:cNvSpPr/>
            <p:nvPr/>
          </p:nvSpPr>
          <p:spPr>
            <a:xfrm>
              <a:off x="5346720" y="5108760"/>
              <a:ext cx="3280320" cy="529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135400" y="1828800"/>
              <a:ext cx="3703320" cy="2433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2CC9-24DA-45D9-811A-4E11796A5C01}" type="slidenum">
              <a:t>28</a:t>
            </a:fld>
          </a:p>
        </p:txBody>
      </p:sp>
    </p:spTree>
  </p:cSld>
  <p:transition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Refinement step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6201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, some regions over-crow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overlap removal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n-critical CLB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rve align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temperature SA (modified V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B swap distance is lim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rve al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from a low temperatu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~10% of the norm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9250-3705-4EEC-9C47-88BE27E55289}" type="slidenum">
              <a:t>29</a:t>
            </a:fld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1219320"/>
          <a:ext cx="654516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654516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roblem?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GA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run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terations to conv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11648 CLBs placed ~ 3 days by V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2EAC-2172-4AA3-8EF8-C0EF642FDB50}" type="slidenum">
              <a:t>3</a:t>
            </a:fld>
          </a:p>
        </p:txBody>
      </p:sp>
    </p:spTree>
  </p:cSld>
  <p:transition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termin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B528-038A-4E68-9B8F-ECE964925A00}" type="slidenum">
              <a:t>30</a:t>
            </a:fld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/>
          <p:nvPr/>
        </p:nvSpPr>
        <p:spPr>
          <a:xfrm>
            <a:off x="609480" y="1941480"/>
            <a:ext cx="1119240" cy="8780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1768320" y="2142720"/>
            <a:ext cx="2117520" cy="640440"/>
            <a:chOff x="1768320" y="2142720"/>
            <a:chExt cx="2117520" cy="640440"/>
          </a:xfrm>
        </p:grpSpPr>
        <p:sp>
          <p:nvSpPr>
            <p:cNvPr id="2160" name=""/>
            <p:cNvSpPr/>
            <p:nvPr/>
          </p:nvSpPr>
          <p:spPr>
            <a:xfrm>
              <a:off x="1768320" y="2273400"/>
              <a:ext cx="365040" cy="342720"/>
            </a:xfrm>
            <a:custGeom>
              <a:avLst/>
              <a:gdLst/>
              <a:ahLst/>
              <a:rect l="l" t="t" r="r" b="b"/>
              <a:pathLst>
                <a:path w="230" h="216">
                  <a:moveTo>
                    <a:pt x="48" y="0"/>
                  </a:moveTo>
                  <a:lnTo>
                    <a:pt x="48" y="60"/>
                  </a:lnTo>
                  <a:lnTo>
                    <a:pt x="230" y="60"/>
                  </a:lnTo>
                  <a:lnTo>
                    <a:pt x="230" y="168"/>
                  </a:lnTo>
                  <a:lnTo>
                    <a:pt x="48" y="168"/>
                  </a:lnTo>
                  <a:lnTo>
                    <a:pt x="48" y="216"/>
                  </a:lnTo>
                  <a:lnTo>
                    <a:pt x="0" y="10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01680" y="2142720"/>
              <a:ext cx="1784160" cy="64044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R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2" name=""/>
          <p:cNvSpPr/>
          <p:nvPr/>
        </p:nvSpPr>
        <p:spPr>
          <a:xfrm>
            <a:off x="2538360" y="1219320"/>
            <a:ext cx="1424160" cy="64908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t 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967200" y="1390680"/>
            <a:ext cx="365040" cy="342720"/>
          </a:xfrm>
          <a:custGeom>
            <a:avLst/>
            <a:gdLst/>
            <a:ahLst/>
            <a:rect l="l" t="t" r="r" b="b"/>
            <a:pathLst>
              <a:path w="230" h="216">
                <a:moveTo>
                  <a:pt x="170" y="0"/>
                </a:moveTo>
                <a:lnTo>
                  <a:pt x="170" y="60"/>
                </a:lnTo>
                <a:lnTo>
                  <a:pt x="0" y="60"/>
                </a:lnTo>
                <a:lnTo>
                  <a:pt x="0" y="168"/>
                </a:lnTo>
                <a:lnTo>
                  <a:pt x="170" y="168"/>
                </a:lnTo>
                <a:lnTo>
                  <a:pt x="170" y="216"/>
                </a:lnTo>
                <a:lnTo>
                  <a:pt x="230" y="108"/>
                </a:lnTo>
                <a:lnTo>
                  <a:pt x="170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4383360" y="1269360"/>
            <a:ext cx="2041200" cy="640440"/>
          </a:xfrm>
          <a:prstGeom prst="rect">
            <a:avLst/>
          </a:prstGeom>
          <a:gradFill rotWithShape="0">
            <a:gsLst>
              <a:gs pos="0">
                <a:srgbClr val="378a8a"/>
              </a:gs>
              <a:gs pos="50000">
                <a:srgbClr val="66ffff"/>
              </a:gs>
              <a:gs pos="100000">
                <a:srgbClr val="378a8a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R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6451560" y="1390680"/>
            <a:ext cx="365040" cy="342720"/>
          </a:xfrm>
          <a:custGeom>
            <a:avLst/>
            <a:gdLst/>
            <a:ahLst/>
            <a:rect l="l" t="t" r="r" b="b"/>
            <a:pathLst>
              <a:path w="230" h="216">
                <a:moveTo>
                  <a:pt x="170" y="0"/>
                </a:moveTo>
                <a:lnTo>
                  <a:pt x="170" y="60"/>
                </a:lnTo>
                <a:lnTo>
                  <a:pt x="0" y="60"/>
                </a:lnTo>
                <a:lnTo>
                  <a:pt x="0" y="168"/>
                </a:lnTo>
                <a:lnTo>
                  <a:pt x="170" y="168"/>
                </a:lnTo>
                <a:lnTo>
                  <a:pt x="170" y="216"/>
                </a:lnTo>
                <a:lnTo>
                  <a:pt x="230" y="108"/>
                </a:lnTo>
                <a:lnTo>
                  <a:pt x="170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Experimental Framework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541440" y="30178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e alignment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, perform annealing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routing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profile in our placem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: redo placement to get better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6553080" y="1447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6869160" y="1279080"/>
            <a:ext cx="1765440" cy="640440"/>
          </a:xfrm>
          <a:prstGeom prst="rect">
            <a:avLst/>
          </a:prstGeom>
          <a:gradFill rotWithShape="0">
            <a:gsLst>
              <a:gs pos="0">
                <a:srgbClr val="378a8a"/>
              </a:gs>
              <a:gs pos="50000">
                <a:srgbClr val="66ffff"/>
              </a:gs>
              <a:gs pos="100000">
                <a:srgbClr val="378a8a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R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8418600" y="1447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8245440" y="2286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82920" y="1447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398920" y="22478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898800" y="23241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572240" y="1919160"/>
            <a:ext cx="346320" cy="246240"/>
          </a:xfrm>
          <a:custGeom>
            <a:avLst/>
            <a:gdLst/>
            <a:ahLst/>
            <a:rect l="l" t="t" r="r" b="b"/>
            <a:pathLst>
              <a:path w="218" h="204">
                <a:moveTo>
                  <a:pt x="218" y="156"/>
                </a:moveTo>
                <a:lnTo>
                  <a:pt x="170" y="156"/>
                </a:lnTo>
                <a:lnTo>
                  <a:pt x="170" y="0"/>
                </a:lnTo>
                <a:lnTo>
                  <a:pt x="60" y="0"/>
                </a:lnTo>
                <a:lnTo>
                  <a:pt x="60" y="156"/>
                </a:lnTo>
                <a:lnTo>
                  <a:pt x="0" y="156"/>
                </a:lnTo>
                <a:lnTo>
                  <a:pt x="109" y="204"/>
                </a:lnTo>
                <a:lnTo>
                  <a:pt x="218" y="15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906720" y="2305080"/>
            <a:ext cx="365400" cy="342720"/>
          </a:xfrm>
          <a:custGeom>
            <a:avLst/>
            <a:gdLst/>
            <a:ahLst/>
            <a:rect l="l" t="t" r="r" b="b"/>
            <a:pathLst>
              <a:path w="230" h="216">
                <a:moveTo>
                  <a:pt x="48" y="0"/>
                </a:moveTo>
                <a:lnTo>
                  <a:pt x="48" y="60"/>
                </a:lnTo>
                <a:lnTo>
                  <a:pt x="230" y="60"/>
                </a:lnTo>
                <a:lnTo>
                  <a:pt x="230" y="168"/>
                </a:lnTo>
                <a:lnTo>
                  <a:pt x="48" y="168"/>
                </a:lnTo>
                <a:lnTo>
                  <a:pt x="48" y="216"/>
                </a:lnTo>
                <a:lnTo>
                  <a:pt x="0" y="108"/>
                </a:lnTo>
                <a:lnTo>
                  <a:pt x="48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277520" y="2174400"/>
            <a:ext cx="1966680" cy="640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6246720" y="2343240"/>
            <a:ext cx="366840" cy="342720"/>
          </a:xfrm>
          <a:custGeom>
            <a:avLst/>
            <a:gdLst/>
            <a:ahLst/>
            <a:rect l="l" t="t" r="r" b="b"/>
            <a:pathLst>
              <a:path w="231" h="216">
                <a:moveTo>
                  <a:pt x="49" y="0"/>
                </a:moveTo>
                <a:lnTo>
                  <a:pt x="49" y="48"/>
                </a:lnTo>
                <a:lnTo>
                  <a:pt x="231" y="48"/>
                </a:lnTo>
                <a:lnTo>
                  <a:pt x="231" y="156"/>
                </a:lnTo>
                <a:lnTo>
                  <a:pt x="49" y="156"/>
                </a:lnTo>
                <a:lnTo>
                  <a:pt x="49" y="216"/>
                </a:lnTo>
                <a:lnTo>
                  <a:pt x="0" y="108"/>
                </a:lnTo>
                <a:lnTo>
                  <a:pt x="49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634080" y="2193480"/>
            <a:ext cx="2196720" cy="640440"/>
          </a:xfrm>
          <a:prstGeom prst="rect">
            <a:avLst/>
          </a:prstGeom>
          <a:gradFill rotWithShape="0">
            <a:gsLst>
              <a:gs pos="0">
                <a:srgbClr val="925775"/>
              </a:gs>
              <a:gs pos="50000">
                <a:srgbClr val="ff99cc"/>
              </a:gs>
              <a:gs pos="100000">
                <a:srgbClr val="925775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42B7-57C3-4A72-AE6B-0DE9F40297F6}" type="slidenum">
              <a:t>31</a:t>
            </a:fld>
          </a:p>
        </p:txBody>
      </p:sp>
    </p:spTree>
  </p:cSld>
  <p:transition>
    <p:pull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Alignment Result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8769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out of 10 circuits yield better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better delay on average, max 9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fo is rel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overhead compared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annealing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3" name=""/>
          <p:cNvGraphicFramePr/>
          <p:nvPr/>
        </p:nvGraphicFramePr>
        <p:xfrm>
          <a:off x="5334120" y="1155600"/>
          <a:ext cx="3429000" cy="513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5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e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ex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7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6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9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e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1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7952-D885-41C9-9829-173BBC22F825}" type="slidenum">
              <a:t>32</a:t>
            </a:fld>
          </a:p>
        </p:txBody>
      </p:sp>
    </p:spTree>
  </p:cSld>
  <p:transition>
    <p:pull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480960" y="1981080"/>
            <a:ext cx="1119240" cy="87804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1616040" y="2142720"/>
            <a:ext cx="2117520" cy="640440"/>
            <a:chOff x="1616040" y="2142720"/>
            <a:chExt cx="2117520" cy="640440"/>
          </a:xfrm>
        </p:grpSpPr>
        <p:sp>
          <p:nvSpPr>
            <p:cNvPr id="2186" name=""/>
            <p:cNvSpPr/>
            <p:nvPr/>
          </p:nvSpPr>
          <p:spPr>
            <a:xfrm>
              <a:off x="1616040" y="2273400"/>
              <a:ext cx="365040" cy="342720"/>
            </a:xfrm>
            <a:custGeom>
              <a:avLst/>
              <a:gdLst/>
              <a:ahLst/>
              <a:rect l="l" t="t" r="r" b="b"/>
              <a:pathLst>
                <a:path w="230" h="216">
                  <a:moveTo>
                    <a:pt x="48" y="0"/>
                  </a:moveTo>
                  <a:lnTo>
                    <a:pt x="48" y="60"/>
                  </a:lnTo>
                  <a:lnTo>
                    <a:pt x="230" y="60"/>
                  </a:lnTo>
                  <a:lnTo>
                    <a:pt x="230" y="168"/>
                  </a:lnTo>
                  <a:lnTo>
                    <a:pt x="48" y="168"/>
                  </a:lnTo>
                  <a:lnTo>
                    <a:pt x="48" y="216"/>
                  </a:lnTo>
                  <a:lnTo>
                    <a:pt x="0" y="10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949400" y="2142720"/>
              <a:ext cx="1784160" cy="64044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R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362320" y="1219320"/>
            <a:ext cx="1423800" cy="64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e4e4e4"/>
              </a:gs>
              <a:gs pos="100000">
                <a:srgbClr val="969696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elected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790800" y="1390680"/>
            <a:ext cx="365400" cy="342720"/>
          </a:xfrm>
          <a:custGeom>
            <a:avLst/>
            <a:gdLst/>
            <a:ahLst/>
            <a:rect l="l" t="t" r="r" b="b"/>
            <a:pathLst>
              <a:path w="230" h="216">
                <a:moveTo>
                  <a:pt x="170" y="0"/>
                </a:moveTo>
                <a:lnTo>
                  <a:pt x="170" y="60"/>
                </a:lnTo>
                <a:lnTo>
                  <a:pt x="0" y="60"/>
                </a:lnTo>
                <a:lnTo>
                  <a:pt x="0" y="168"/>
                </a:lnTo>
                <a:lnTo>
                  <a:pt x="170" y="168"/>
                </a:lnTo>
                <a:lnTo>
                  <a:pt x="170" y="216"/>
                </a:lnTo>
                <a:lnTo>
                  <a:pt x="230" y="108"/>
                </a:lnTo>
                <a:lnTo>
                  <a:pt x="17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239000" y="1269360"/>
            <a:ext cx="1977480" cy="640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4f4f4"/>
              </a:gs>
              <a:gs pos="100000">
                <a:srgbClr val="969696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VPR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6275520" y="1390680"/>
            <a:ext cx="365040" cy="342720"/>
          </a:xfrm>
          <a:custGeom>
            <a:avLst/>
            <a:gdLst/>
            <a:ahLst/>
            <a:rect l="l" t="t" r="r" b="b"/>
            <a:pathLst>
              <a:path w="230" h="216">
                <a:moveTo>
                  <a:pt x="170" y="0"/>
                </a:moveTo>
                <a:lnTo>
                  <a:pt x="170" y="60"/>
                </a:lnTo>
                <a:lnTo>
                  <a:pt x="0" y="60"/>
                </a:lnTo>
                <a:lnTo>
                  <a:pt x="0" y="168"/>
                </a:lnTo>
                <a:lnTo>
                  <a:pt x="170" y="168"/>
                </a:lnTo>
                <a:lnTo>
                  <a:pt x="170" y="216"/>
                </a:lnTo>
                <a:lnTo>
                  <a:pt x="230" y="108"/>
                </a:lnTo>
                <a:lnTo>
                  <a:pt x="17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Experimental Framework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541080" y="3308400"/>
            <a:ext cx="8450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our overall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routing info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s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rofile in our placem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: fast placement, 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6733080" y="1279080"/>
            <a:ext cx="1684800" cy="640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4f4f4"/>
              </a:gs>
              <a:gs pos="100000">
                <a:srgbClr val="969696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VPR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8242200" y="1447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8069400" y="2286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06880" y="1447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222880" y="22478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722760" y="23241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7396200" y="1919160"/>
            <a:ext cx="345960" cy="246240"/>
          </a:xfrm>
          <a:custGeom>
            <a:avLst/>
            <a:gdLst/>
            <a:ahLst/>
            <a:rect l="l" t="t" r="r" b="b"/>
            <a:pathLst>
              <a:path w="218" h="204">
                <a:moveTo>
                  <a:pt x="218" y="156"/>
                </a:moveTo>
                <a:lnTo>
                  <a:pt x="170" y="156"/>
                </a:lnTo>
                <a:lnTo>
                  <a:pt x="170" y="0"/>
                </a:lnTo>
                <a:lnTo>
                  <a:pt x="60" y="0"/>
                </a:lnTo>
                <a:lnTo>
                  <a:pt x="60" y="156"/>
                </a:lnTo>
                <a:lnTo>
                  <a:pt x="0" y="156"/>
                </a:lnTo>
                <a:lnTo>
                  <a:pt x="109" y="204"/>
                </a:lnTo>
                <a:lnTo>
                  <a:pt x="218" y="156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730680" y="2305080"/>
            <a:ext cx="365040" cy="342720"/>
          </a:xfrm>
          <a:custGeom>
            <a:avLst/>
            <a:gdLst/>
            <a:ahLst/>
            <a:rect l="l" t="t" r="r" b="b"/>
            <a:pathLst>
              <a:path w="230" h="216">
                <a:moveTo>
                  <a:pt x="48" y="0"/>
                </a:moveTo>
                <a:lnTo>
                  <a:pt x="48" y="60"/>
                </a:lnTo>
                <a:lnTo>
                  <a:pt x="230" y="60"/>
                </a:lnTo>
                <a:lnTo>
                  <a:pt x="230" y="168"/>
                </a:lnTo>
                <a:lnTo>
                  <a:pt x="48" y="168"/>
                </a:lnTo>
                <a:lnTo>
                  <a:pt x="48" y="216"/>
                </a:lnTo>
                <a:lnTo>
                  <a:pt x="0" y="108"/>
                </a:lnTo>
                <a:lnTo>
                  <a:pt x="48" y="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101120" y="2174400"/>
            <a:ext cx="1966680" cy="6404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6070680" y="2343240"/>
            <a:ext cx="455400" cy="342720"/>
          </a:xfrm>
          <a:custGeom>
            <a:avLst/>
            <a:gdLst/>
            <a:ahLst/>
            <a:rect l="l" t="t" r="r" b="b"/>
            <a:pathLst>
              <a:path w="231" h="216">
                <a:moveTo>
                  <a:pt x="49" y="0"/>
                </a:moveTo>
                <a:lnTo>
                  <a:pt x="49" y="48"/>
                </a:lnTo>
                <a:lnTo>
                  <a:pt x="231" y="48"/>
                </a:lnTo>
                <a:lnTo>
                  <a:pt x="231" y="156"/>
                </a:lnTo>
                <a:lnTo>
                  <a:pt x="49" y="156"/>
                </a:lnTo>
                <a:lnTo>
                  <a:pt x="49" y="216"/>
                </a:lnTo>
                <a:lnTo>
                  <a:pt x="0" y="108"/>
                </a:lnTo>
                <a:lnTo>
                  <a:pt x="49" y="0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6537240" y="2193480"/>
            <a:ext cx="2038320" cy="640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4f4f4"/>
              </a:gs>
              <a:gs pos="100000">
                <a:srgbClr val="969696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82880" bIns="1828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out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 flipH="1" flipV="1">
            <a:off x="6199200" y="2814120"/>
            <a:ext cx="722160" cy="365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799320" y="2976480"/>
            <a:ext cx="1423800" cy="649440"/>
          </a:xfrm>
          <a:prstGeom prst="ellipse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t 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798E-3315-4E90-A353-E52B504C3981}" type="slidenum">
              <a:t>33</a:t>
            </a:fld>
          </a:p>
        </p:txBody>
      </p:sp>
    </p:spTree>
  </p:cSld>
  <p:transition>
    <p:pull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Results of Our Flow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127080" y="1447560"/>
            <a:ext cx="39621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verage circuit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s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hannel wid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6 times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0" name=""/>
          <p:cNvGraphicFramePr/>
          <p:nvPr/>
        </p:nvGraphicFramePr>
        <p:xfrm>
          <a:off x="4038480" y="1295280"/>
          <a:ext cx="4879800" cy="4697280"/>
        </p:xfrm>
        <a:graphic>
          <a:graphicData uri="http://schemas.openxmlformats.org/drawingml/2006/table">
            <a:tbl>
              <a:tblPr/>
              <a:tblGrid>
                <a:gridCol w="909360"/>
                <a:gridCol w="682560"/>
                <a:gridCol w="628920"/>
                <a:gridCol w="706320"/>
                <a:gridCol w="635040"/>
                <a:gridCol w="604800"/>
                <a:gridCol w="712800"/>
              </a:tblGrid>
              <a:tr h="290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F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5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7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e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e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7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e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7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1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1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6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1" name=""/>
          <p:cNvSpPr/>
          <p:nvPr/>
        </p:nvSpPr>
        <p:spPr>
          <a:xfrm>
            <a:off x="241200" y="5114880"/>
            <a:ext cx="398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Representative circuits shad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109C-F4BB-428E-99BF-EB67E4EB21C4}" type="slidenum">
              <a:t>34</a:t>
            </a:fld>
          </a:p>
        </p:txBody>
      </p:sp>
    </p:spTree>
  </p:cSld>
  <p:transition>
    <p:pull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Runtime Growth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249120" y="1217520"/>
            <a:ext cx="8732520" cy="5027760"/>
            <a:chOff x="249120" y="1217520"/>
            <a:chExt cx="8732520" cy="5027760"/>
          </a:xfrm>
        </p:grpSpPr>
        <p:sp>
          <p:nvSpPr>
            <p:cNvPr id="2214" name=""/>
            <p:cNvSpPr/>
            <p:nvPr/>
          </p:nvSpPr>
          <p:spPr>
            <a:xfrm>
              <a:off x="1383840" y="1880640"/>
              <a:ext cx="6201360" cy="33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83840" y="1880640"/>
              <a:ext cx="6201360" cy="3372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83840" y="1880640"/>
              <a:ext cx="2160" cy="337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06800" y="5253120"/>
              <a:ext cx="766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06800" y="4878720"/>
              <a:ext cx="766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306800" y="4502160"/>
              <a:ext cx="766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306800" y="4128480"/>
              <a:ext cx="76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306800" y="3754080"/>
              <a:ext cx="76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306800" y="3379680"/>
              <a:ext cx="76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306800" y="3005280"/>
              <a:ext cx="766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306800" y="2629080"/>
              <a:ext cx="766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306800" y="2254680"/>
              <a:ext cx="766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306800" y="1880640"/>
              <a:ext cx="76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383840" y="5253120"/>
              <a:ext cx="62013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1383840" y="5253120"/>
              <a:ext cx="216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2626920" y="5253120"/>
              <a:ext cx="216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3872520" y="5253120"/>
              <a:ext cx="180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5096520" y="5253120"/>
              <a:ext cx="216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6342120" y="5253120"/>
              <a:ext cx="180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7585200" y="5253120"/>
              <a:ext cx="180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48160" y="5119920"/>
              <a:ext cx="113760" cy="13284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7" y="0"/>
                  </a:moveTo>
                  <a:lnTo>
                    <a:pt x="55" y="32"/>
                  </a:lnTo>
                  <a:lnTo>
                    <a:pt x="27" y="64"/>
                  </a:lnTo>
                  <a:lnTo>
                    <a:pt x="0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895120" y="5119920"/>
              <a:ext cx="114480" cy="13284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8" y="0"/>
                  </a:moveTo>
                  <a:lnTo>
                    <a:pt x="55" y="32"/>
                  </a:lnTo>
                  <a:lnTo>
                    <a:pt x="28" y="64"/>
                  </a:lnTo>
                  <a:lnTo>
                    <a:pt x="0" y="3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067560" y="5119920"/>
              <a:ext cx="114480" cy="13284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8" y="0"/>
                  </a:moveTo>
                  <a:lnTo>
                    <a:pt x="55" y="32"/>
                  </a:lnTo>
                  <a:lnTo>
                    <a:pt x="28" y="64"/>
                  </a:lnTo>
                  <a:lnTo>
                    <a:pt x="0" y="3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221640" y="5119920"/>
              <a:ext cx="113760" cy="13284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7" y="0"/>
                  </a:moveTo>
                  <a:lnTo>
                    <a:pt x="55" y="32"/>
                  </a:lnTo>
                  <a:lnTo>
                    <a:pt x="27" y="64"/>
                  </a:lnTo>
                  <a:lnTo>
                    <a:pt x="0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8680" y="5076000"/>
              <a:ext cx="113760" cy="13320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7" y="0"/>
                  </a:moveTo>
                  <a:lnTo>
                    <a:pt x="55" y="32"/>
                  </a:lnTo>
                  <a:lnTo>
                    <a:pt x="27" y="64"/>
                  </a:lnTo>
                  <a:lnTo>
                    <a:pt x="0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489840" y="5099400"/>
              <a:ext cx="113760" cy="13104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27" y="0"/>
                  </a:moveTo>
                  <a:lnTo>
                    <a:pt x="55" y="31"/>
                  </a:lnTo>
                  <a:lnTo>
                    <a:pt x="27" y="63"/>
                  </a:lnTo>
                  <a:lnTo>
                    <a:pt x="0" y="3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662640" y="5076000"/>
              <a:ext cx="113760" cy="13320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7" y="0"/>
                  </a:moveTo>
                  <a:lnTo>
                    <a:pt x="55" y="32"/>
                  </a:lnTo>
                  <a:lnTo>
                    <a:pt x="27" y="64"/>
                  </a:lnTo>
                  <a:lnTo>
                    <a:pt x="0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01480" y="4899960"/>
              <a:ext cx="113760" cy="13284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8" y="0"/>
                  </a:moveTo>
                  <a:lnTo>
                    <a:pt x="55" y="32"/>
                  </a:lnTo>
                  <a:lnTo>
                    <a:pt x="28" y="64"/>
                  </a:lnTo>
                  <a:lnTo>
                    <a:pt x="0" y="3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992640" y="4768560"/>
              <a:ext cx="113760" cy="13104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27" y="0"/>
                  </a:moveTo>
                  <a:lnTo>
                    <a:pt x="55" y="31"/>
                  </a:lnTo>
                  <a:lnTo>
                    <a:pt x="27" y="63"/>
                  </a:lnTo>
                  <a:lnTo>
                    <a:pt x="0" y="3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030080" y="4789440"/>
              <a:ext cx="114480" cy="13284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8" y="0"/>
                  </a:moveTo>
                  <a:lnTo>
                    <a:pt x="55" y="32"/>
                  </a:lnTo>
                  <a:lnTo>
                    <a:pt x="28" y="64"/>
                  </a:lnTo>
                  <a:lnTo>
                    <a:pt x="0" y="3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648160" y="4856040"/>
              <a:ext cx="9504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895120" y="4789440"/>
              <a:ext cx="9540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7560" y="4768560"/>
              <a:ext cx="95400" cy="109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221640" y="4722840"/>
              <a:ext cx="95400" cy="109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98680" y="4481640"/>
              <a:ext cx="9540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489840" y="4371120"/>
              <a:ext cx="9504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662640" y="4502160"/>
              <a:ext cx="9504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901480" y="2982600"/>
              <a:ext cx="9540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992640" y="2188080"/>
              <a:ext cx="9540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030080" y="2541960"/>
              <a:ext cx="95400" cy="110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249360" y="1217520"/>
              <a:ext cx="183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ze vs run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057320" y="50760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89120" y="47023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89120" y="43279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89120" y="3951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89120" y="35773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56280" y="32029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56280" y="2828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56280" y="245448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56280" y="207828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56280" y="170388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25520" y="5494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359080" y="5494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603960" y="5494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28320" y="5494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073920" y="5494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317000" y="5494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083120" y="60015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b si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6200000">
              <a:off x="201240" y="349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35720" y="3533400"/>
              <a:ext cx="113760" cy="13320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28" y="0"/>
                  </a:moveTo>
                  <a:lnTo>
                    <a:pt x="55" y="32"/>
                  </a:lnTo>
                  <a:lnTo>
                    <a:pt x="28" y="64"/>
                  </a:lnTo>
                  <a:lnTo>
                    <a:pt x="0" y="3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426160" y="340056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PFF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235720" y="3997440"/>
              <a:ext cx="95400" cy="109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425800" y="3864240"/>
              <a:ext cx="447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P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3441-7B58-4BA1-A1A0-8055745A3510}" type="slidenum">
              <a:t>35</a:t>
            </a:fld>
          </a:p>
        </p:txBody>
      </p:sp>
    </p:spTree>
  </p:cSld>
  <p:transition>
    <p:pull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termin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5697-6D7F-4C08-85BA-042948D33143}" type="slidenum">
              <a:t>36</a:t>
            </a:fld>
          </a:p>
        </p:txBody>
      </p:sp>
    </p:spTree>
  </p:cSld>
  <p:transition>
    <p:pull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202680" y="1066320"/>
            <a:ext cx="85345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ing-based place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&amp;route delay profil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ter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delay updat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ter dela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aling + partitioning-bas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better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runtim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ing-based on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Sam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749D-F3A4-47A8-A050-533247A52E31}" type="slidenum">
              <a:t>37</a:t>
            </a:fld>
          </a:p>
        </p:txBody>
      </p:sp>
    </p:spTree>
  </p:cSld>
  <p:transition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ccurate dela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low temperature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ing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3989-7075-42DA-937F-7020A3C75486}" type="slidenum">
              <a:t>38</a:t>
            </a:fld>
          </a:p>
        </p:txBody>
      </p:sp>
    </p:spTree>
  </p:cSld>
  <p:transition>
    <p:pull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534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033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ia@ece.um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F56E-2F8F-40FD-8F93-69FDC0BCC00D}" type="slidenum">
              <a:t>39</a:t>
            </a:fld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revious approache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using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: Bes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ng run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lacement &amp; routing not well correl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/Quality trade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UltraFast [J. Rose FPGA’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: Tunable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Qua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15B2-5557-4E69-80CF-78051F040C37}" type="slidenum">
              <a:t>4</a:t>
            </a:fld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revious approache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[D. F. Wong FPGA’03], [DeHon FPGA’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: Tunable runtime with #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plic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ferior i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D921-06B6-4927-BB8C-304C72B4C518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FPGA characteristics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952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d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BBox, fewer seg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/V aligned nets better th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-shaped 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257800" y="1981080"/>
          <a:ext cx="3649680" cy="364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1981080"/>
                    <a:ext cx="36496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27F7-4164-4C46-AE0A-736484D28AD2}" type="slidenum">
              <a:t>6</a:t>
            </a:fld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roposed approach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titioning-based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divide&amp;conq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90920"/>
            <a:ext cx="5715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routing del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net criticality and routing resourc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495680"/>
            <a:ext cx="464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critic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ally up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1219320"/>
            <a:ext cx="1523880" cy="1523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19810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1219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1981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219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16002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1981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1520" y="23623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34520" y="1219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1600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34520" y="1981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53280" y="23623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6292800" y="2991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400800" y="2847960"/>
            <a:ext cx="2043000" cy="1343160"/>
            <a:chOff x="6400800" y="2847960"/>
            <a:chExt cx="2043000" cy="1343160"/>
          </a:xfrm>
        </p:grpSpPr>
        <p:sp>
          <p:nvSpPr>
            <p:cNvPr id="85" name=""/>
            <p:cNvSpPr/>
            <p:nvPr/>
          </p:nvSpPr>
          <p:spPr>
            <a:xfrm>
              <a:off x="6667560" y="2952720"/>
              <a:ext cx="1581120" cy="1085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400800" y="2847960"/>
              <a:ext cx="2043000" cy="1343160"/>
              <a:chOff x="6400800" y="2847960"/>
              <a:chExt cx="2043000" cy="1343160"/>
            </a:xfrm>
          </p:grpSpPr>
          <p:pic>
            <p:nvPicPr>
              <p:cNvPr id="8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0800" y="2847960"/>
                <a:ext cx="204300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6672240" y="3686040"/>
                <a:ext cx="33336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4520" y="3714840"/>
                <a:ext cx="195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05520" y="3714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72240" y="3330720"/>
                <a:ext cx="333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4160" y="33591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16600" y="33591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15200" y="3570480"/>
                <a:ext cx="33984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78560" y="359712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59560" y="3597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78560" y="36752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34280" y="3828960"/>
                <a:ext cx="333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6200" y="38638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L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78640" y="386388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6672240" y="3338280"/>
                <a:ext cx="392040" cy="253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059600" y="3133440"/>
                <a:ext cx="390600" cy="204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61360" y="3132000"/>
                <a:ext cx="398520" cy="63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864560" y="3767040"/>
                <a:ext cx="385560" cy="263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72240" y="3795840"/>
                <a:ext cx="395280" cy="1728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67520" y="3965760"/>
                <a:ext cx="390600" cy="554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58120" y="4022640"/>
                <a:ext cx="395280" cy="97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669000" y="3857400"/>
                <a:ext cx="3906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7062840" y="3746160"/>
                <a:ext cx="39852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7462800" y="3585960"/>
                <a:ext cx="390600" cy="16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843680" y="3446640"/>
                <a:ext cx="40356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673680" y="3974760"/>
                <a:ext cx="779760" cy="42840"/>
              </a:xfrm>
              <a:prstGeom prst="line">
                <a:avLst/>
              </a:prstGeom>
              <a:ln w="28440">
                <a:solidFill>
                  <a:srgbClr val="d600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470720" y="3957480"/>
                <a:ext cx="385920" cy="12960"/>
              </a:xfrm>
              <a:prstGeom prst="line">
                <a:avLst/>
              </a:prstGeom>
              <a:ln w="28440">
                <a:solidFill>
                  <a:srgbClr val="d600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0800" y="3952800"/>
                <a:ext cx="401400" cy="11160"/>
              </a:xfrm>
              <a:prstGeom prst="line">
                <a:avLst/>
              </a:prstGeom>
              <a:ln w="28440">
                <a:solidFill>
                  <a:srgbClr val="d600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51960" y="4035600"/>
                <a:ext cx="3952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7048440" y="3990960"/>
            <a:ext cx="2095200" cy="1571760"/>
            <a:chOff x="7048440" y="3990960"/>
            <a:chExt cx="2095200" cy="157176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7048440" y="3990960"/>
              <a:ext cx="20952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314840" y="4114800"/>
              <a:ext cx="1629000" cy="1270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084720" y="3809880"/>
            <a:ext cx="1992240" cy="1490760"/>
            <a:chOff x="6084720" y="3809880"/>
            <a:chExt cx="1992240" cy="1490760"/>
          </a:xfrm>
        </p:grpSpPr>
        <p:pic>
          <p:nvPicPr>
            <p:cNvPr id="120" name="" descr=""/>
            <p:cNvPicPr/>
            <p:nvPr/>
          </p:nvPicPr>
          <p:blipFill>
            <a:blip r:embed="rId11"/>
            <a:stretch/>
          </p:blipFill>
          <p:spPr>
            <a:xfrm>
              <a:off x="6084720" y="3809880"/>
              <a:ext cx="199224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348240" y="3927600"/>
              <a:ext cx="1539720" cy="120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00600" y="4724280"/>
            <a:ext cx="1523880" cy="1524240"/>
            <a:chOff x="4800600" y="4724280"/>
            <a:chExt cx="1523880" cy="1524240"/>
          </a:xfrm>
        </p:grpSpPr>
        <p:sp>
          <p:nvSpPr>
            <p:cNvPr id="123" name=""/>
            <p:cNvSpPr/>
            <p:nvPr/>
          </p:nvSpPr>
          <p:spPr>
            <a:xfrm>
              <a:off x="4800600" y="4724280"/>
              <a:ext cx="1523880" cy="1524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54864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360" y="47242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2360" y="54864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7242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54864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58672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3240" y="47242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2360" y="51055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240" y="54864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638680" y="4800600"/>
            <a:ext cx="76320" cy="763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638680" y="4890600"/>
            <a:ext cx="228600" cy="1235880"/>
            <a:chOff x="5638680" y="4890600"/>
            <a:chExt cx="228600" cy="1235880"/>
          </a:xfrm>
        </p:grpSpPr>
        <p:sp>
          <p:nvSpPr>
            <p:cNvPr id="136" name=""/>
            <p:cNvSpPr/>
            <p:nvPr/>
          </p:nvSpPr>
          <p:spPr>
            <a:xfrm>
              <a:off x="5715000" y="5867280"/>
              <a:ext cx="75960" cy="763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8680" y="5943600"/>
              <a:ext cx="22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4" idx="4"/>
              <a:endCxn id="136" idx="0"/>
            </p:cNvCxnSpPr>
            <p:nvPr/>
          </p:nvCxnSpPr>
          <p:spPr>
            <a:xfrm>
              <a:off x="5676840" y="4890600"/>
              <a:ext cx="76680" cy="963000"/>
            </a:xfrm>
            <a:prstGeom prst="straightConnector1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703840" y="4879440"/>
            <a:ext cx="544320" cy="1247040"/>
            <a:chOff x="5703840" y="4879440"/>
            <a:chExt cx="544320" cy="1247040"/>
          </a:xfrm>
        </p:grpSpPr>
        <p:sp>
          <p:nvSpPr>
            <p:cNvPr id="140" name=""/>
            <p:cNvSpPr/>
            <p:nvPr/>
          </p:nvSpPr>
          <p:spPr>
            <a:xfrm>
              <a:off x="6095880" y="5867280"/>
              <a:ext cx="76320" cy="763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19560" y="5943600"/>
              <a:ext cx="22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34" idx="5"/>
              <a:endCxn id="140" idx="1"/>
            </p:cNvCxnSpPr>
            <p:nvPr/>
          </p:nvCxnSpPr>
          <p:spPr>
            <a:xfrm>
              <a:off x="5703840" y="4879440"/>
              <a:ext cx="403920" cy="985320"/>
            </a:xfrm>
            <a:prstGeom prst="straightConnector1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B2FF-DD86-4C69-BED4-EA5B3D0CEA66}" type="slidenum">
              <a:t>7</a:t>
            </a:fld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termin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BAC8-8C27-41FD-A0F7-BDA806547DA4}" type="slidenum">
              <a:t>8</a:t>
            </a:fld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33"/>
                </a:solidFill>
                <a:latin typeface="Arial"/>
              </a:rPr>
              <a:t>Partitioning-based Placement</a:t>
            </a:r>
            <a:endParaRPr b="0" lang="en-US" sz="4400" spc="-1" strike="noStrike">
              <a:solidFill>
                <a:srgbClr val="fff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95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95640" y="15559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7680" y="194148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18280" y="1447920"/>
            <a:ext cx="2655720" cy="304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d5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4920" y="1752120"/>
            <a:ext cx="8721360" cy="2514960"/>
            <a:chOff x="304920" y="1752120"/>
            <a:chExt cx="8721360" cy="2514960"/>
          </a:xfrm>
        </p:grpSpPr>
        <p:sp>
          <p:nvSpPr>
            <p:cNvPr id="152" name=""/>
            <p:cNvSpPr/>
            <p:nvPr/>
          </p:nvSpPr>
          <p:spPr>
            <a:xfrm>
              <a:off x="304920" y="2057400"/>
              <a:ext cx="38862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marL="284400" indent="-284400">
                <a:spcBef>
                  <a:spcPts val="700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cursiv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ipartitio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6680" indent="-237240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Met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6680" indent="-237240">
                <a:spcBef>
                  <a:spcPts val="601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 alig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6680" indent="-237240"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 budge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-assig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267080" y="1752120"/>
              <a:ext cx="4759200" cy="2511720"/>
              <a:chOff x="4267080" y="1752120"/>
              <a:chExt cx="4759200" cy="25117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267080" y="1981080"/>
                <a:ext cx="4759200" cy="2282760"/>
                <a:chOff x="4267080" y="1981080"/>
                <a:chExt cx="4759200" cy="2282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330440" y="2045880"/>
                  <a:ext cx="4695840" cy="2217960"/>
                </a:xfrm>
                <a:prstGeom prst="rect">
                  <a:avLst/>
                </a:prstGeom>
                <a:solidFill>
                  <a:srgbClr val="808080"/>
                </a:solidFill>
                <a:ln w="31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4267080" y="1981080"/>
                  <a:ext cx="4680000" cy="2201040"/>
                  <a:chOff x="4267080" y="1981080"/>
                  <a:chExt cx="4680000" cy="220104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4267080" y="1981080"/>
                    <a:ext cx="47520" cy="22010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314600" y="1981080"/>
                    <a:ext cx="47880" cy="22010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362480" y="1981080"/>
                    <a:ext cx="31680" cy="22010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4394160" y="1981080"/>
                    <a:ext cx="47520" cy="2201040"/>
                  </a:xfrm>
                  <a:prstGeom prst="rect">
                    <a:avLst/>
                  </a:prstGeom>
                  <a:solidFill>
                    <a:srgbClr val="c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441680" y="1981080"/>
                    <a:ext cx="49320" cy="2201040"/>
                  </a:xfrm>
                  <a:prstGeom prst="rect">
                    <a:avLst/>
                  </a:prstGeom>
                  <a:solidFill>
                    <a:srgbClr val="c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491000" y="1981080"/>
                    <a:ext cx="47520" cy="2201040"/>
                  </a:xfrm>
                  <a:prstGeom prst="rect">
                    <a:avLst/>
                  </a:prstGeom>
                  <a:solidFill>
                    <a:srgbClr val="c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538520" y="1981080"/>
                    <a:ext cx="47520" cy="2201040"/>
                  </a:xfrm>
                  <a:prstGeom prst="rect">
                    <a:avLst/>
                  </a:prstGeom>
                  <a:solidFill>
                    <a:srgbClr val="c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586040" y="1981080"/>
                    <a:ext cx="47880" cy="2201040"/>
                  </a:xfrm>
                  <a:prstGeom prst="rect">
                    <a:avLst/>
                  </a:prstGeom>
                  <a:solidFill>
                    <a:srgbClr val="c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633920" y="1981080"/>
                    <a:ext cx="31680" cy="2201040"/>
                  </a:xfrm>
                  <a:prstGeom prst="rect">
                    <a:avLst/>
                  </a:prstGeom>
                  <a:solidFill>
                    <a:srgbClr val="c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65600" y="1981080"/>
                    <a:ext cx="47520" cy="2201040"/>
                  </a:xfrm>
                  <a:prstGeom prst="rect">
                    <a:avLst/>
                  </a:prstGeom>
                  <a:solidFill>
                    <a:srgbClr val="d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713120" y="1981080"/>
                    <a:ext cx="47520" cy="2201040"/>
                  </a:xfrm>
                  <a:prstGeom prst="rect">
                    <a:avLst/>
                  </a:prstGeom>
                  <a:solidFill>
                    <a:srgbClr val="d1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760640" y="1981080"/>
                    <a:ext cx="47880" cy="2201040"/>
                  </a:xfrm>
                  <a:prstGeom prst="rect">
                    <a:avLst/>
                  </a:prstGeom>
                  <a:solidFill>
                    <a:srgbClr val="d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808520" y="1981080"/>
                    <a:ext cx="47520" cy="2201040"/>
                  </a:xfrm>
                  <a:prstGeom prst="rect">
                    <a:avLst/>
                  </a:prstGeom>
                  <a:solidFill>
                    <a:srgbClr val="d3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856040" y="1981080"/>
                    <a:ext cx="47520" cy="2201040"/>
                  </a:xfrm>
                  <a:prstGeom prst="rect">
                    <a:avLst/>
                  </a:prstGeom>
                  <a:solidFill>
                    <a:srgbClr val="d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903560" y="1981080"/>
                    <a:ext cx="32040" cy="2201040"/>
                  </a:xfrm>
                  <a:prstGeom prst="rect">
                    <a:avLst/>
                  </a:prstGeom>
                  <a:solidFill>
                    <a:srgbClr val="d5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935600" y="1981080"/>
                    <a:ext cx="47520" cy="2201040"/>
                  </a:xfrm>
                  <a:prstGeom prst="rect">
                    <a:avLst/>
                  </a:prstGeom>
                  <a:solidFill>
                    <a:srgbClr val="d6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4983120" y="1981080"/>
                    <a:ext cx="47520" cy="2201040"/>
                  </a:xfrm>
                  <a:prstGeom prst="rect">
                    <a:avLst/>
                  </a:prstGeom>
                  <a:solidFill>
                    <a:srgbClr val="d8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030640" y="1981080"/>
                    <a:ext cx="47520" cy="2201040"/>
                  </a:xfrm>
                  <a:prstGeom prst="rect">
                    <a:avLst/>
                  </a:prstGeom>
                  <a:solidFill>
                    <a:srgbClr val="d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078160" y="1981080"/>
                    <a:ext cx="49320" cy="2201040"/>
                  </a:xfrm>
                  <a:prstGeom prst="rect">
                    <a:avLst/>
                  </a:prstGeom>
                  <a:solidFill>
                    <a:srgbClr val="d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127480" y="1981080"/>
                    <a:ext cx="47520" cy="2201040"/>
                  </a:xfrm>
                  <a:prstGeom prst="rect">
                    <a:avLst/>
                  </a:prstGeom>
                  <a:solidFill>
                    <a:srgbClr val="d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75000" y="1981080"/>
                    <a:ext cx="32040" cy="2201040"/>
                  </a:xfrm>
                  <a:prstGeom prst="rect">
                    <a:avLst/>
                  </a:prstGeom>
                  <a:solidFill>
                    <a:srgbClr val="d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207040" y="1981080"/>
                    <a:ext cx="47520" cy="2201040"/>
                  </a:xfrm>
                  <a:prstGeom prst="rect">
                    <a:avLst/>
                  </a:prstGeom>
                  <a:solidFill>
                    <a:srgbClr val="d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254560" y="1981080"/>
                    <a:ext cx="47520" cy="2201040"/>
                  </a:xfrm>
                  <a:prstGeom prst="rect">
                    <a:avLst/>
                  </a:prstGeom>
                  <a:solidFill>
                    <a:srgbClr val="e1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302080" y="1981080"/>
                    <a:ext cx="47520" cy="2201040"/>
                  </a:xfrm>
                  <a:prstGeom prst="rect">
                    <a:avLst/>
                  </a:prstGeom>
                  <a:solidFill>
                    <a:srgbClr val="e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349600" y="1981080"/>
                    <a:ext cx="47880" cy="2201040"/>
                  </a:xfrm>
                  <a:prstGeom prst="rect">
                    <a:avLst/>
                  </a:prstGeom>
                  <a:solidFill>
                    <a:srgbClr val="e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5397480" y="1981080"/>
                    <a:ext cx="47520" cy="2201040"/>
                  </a:xfrm>
                  <a:prstGeom prst="rect">
                    <a:avLst/>
                  </a:prstGeom>
                  <a:solidFill>
                    <a:srgbClr val="e6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445000" y="1981080"/>
                    <a:ext cx="31680" cy="2201040"/>
                  </a:xfrm>
                  <a:prstGeom prst="rect">
                    <a:avLst/>
                  </a:prstGeom>
                  <a:solidFill>
                    <a:srgbClr val="e7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476680" y="1981080"/>
                    <a:ext cx="47880" cy="2201040"/>
                  </a:xfrm>
                  <a:prstGeom prst="rect">
                    <a:avLst/>
                  </a:prstGeom>
                  <a:solidFill>
                    <a:srgbClr val="e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524560" y="1981080"/>
                    <a:ext cx="47520" cy="2201040"/>
                  </a:xfrm>
                  <a:prstGeom prst="rect">
                    <a:avLst/>
                  </a:prstGeom>
                  <a:solidFill>
                    <a:srgbClr val="e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572080" y="1981080"/>
                    <a:ext cx="47520" cy="2201040"/>
                  </a:xfrm>
                  <a:prstGeom prst="rect">
                    <a:avLst/>
                  </a:prstGeom>
                  <a:solidFill>
                    <a:srgbClr val="e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619600" y="1981080"/>
                    <a:ext cx="47520" cy="2201040"/>
                  </a:xfrm>
                  <a:prstGeom prst="rect">
                    <a:avLst/>
                  </a:prstGeom>
                  <a:solidFill>
                    <a:srgbClr val="e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667120" y="1981080"/>
                    <a:ext cx="33480" cy="2201040"/>
                  </a:xfrm>
                  <a:prstGeom prst="rect">
                    <a:avLst/>
                  </a:prstGeom>
                  <a:solidFill>
                    <a:srgbClr val="e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700600" y="1981080"/>
                    <a:ext cx="47520" cy="2201040"/>
                  </a:xfrm>
                  <a:prstGeom prst="rect">
                    <a:avLst/>
                  </a:prstGeom>
                  <a:solidFill>
                    <a:srgbClr val="f1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748120" y="1981080"/>
                    <a:ext cx="47880" cy="2201040"/>
                  </a:xfrm>
                  <a:prstGeom prst="rect">
                    <a:avLst/>
                  </a:prstGeom>
                  <a:solidFill>
                    <a:srgbClr val="f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796000" y="1981080"/>
                    <a:ext cx="47520" cy="2201040"/>
                  </a:xfrm>
                  <a:prstGeom prst="rect">
                    <a:avLst/>
                  </a:prstGeom>
                  <a:solidFill>
                    <a:srgbClr val="f3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843520" y="1981080"/>
                    <a:ext cx="47520" cy="2201040"/>
                  </a:xfrm>
                  <a:prstGeom prst="rect">
                    <a:avLst/>
                  </a:prstGeom>
                  <a:solidFill>
                    <a:srgbClr val="f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891040" y="1981080"/>
                    <a:ext cx="47520" cy="2201040"/>
                  </a:xfrm>
                  <a:prstGeom prst="rect">
                    <a:avLst/>
                  </a:prstGeom>
                  <a:solidFill>
                    <a:srgbClr val="f5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938560" y="1981080"/>
                    <a:ext cx="32040" cy="2201040"/>
                  </a:xfrm>
                  <a:prstGeom prst="rect">
                    <a:avLst/>
                  </a:prstGeom>
                  <a:solidFill>
                    <a:srgbClr val="f6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5970600" y="1981080"/>
                    <a:ext cx="47520" cy="2201040"/>
                  </a:xfrm>
                  <a:prstGeom prst="rect">
                    <a:avLst/>
                  </a:prstGeom>
                  <a:solidFill>
                    <a:srgbClr val="f7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018120" y="1981080"/>
                    <a:ext cx="47520" cy="2201040"/>
                  </a:xfrm>
                  <a:prstGeom prst="rect">
                    <a:avLst/>
                  </a:prstGeom>
                  <a:solidFill>
                    <a:srgbClr val="f8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065640" y="1981080"/>
                    <a:ext cx="47880" cy="2201040"/>
                  </a:xfrm>
                  <a:prstGeom prst="rect">
                    <a:avLst/>
                  </a:prstGeom>
                  <a:solidFill>
                    <a:srgbClr val="f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113520" y="1981080"/>
                    <a:ext cx="47520" cy="2201040"/>
                  </a:xfrm>
                  <a:prstGeom prst="rect">
                    <a:avLst/>
                  </a:prstGeom>
                  <a:solidFill>
                    <a:srgbClr val="fa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161040" y="1981080"/>
                    <a:ext cx="47520" cy="2201040"/>
                  </a:xfrm>
                  <a:prstGeom prst="rect">
                    <a:avLst/>
                  </a:prstGeom>
                  <a:solidFill>
                    <a:srgbClr val="f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208560" y="1981080"/>
                    <a:ext cx="31680" cy="2201040"/>
                  </a:xfrm>
                  <a:prstGeom prst="rect">
                    <a:avLst/>
                  </a:prstGeom>
                  <a:solidFill>
                    <a:srgbClr val="f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240240" y="1981080"/>
                    <a:ext cx="47880" cy="2201040"/>
                  </a:xfrm>
                  <a:prstGeom prst="rect">
                    <a:avLst/>
                  </a:prstGeom>
                  <a:solidFill>
                    <a:srgbClr val="f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288120" y="1981080"/>
                    <a:ext cx="48960" cy="2201040"/>
                  </a:xfrm>
                  <a:prstGeom prst="rect">
                    <a:avLst/>
                  </a:prstGeom>
                  <a:solidFill>
                    <a:srgbClr val="f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337080" y="1981080"/>
                    <a:ext cx="47880" cy="2201040"/>
                  </a:xfrm>
                  <a:prstGeom prst="rect">
                    <a:avLst/>
                  </a:prstGeom>
                  <a:solidFill>
                    <a:srgbClr val="f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384960" y="1981080"/>
                    <a:ext cx="47520" cy="2201040"/>
                  </a:xfrm>
                  <a:prstGeom prst="rect">
                    <a:avLst/>
                  </a:prstGeom>
                  <a:solidFill>
                    <a:srgbClr val="f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432480" y="1981080"/>
                    <a:ext cx="47520" cy="2201040"/>
                  </a:xfrm>
                  <a:prstGeom prst="rect">
                    <a:avLst/>
                  </a:prstGeom>
                  <a:solidFill>
                    <a:srgbClr val="f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480000" y="1981080"/>
                    <a:ext cx="31680" cy="2201040"/>
                  </a:xfrm>
                  <a:prstGeom prst="rect">
                    <a:avLst/>
                  </a:prstGeom>
                  <a:solidFill>
                    <a:srgbClr val="f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511680" y="1981080"/>
                    <a:ext cx="47880" cy="2201040"/>
                  </a:xfrm>
                  <a:prstGeom prst="rect">
                    <a:avLst/>
                  </a:prstGeom>
                  <a:solidFill>
                    <a:srgbClr val="f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559560" y="1981080"/>
                    <a:ext cx="47520" cy="220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607080" y="1981080"/>
                    <a:ext cx="47520" cy="220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654600" y="1981080"/>
                    <a:ext cx="47880" cy="2201040"/>
                  </a:xfrm>
                  <a:prstGeom prst="rect">
                    <a:avLst/>
                  </a:prstGeom>
                  <a:solidFill>
                    <a:srgbClr val="f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702480" y="1981080"/>
                    <a:ext cx="31680" cy="2201040"/>
                  </a:xfrm>
                  <a:prstGeom prst="rect">
                    <a:avLst/>
                  </a:prstGeom>
                  <a:solidFill>
                    <a:srgbClr val="f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734160" y="1981080"/>
                    <a:ext cx="47520" cy="2201040"/>
                  </a:xfrm>
                  <a:prstGeom prst="rect">
                    <a:avLst/>
                  </a:prstGeom>
                  <a:solidFill>
                    <a:srgbClr val="f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781680" y="1981080"/>
                    <a:ext cx="47520" cy="2201040"/>
                  </a:xfrm>
                  <a:prstGeom prst="rect">
                    <a:avLst/>
                  </a:prstGeom>
                  <a:solidFill>
                    <a:srgbClr val="f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29200" y="1981080"/>
                    <a:ext cx="47880" cy="2201040"/>
                  </a:xfrm>
                  <a:prstGeom prst="rect">
                    <a:avLst/>
                  </a:prstGeom>
                  <a:solidFill>
                    <a:srgbClr val="f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877080" y="1981080"/>
                    <a:ext cx="48960" cy="2201040"/>
                  </a:xfrm>
                  <a:prstGeom prst="rect">
                    <a:avLst/>
                  </a:prstGeom>
                  <a:solidFill>
                    <a:srgbClr val="f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26040" y="1981080"/>
                    <a:ext cx="47880" cy="2201040"/>
                  </a:xfrm>
                  <a:prstGeom prst="rect">
                    <a:avLst/>
                  </a:prstGeom>
                  <a:solidFill>
                    <a:srgbClr val="f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73920" y="1981080"/>
                    <a:ext cx="31680" cy="2201040"/>
                  </a:xfrm>
                  <a:prstGeom prst="rect">
                    <a:avLst/>
                  </a:prstGeom>
                  <a:solidFill>
                    <a:srgbClr val="f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05600" y="1981080"/>
                    <a:ext cx="47520" cy="2201040"/>
                  </a:xfrm>
                  <a:prstGeom prst="rect">
                    <a:avLst/>
                  </a:prstGeom>
                  <a:solidFill>
                    <a:srgbClr val="f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53120" y="1981080"/>
                    <a:ext cx="47520" cy="2201040"/>
                  </a:xfrm>
                  <a:prstGeom prst="rect">
                    <a:avLst/>
                  </a:prstGeom>
                  <a:solidFill>
                    <a:srgbClr val="fa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00640" y="1981080"/>
                    <a:ext cx="47880" cy="2201040"/>
                  </a:xfrm>
                  <a:prstGeom prst="rect">
                    <a:avLst/>
                  </a:prstGeom>
                  <a:solidFill>
                    <a:srgbClr val="f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148520" y="1981080"/>
                    <a:ext cx="47520" cy="2201040"/>
                  </a:xfrm>
                  <a:prstGeom prst="rect">
                    <a:avLst/>
                  </a:prstGeom>
                  <a:solidFill>
                    <a:srgbClr val="f8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196040" y="1981080"/>
                    <a:ext cx="47520" cy="2201040"/>
                  </a:xfrm>
                  <a:prstGeom prst="rect">
                    <a:avLst/>
                  </a:prstGeom>
                  <a:solidFill>
                    <a:srgbClr val="f7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243560" y="1981080"/>
                    <a:ext cx="31680" cy="2201040"/>
                  </a:xfrm>
                  <a:prstGeom prst="rect">
                    <a:avLst/>
                  </a:prstGeom>
                  <a:solidFill>
                    <a:srgbClr val="f6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275240" y="1981080"/>
                    <a:ext cx="47880" cy="2201040"/>
                  </a:xfrm>
                  <a:prstGeom prst="rect">
                    <a:avLst/>
                  </a:prstGeom>
                  <a:solidFill>
                    <a:srgbClr val="f5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323120" y="1981080"/>
                    <a:ext cx="47520" cy="2201040"/>
                  </a:xfrm>
                  <a:prstGeom prst="rect">
                    <a:avLst/>
                  </a:prstGeom>
                  <a:solidFill>
                    <a:srgbClr val="f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370640" y="1981080"/>
                    <a:ext cx="47520" cy="2201040"/>
                  </a:xfrm>
                  <a:prstGeom prst="rect">
                    <a:avLst/>
                  </a:prstGeom>
                  <a:solidFill>
                    <a:srgbClr val="f3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418160" y="1981080"/>
                    <a:ext cx="47880" cy="2201040"/>
                  </a:xfrm>
                  <a:prstGeom prst="rect">
                    <a:avLst/>
                  </a:prstGeom>
                  <a:solidFill>
                    <a:srgbClr val="f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466040" y="1981080"/>
                    <a:ext cx="47520" cy="2201040"/>
                  </a:xfrm>
                  <a:prstGeom prst="rect">
                    <a:avLst/>
                  </a:prstGeom>
                  <a:solidFill>
                    <a:srgbClr val="f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513560" y="1981080"/>
                    <a:ext cx="33480" cy="2201040"/>
                  </a:xfrm>
                  <a:prstGeom prst="rect">
                    <a:avLst/>
                  </a:prstGeom>
                  <a:solidFill>
                    <a:srgbClr val="e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547040" y="1981080"/>
                    <a:ext cx="47520" cy="2201040"/>
                  </a:xfrm>
                  <a:prstGeom prst="rect">
                    <a:avLst/>
                  </a:prstGeom>
                  <a:solidFill>
                    <a:srgbClr val="e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594560" y="1981080"/>
                    <a:ext cx="47520" cy="2201040"/>
                  </a:xfrm>
                  <a:prstGeom prst="rect">
                    <a:avLst/>
                  </a:prstGeom>
                  <a:solidFill>
                    <a:srgbClr val="e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642080" y="1981080"/>
                    <a:ext cx="47520" cy="2201040"/>
                  </a:xfrm>
                  <a:prstGeom prst="rect">
                    <a:avLst/>
                  </a:prstGeom>
                  <a:solidFill>
                    <a:srgbClr val="e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689600" y="1981080"/>
                    <a:ext cx="47880" cy="2201040"/>
                  </a:xfrm>
                  <a:prstGeom prst="rect">
                    <a:avLst/>
                  </a:prstGeom>
                  <a:solidFill>
                    <a:srgbClr val="e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737480" y="1981080"/>
                    <a:ext cx="47520" cy="2201040"/>
                  </a:xfrm>
                  <a:prstGeom prst="rect">
                    <a:avLst/>
                  </a:prstGeom>
                  <a:solidFill>
                    <a:srgbClr val="e7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785000" y="1981080"/>
                    <a:ext cx="31680" cy="2201040"/>
                  </a:xfrm>
                  <a:prstGeom prst="rect">
                    <a:avLst/>
                  </a:prstGeom>
                  <a:solidFill>
                    <a:srgbClr val="e6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816680" y="1981080"/>
                    <a:ext cx="47520" cy="2201040"/>
                  </a:xfrm>
                  <a:prstGeom prst="rect">
                    <a:avLst/>
                  </a:prstGeom>
                  <a:solidFill>
                    <a:srgbClr val="e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864200" y="1981080"/>
                    <a:ext cx="47880" cy="2201040"/>
                  </a:xfrm>
                  <a:prstGeom prst="rect">
                    <a:avLst/>
                  </a:prstGeom>
                  <a:solidFill>
                    <a:srgbClr val="e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912080" y="1981080"/>
                    <a:ext cx="47520" cy="2201040"/>
                  </a:xfrm>
                  <a:prstGeom prst="rect">
                    <a:avLst/>
                  </a:prstGeom>
                  <a:solidFill>
                    <a:srgbClr val="e1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959600" y="1981080"/>
                    <a:ext cx="47520" cy="2201040"/>
                  </a:xfrm>
                  <a:prstGeom prst="rect">
                    <a:avLst/>
                  </a:prstGeom>
                  <a:solidFill>
                    <a:srgbClr val="d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007120" y="1981080"/>
                    <a:ext cx="32040" cy="2201040"/>
                  </a:xfrm>
                  <a:prstGeom prst="rect">
                    <a:avLst/>
                  </a:prstGeom>
                  <a:solidFill>
                    <a:srgbClr val="d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039160" y="1981080"/>
                    <a:ext cx="47520" cy="2201040"/>
                  </a:xfrm>
                  <a:prstGeom prst="rect">
                    <a:avLst/>
                  </a:prstGeom>
                  <a:solidFill>
                    <a:srgbClr val="d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6680" y="1981080"/>
                    <a:ext cx="47520" cy="2201040"/>
                  </a:xfrm>
                  <a:prstGeom prst="rect">
                    <a:avLst/>
                  </a:prstGeom>
                  <a:solidFill>
                    <a:srgbClr val="db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134200" y="1981080"/>
                    <a:ext cx="49320" cy="2201040"/>
                  </a:xfrm>
                  <a:prstGeom prst="rect">
                    <a:avLst/>
                  </a:prstGeom>
                  <a:solidFill>
                    <a:srgbClr val="d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183520" y="1981080"/>
                    <a:ext cx="47520" cy="2201040"/>
                  </a:xfrm>
                  <a:prstGeom prst="rect">
                    <a:avLst/>
                  </a:prstGeom>
                  <a:solidFill>
                    <a:srgbClr val="d8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231040" y="1981080"/>
                    <a:ext cx="47520" cy="2201040"/>
                  </a:xfrm>
                  <a:prstGeom prst="rect">
                    <a:avLst/>
                  </a:prstGeom>
                  <a:solidFill>
                    <a:srgbClr val="d6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278560" y="1981080"/>
                    <a:ext cx="32040" cy="2201040"/>
                  </a:xfrm>
                  <a:prstGeom prst="rect">
                    <a:avLst/>
                  </a:prstGeom>
                  <a:solidFill>
                    <a:srgbClr val="d5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310600" y="1981080"/>
                    <a:ext cx="47520" cy="2201040"/>
                  </a:xfrm>
                  <a:prstGeom prst="rect">
                    <a:avLst/>
                  </a:prstGeom>
                  <a:solidFill>
                    <a:srgbClr val="d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358120" y="1981080"/>
                    <a:ext cx="47520" cy="2201040"/>
                  </a:xfrm>
                  <a:prstGeom prst="rect">
                    <a:avLst/>
                  </a:prstGeom>
                  <a:solidFill>
                    <a:srgbClr val="d3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405640" y="1981080"/>
                    <a:ext cx="47520" cy="2201040"/>
                  </a:xfrm>
                  <a:prstGeom prst="rect">
                    <a:avLst/>
                  </a:prstGeom>
                  <a:solidFill>
                    <a:srgbClr val="d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453160" y="1981080"/>
                    <a:ext cx="47880" cy="2201040"/>
                  </a:xfrm>
                  <a:prstGeom prst="rect">
                    <a:avLst/>
                  </a:prstGeom>
                  <a:solidFill>
                    <a:srgbClr val="d1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8501040" y="1981080"/>
                    <a:ext cx="47520" cy="2201040"/>
                  </a:xfrm>
                  <a:prstGeom prst="rect">
                    <a:avLst/>
                  </a:prstGeom>
                  <a:solidFill>
                    <a:srgbClr val="d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548560" y="1981080"/>
                    <a:ext cx="31680" cy="2201040"/>
                  </a:xfrm>
                  <a:prstGeom prst="rect">
                    <a:avLst/>
                  </a:prstGeom>
                  <a:solidFill>
                    <a:srgbClr val="c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580240" y="1981080"/>
                    <a:ext cx="47880" cy="2201040"/>
                  </a:xfrm>
                  <a:prstGeom prst="rect">
                    <a:avLst/>
                  </a:prstGeom>
                  <a:solidFill>
                    <a:srgbClr val="c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628120" y="1981080"/>
                    <a:ext cx="47520" cy="2201040"/>
                  </a:xfrm>
                  <a:prstGeom prst="rect">
                    <a:avLst/>
                  </a:prstGeom>
                  <a:solidFill>
                    <a:srgbClr val="c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675640" y="1981080"/>
                    <a:ext cx="47520" cy="2201040"/>
                  </a:xfrm>
                  <a:prstGeom prst="rect">
                    <a:avLst/>
                  </a:prstGeom>
                  <a:solidFill>
                    <a:srgbClr val="c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8723160" y="1981080"/>
                    <a:ext cx="49320" cy="2201040"/>
                  </a:xfrm>
                  <a:prstGeom prst="rect">
                    <a:avLst/>
                  </a:prstGeom>
                  <a:solidFill>
                    <a:srgbClr val="c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772480" y="1981080"/>
                    <a:ext cx="47520" cy="2201040"/>
                  </a:xfrm>
                  <a:prstGeom prst="rect">
                    <a:avLst/>
                  </a:prstGeom>
                  <a:solidFill>
                    <a:srgbClr val="c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8820000" y="1981080"/>
                    <a:ext cx="31680" cy="22010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8851680" y="1981080"/>
                    <a:ext cx="47880" cy="22010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899560" y="1981080"/>
                    <a:ext cx="47520" cy="220104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>
                  <a:off x="4267080" y="1981080"/>
                  <a:ext cx="4695840" cy="2217960"/>
                </a:xfrm>
                <a:prstGeom prst="rect">
                  <a:avLst/>
                </a:prstGeom>
                <a:noFill/>
                <a:ln w="316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4649760" y="2519280"/>
                <a:ext cx="1305000" cy="1332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02240" y="2471760"/>
                <a:ext cx="1305000" cy="1332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5238720" y="2471760"/>
                <a:ext cx="31680" cy="1236600"/>
                <a:chOff x="5238720" y="2471760"/>
                <a:chExt cx="31680" cy="12366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238720" y="2471760"/>
                  <a:ext cx="31680" cy="12672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38720" y="2693880"/>
                  <a:ext cx="31680" cy="1270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38720" y="2916000"/>
                  <a:ext cx="31680" cy="1270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38720" y="3138480"/>
                  <a:ext cx="31680" cy="12672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238720" y="3360600"/>
                  <a:ext cx="31680" cy="1270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238720" y="3581280"/>
                  <a:ext cx="31680" cy="1270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618080" y="3090960"/>
                <a:ext cx="1241280" cy="31680"/>
                <a:chOff x="4618080" y="3090960"/>
                <a:chExt cx="1241280" cy="316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618080" y="3090960"/>
                  <a:ext cx="126720" cy="31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40200" y="3090960"/>
                  <a:ext cx="127080" cy="31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062320" y="3090960"/>
                  <a:ext cx="128520" cy="31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86240" y="3090960"/>
                  <a:ext cx="127080" cy="31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08360" y="3090960"/>
                  <a:ext cx="127080" cy="31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32280" y="3090960"/>
                  <a:ext cx="127080" cy="3168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4919760" y="2471760"/>
                <a:ext cx="1440" cy="1316160"/>
              </a:xfrm>
              <a:prstGeom prst="line">
                <a:avLst/>
              </a:prstGeom>
              <a:ln w="158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72080" y="2487600"/>
                <a:ext cx="1800" cy="1300320"/>
              </a:xfrm>
              <a:prstGeom prst="line">
                <a:avLst/>
              </a:prstGeom>
              <a:ln w="158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18080" y="3456000"/>
                <a:ext cx="1289160" cy="1440"/>
              </a:xfrm>
              <a:prstGeom prst="line">
                <a:avLst/>
              </a:prstGeom>
              <a:ln w="158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33920" y="2805120"/>
                <a:ext cx="1273320" cy="1440"/>
              </a:xfrm>
              <a:prstGeom prst="line">
                <a:avLst/>
              </a:prstGeom>
              <a:ln w="158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24360" y="2455920"/>
                <a:ext cx="8431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980960" y="2535120"/>
                <a:ext cx="47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v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80960" y="2725560"/>
                <a:ext cx="250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77440" y="27255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24560" y="2820960"/>
                <a:ext cx="41436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682600" y="290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79440" y="290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70560" y="2820960"/>
                <a:ext cx="460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8600" y="291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23640" y="291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18080" y="2471760"/>
                <a:ext cx="4777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76120" y="2550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71160" y="25509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49760" y="3408480"/>
                <a:ext cx="49392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07800" y="35020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902840" y="35020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60840" y="2455920"/>
                <a:ext cx="493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19240" y="2535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15720" y="2535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60840" y="3424320"/>
                <a:ext cx="52560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19240" y="35020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15720" y="35020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57800" y="2523960"/>
                <a:ext cx="2656080" cy="5367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efed5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erminal alig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35600" y="1981080"/>
                <a:ext cx="305604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77520" y="2058840"/>
                <a:ext cx="2673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Partitioning-based placemen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91440" y="3772080"/>
                <a:ext cx="31680" cy="17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25840" y="3946680"/>
                <a:ext cx="28814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410000" y="2249640"/>
                <a:ext cx="31680" cy="169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25840" y="2233440"/>
                <a:ext cx="478080" cy="3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4808520" y="2249640"/>
                <a:ext cx="206280" cy="206280"/>
                <a:chOff x="4808520" y="2249640"/>
                <a:chExt cx="206280" cy="2062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887720" y="2249640"/>
                  <a:ext cx="31680" cy="47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808520" y="2265480"/>
                  <a:ext cx="206280" cy="190440"/>
                </a:xfrm>
                <a:custGeom>
                  <a:avLst/>
                  <a:gdLst/>
                  <a:ahLst/>
                  <a:rect l="l" t="t" r="r" b="b"/>
                  <a:pathLst>
                    <a:path w="130" h="120">
                      <a:moveTo>
                        <a:pt x="0" y="0"/>
                      </a:moveTo>
                      <a:lnTo>
                        <a:pt x="60" y="120"/>
                      </a:lnTo>
                      <a:lnTo>
                        <a:pt x="1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4792680" y="3898800"/>
                <a:ext cx="205272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1520" y="3978360"/>
                <a:ext cx="842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ext leve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255720" y="397836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57800" y="3219480"/>
                <a:ext cx="2656080" cy="5364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efed5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 Assig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8" name=""/>
              <p:cNvCxnSpPr>
                <a:stCxn id="150" idx="2"/>
                <a:endCxn id="209" idx="0"/>
              </p:cNvCxnSpPr>
              <p:nvPr/>
            </p:nvCxnSpPr>
            <p:spPr>
              <a:xfrm flipH="1">
                <a:off x="6630120" y="1752120"/>
                <a:ext cx="16920" cy="2293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19" name=""/>
          <p:cNvGrpSpPr/>
          <p:nvPr/>
        </p:nvGrpSpPr>
        <p:grpSpPr>
          <a:xfrm>
            <a:off x="304920" y="4214520"/>
            <a:ext cx="8170920" cy="1692720"/>
            <a:chOff x="304920" y="4214520"/>
            <a:chExt cx="8170920" cy="1692720"/>
          </a:xfrm>
        </p:grpSpPr>
        <p:sp>
          <p:nvSpPr>
            <p:cNvPr id="320" name=""/>
            <p:cNvSpPr/>
            <p:nvPr/>
          </p:nvSpPr>
          <p:spPr>
            <a:xfrm>
              <a:off x="304920" y="4800600"/>
              <a:ext cx="44956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819680" y="4214520"/>
              <a:ext cx="3656160" cy="1692720"/>
              <a:chOff x="4819680" y="4214520"/>
              <a:chExt cx="3656160" cy="1692720"/>
            </a:xfrm>
          </p:grpSpPr>
          <p:sp>
            <p:nvSpPr>
              <p:cNvPr id="322" name=""/>
              <p:cNvSpPr/>
              <p:nvPr/>
            </p:nvSpPr>
            <p:spPr>
              <a:xfrm>
                <a:off x="4819680" y="4567320"/>
                <a:ext cx="3656160" cy="3045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efed5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verlap Remov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19680" y="5081760"/>
                <a:ext cx="3656160" cy="3045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efed5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PR Low-temp anneal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9680" y="5602320"/>
                <a:ext cx="3656160" cy="3049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efed5"/>
                  </a:gs>
                  <a:gs pos="100000">
                    <a:srgbClr val="ffff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PR Rou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5" name=""/>
              <p:cNvCxnSpPr>
                <a:stCxn id="261" idx="2"/>
                <a:endCxn id="322" idx="0"/>
              </p:cNvCxnSpPr>
              <p:nvPr/>
            </p:nvCxnSpPr>
            <p:spPr>
              <a:xfrm>
                <a:off x="6614640" y="4214520"/>
                <a:ext cx="34200" cy="3531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6" name=""/>
              <p:cNvCxnSpPr>
                <a:stCxn id="322" idx="2"/>
                <a:endCxn id="323" idx="0"/>
              </p:cNvCxnSpPr>
              <p:nvPr/>
            </p:nvCxnSpPr>
            <p:spPr>
              <a:xfrm>
                <a:off x="6648120" y="4871520"/>
                <a:ext cx="1080" cy="2106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7" name=""/>
              <p:cNvCxnSpPr>
                <a:stCxn id="323" idx="2"/>
                <a:endCxn id="324" idx="0"/>
              </p:cNvCxnSpPr>
              <p:nvPr/>
            </p:nvCxnSpPr>
            <p:spPr>
              <a:xfrm>
                <a:off x="6648120" y="5386320"/>
                <a:ext cx="1080" cy="2167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32FF-ECE4-498A-98B4-BE5FF24F471D}" type="slidenum">
              <a:t>9</a:t>
            </a:fld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3:54:43Z</dcterms:created>
  <dc:creator>homeuse</dc:creator>
  <dc:description/>
  <dc:language>en-US</dc:language>
  <cp:lastModifiedBy>Kia Bazargan</cp:lastModifiedBy>
  <dcterms:modified xsi:type="dcterms:W3CDTF">2003-06-13T18:33:23Z</dcterms:modified>
  <cp:revision>169</cp:revision>
  <dc:subject/>
  <dc:title>Fast Timing-driven Partitioning-based Placement for Island Style FPGAs</dc:title>
</cp:coreProperties>
</file>